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CD5-2DF3-4CA8-8693-97EEEE12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C36-4FE9-4778-A0CD-B202F834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7D7-FAA2-40E5-9EA0-A23CA379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645-4E9B-4EB6-95C1-12CA2D3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DF4-F31C-444A-BBDB-5F564155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D09-4125-42BE-963F-D83066C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66B-CD9C-42F2-BB00-6657548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BB4-C5B4-453C-B1AE-25310B4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3A4-576E-448D-805C-E115A386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1C2-74A0-4CF0-982E-0CC3568E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5AE-8E1C-4FAA-B66A-6B38E95C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C8C-7C4C-42E2-A298-E37F4A3B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79EC-76EC-4F6F-9B5D-AA1BAE28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8256-3EBE-424E-990B-5BC6F4FC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8F39-949A-4794-AADD-0992BDBC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3505-D651-454E-8DE9-91CC3BB2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F762-4225-4C50-9114-12D8B361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142E-EDD8-4B1D-94D7-2153861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17A-94C3-4707-ABA1-058C8ED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1D19-69E7-4DB2-89F2-5F45C764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F31A-C0E7-440A-9235-2815570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1F7F-F2A0-4C69-BC0A-959875D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37A9-45AC-44BB-9A17-BFA50115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BBA7-7F0E-4707-9606-EA574F6C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47B2-3A0F-4FE7-8070-A59F850FA6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3DB7-9785-45EA-B316-EAA9663D8E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4961-1B68-4391-B4B0-74D3732E88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5ADF-1117-42AA-8802-0702BA7A41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-14400" y="-17640"/>
            <a:ext cx="9169560" cy="6883560"/>
            <a:chOff x="-14400" y="-17640"/>
            <a:chExt cx="9169560" cy="6883560"/>
          </a:xfrm>
        </p:grpSpPr>
        <p:pic>
          <p:nvPicPr>
            <p:cNvPr id="121" name="Picture 6" descr=""/>
            <p:cNvPicPr/>
            <p:nvPr/>
          </p:nvPicPr>
          <p:blipFill>
            <a:blip r:embed="rId1"/>
            <a:stretch/>
          </p:blipFill>
          <p:spPr>
            <a:xfrm>
              <a:off x="-14400" y="-17640"/>
              <a:ext cx="916956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Line 10"/>
            <p:cNvSpPr/>
            <p:nvPr/>
          </p:nvSpPr>
          <p:spPr>
            <a:xfrm>
              <a:off x="2727720" y="3879720"/>
              <a:ext cx="369432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2727720" y="3003480"/>
              <a:ext cx="369432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1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Narrow"/>
              </a:rPr>
              <a:t>Insert the title of your presentation he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76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 Narrow"/>
              </a:rPr>
              <a:t>Insert the subtitle of your presentation he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-17640"/>
            <a:ext cx="9169560" cy="6883560"/>
            <a:chOff x="-14400" y="-17640"/>
            <a:chExt cx="9169560" cy="6883560"/>
          </a:xfrm>
        </p:grpSpPr>
        <p:pic>
          <p:nvPicPr>
            <p:cNvPr id="127" name="Picture 7" descr=""/>
            <p:cNvPicPr/>
            <p:nvPr/>
          </p:nvPicPr>
          <p:blipFill>
            <a:blip r:embed="rId1"/>
            <a:stretch/>
          </p:blipFill>
          <p:spPr>
            <a:xfrm>
              <a:off x="-14400" y="-17640"/>
              <a:ext cx="916956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Line 11"/>
            <p:cNvSpPr/>
            <p:nvPr/>
          </p:nvSpPr>
          <p:spPr>
            <a:xfrm>
              <a:off x="2723040" y="1388160"/>
              <a:ext cx="369432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Narrow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Narrow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-14400" y="-1764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132" name="Pentagone 10"/>
          <p:cNvSpPr/>
          <p:nvPr/>
        </p:nvSpPr>
        <p:spPr>
          <a:xfrm rot="5400000">
            <a:off x="2966040" y="332280"/>
            <a:ext cx="3225960" cy="915840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9158400"/>
              <a:gd name="textAreaBottom" fmla="*/ 9158400 h 915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12" y="0"/>
                </a:lnTo>
                <a:lnTo>
                  <a:pt x="21600" y="10800"/>
                </a:lnTo>
                <a:lnTo>
                  <a:pt x="14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entagone 12"/>
          <p:cNvSpPr/>
          <p:nvPr/>
        </p:nvSpPr>
        <p:spPr>
          <a:xfrm rot="16200000">
            <a:off x="2966400" y="-2777400"/>
            <a:ext cx="3225600" cy="9158400"/>
          </a:xfrm>
          <a:custGeom>
            <a:avLst/>
            <a:gdLst>
              <a:gd name="textAreaLeft" fmla="*/ 0 w 3225600"/>
              <a:gd name="textAreaRight" fmla="*/ 3225960 w 3225600"/>
              <a:gd name="textAreaTop" fmla="*/ 0 h 9158400"/>
              <a:gd name="textAreaBottom" fmla="*/ 9158400 h 915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12" y="0"/>
                </a:lnTo>
                <a:lnTo>
                  <a:pt x="21600" y="10800"/>
                </a:lnTo>
                <a:lnTo>
                  <a:pt x="14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2724120" y="1378080"/>
            <a:ext cx="3695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1:03:00Z</dcterms:created>
  <dc:creator>WPS Office</dc:creator>
  <dc:description>WPS</dc:description>
  <cp:keywords>WPS</cp:keywords>
  <dc:language>en-US</dc:language>
  <cp:lastModifiedBy>a</cp:lastModifiedBy>
  <dcterms:modified xsi:type="dcterms:W3CDTF">2014-07-25T01:33:48Z</dcterms:modified>
  <cp:revision>1</cp:revision>
  <dc:subject/>
  <dc:title>Insert the title of your presentation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