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41F-E753-4A77-BA30-77254555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04E-EA17-4D4A-B9DA-A7DC8F0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551-463A-4655-A173-BBA69413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D7E-6F89-41BC-9645-7BEAA428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FEDC-E08B-4677-A07B-12CA778C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7019-672F-4F1A-B8E2-92E20C1A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FBD8-4C2B-4F0B-900C-3CBFEAB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532-93DF-49A9-87D9-A34876D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DAA8-A024-4C13-A1CD-C4A747F0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862D-9ACF-4304-B481-74855BC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BC69-B398-4B2A-B8B8-192A5A12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9EC-C65D-42E6-9467-F9A34ED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3FA9-B2A1-4084-8F36-F04EB687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B383-66B5-4129-AC86-59BD1E7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BC2-B919-492C-A705-F394DE5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5EBB-107B-49F9-8AD0-B3E9602A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795-5600-4042-8791-7F4399D5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A9D-EF2F-4CBE-967D-EFAF6671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98B-1F34-418F-A9F8-517F4B96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791-948D-4BF3-BD90-1F999345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90E-C8FC-4689-8120-37F962D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BBB-9B68-4EBC-86CE-5130F28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9B6-DB70-4963-A957-AAFDADB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76D-B9EB-425A-B9A0-D64B8B3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6ADA-6B7B-4904-BF4B-259AADD2F249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F22-67FA-4C1E-A005-B4814D0EB5BC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959-BC54-4D27-80A9-E11080FFC1C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115-7C58-46B2-84CD-2375893AF8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收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wg_blurred_backgrounds_6"/>
          <p:cNvPicPr/>
          <p:nvPr/>
        </p:nvPicPr>
        <p:blipFill>
          <a:blip r:embed="rId1"/>
          <a:srcRect l="0" t="0" r="0" b="79850"/>
          <a:stretch/>
        </p:blipFill>
        <p:spPr>
          <a:xfrm>
            <a:off x="0" y="4803840"/>
            <a:ext cx="9001080" cy="120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6"/>
          <p:cNvPicPr/>
          <p:nvPr/>
        </p:nvPicPr>
        <p:blipFill>
          <a:blip r:embed="rId1"/>
          <a:srcRect l="51769" t="0" r="29439" b="0"/>
          <a:stretch/>
        </p:blipFill>
        <p:spPr>
          <a:xfrm>
            <a:off x="0" y="6480"/>
            <a:ext cx="16923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811600" y="1112760"/>
            <a:ext cx="3387600" cy="3386160"/>
          </a:xfrm>
          <a:custGeom>
            <a:avLst/>
            <a:gdLst>
              <a:gd name="textAreaLeft" fmla="*/ 496080 w 3387600"/>
              <a:gd name="textAreaRight" fmla="*/ 2891520 w 3387600"/>
              <a:gd name="textAreaTop" fmla="*/ 495720 h 3386160"/>
              <a:gd name="textAreaBottom" fmla="*/ 2890440 h 3386160"/>
            </a:gdLst>
            <a:ahLst/>
            <a:rect l="textAreaLeft" t="textAreaTop" r="textAreaRight" b="textAreaBottom"/>
            <a:pathLst>
              <a:path w="21600" h="21600">
                <a:moveTo>
                  <a:pt x="4554" y="3505"/>
                </a:moveTo>
                <a:cubicBezTo>
                  <a:pt x="2423" y="5330"/>
                  <a:pt x="1197" y="7994"/>
                  <a:pt x="1197" y="10800"/>
                </a:cubicBezTo>
                <a:cubicBezTo>
                  <a:pt x="1197" y="16103"/>
                  <a:pt x="5496" y="20403"/>
                  <a:pt x="10800" y="20403"/>
                </a:cubicBezTo>
                <a:cubicBezTo>
                  <a:pt x="16103" y="20403"/>
                  <a:pt x="20403" y="16103"/>
                  <a:pt x="20403" y="10800"/>
                </a:cubicBezTo>
                <a:cubicBezTo>
                  <a:pt x="20403" y="6754"/>
                  <a:pt x="17868" y="3143"/>
                  <a:pt x="14063" y="1768"/>
                </a:cubicBezTo>
                <a:lnTo>
                  <a:pt x="14470" y="642"/>
                </a:lnTo>
                <a:cubicBezTo>
                  <a:pt x="18749" y="2189"/>
                  <a:pt x="21600" y="6250"/>
                  <a:pt x="21600" y="10799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7645"/>
                  <a:pt x="1379" y="4648"/>
                  <a:pt x="3775" y="2596"/>
                </a:cubicBezTo>
                <a:lnTo>
                  <a:pt x="2019" y="545"/>
                </a:lnTo>
                <a:lnTo>
                  <a:pt x="6670" y="904"/>
                </a:lnTo>
                <a:lnTo>
                  <a:pt x="6310" y="5556"/>
                </a:lnTo>
                <a:lnTo>
                  <a:pt x="4554" y="3505"/>
                </a:lnTo>
                <a:close/>
              </a:path>
            </a:pathLst>
          </a:custGeom>
          <a:solidFill>
            <a:srgbClr val="daa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3708360" y="1133640"/>
            <a:ext cx="1593720" cy="79668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746520" y="1173240"/>
            <a:ext cx="1515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081760" y="21319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121360" y="2171880"/>
            <a:ext cx="1514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557600" y="37465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95760" y="3786120"/>
            <a:ext cx="1515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859120" y="3746520"/>
            <a:ext cx="159372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898720" y="3786120"/>
            <a:ext cx="1514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335320" y="2131920"/>
            <a:ext cx="1592280" cy="797040"/>
          </a:xfrm>
          <a:prstGeom prst="roundRect">
            <a:avLst>
              <a:gd name="adj" fmla="val 16667"/>
            </a:avLst>
          </a:prstGeom>
          <a:solidFill>
            <a:srgbClr val="ecbd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373480" y="2171880"/>
            <a:ext cx="1515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160200" bIns="1602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263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63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695680" y="3413160"/>
            <a:ext cx="685800" cy="684000"/>
          </a:xfrm>
          <a:prstGeom prst="ellipse">
            <a:avLst/>
          </a:prstGeom>
          <a:solidFill>
            <a:srgbClr val="daa04f">
              <a:alpha val="69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49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49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4981680" y="3413160"/>
            <a:ext cx="684000" cy="684000"/>
          </a:xfrm>
          <a:prstGeom prst="ellipse">
            <a:avLst/>
          </a:prstGeom>
          <a:solidFill>
            <a:srgbClr val="daa04f">
              <a:alpha val="69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835600" y="3313080"/>
            <a:ext cx="1955880" cy="627120"/>
          </a:xfrm>
          <a:prstGeom prst="rect">
            <a:avLst/>
          </a:prstGeom>
          <a:solidFill>
            <a:srgbClr val="ecbd00"/>
          </a:solidFill>
          <a:ln w="25560">
            <a:solidFill>
              <a:srgbClr val="daa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35600" y="3313080"/>
            <a:ext cx="1378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0" rIns="648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267680" y="3413160"/>
            <a:ext cx="684000" cy="684000"/>
          </a:xfrm>
          <a:prstGeom prst="ellipse">
            <a:avLst/>
          </a:prstGeom>
          <a:solidFill>
            <a:srgbClr val="daa04f">
              <a:alpha val="80000"/>
            </a:srgbClr>
          </a:solidFill>
          <a:ln w="25560">
            <a:solidFill>
              <a:srgbClr val="daa04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g_blurred_backgrounds_6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214956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4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1:42:0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