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D56-D121-406F-9469-D61E4A4C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56E-B678-421B-886E-455C25B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CE187-4E33-4639-9D95-27C0782A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46DFD-C029-4E18-8B06-7150CB2A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F2D14-7797-4BDB-BE41-0CFF3BD4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23FB4-86AA-4D7C-8C58-A42150EA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3F549-E834-49CC-A4E9-0D940A9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C2828-97EB-472C-A84F-3E89B48B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FE344-B42B-44C3-A8B3-A2873147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39974-4000-481D-860D-D62F8449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0EF01-84C5-4EA1-90AE-DDCE98AC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E2060-7380-4DBA-B968-17672B9F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301-93B9-42A6-B6ED-FC5610C5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DD583-2CD0-4026-8F9C-0BD83C9C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F1A99-BBF7-43F7-B4B8-E8F3C0C7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EF11A-369A-4AEC-B59A-C2A0C35D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A29D4-26B1-4E8B-A99A-5A5D1214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6E173-C166-446B-84F7-C56C5C7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C16A0-5E55-4739-8930-B74DA02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C91DD-ED33-484B-8558-AC7F369E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E053E-D7F9-4A2C-9873-883B960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FA78F-3A97-4738-A5C9-566C2186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95642-C70E-4B67-902E-CD8D7EC0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4CF-3F73-4A89-AA41-91E58E13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988CB-CDCE-4FC1-AF29-341464EB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E58CB-E953-47CD-A3B9-0E030E36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90A22-59E8-47D7-9F3B-5946D79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EB1F5-6306-4C1E-9173-FAA87D7F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399C1-CBDA-4A6B-8EA2-956242A4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343C3-8D04-46AC-8A7F-8243D6F0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4576D-0AF1-47E8-8788-95AE6A71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49888-F7E0-43D1-8BC3-94120ABA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E11C2-DDAE-4EA0-B7D0-78D7C15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88F76-22A3-4049-80D5-9157666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3779-A211-49DE-8F9B-89C3BBB9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5CF98-DC1F-4FED-80C9-4E44EDE9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162DD-26C9-44EF-9354-4C698DCE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8F891-80A1-443D-BE1F-CDF94A73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F14F1-C604-408D-AA8F-88109672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C1AC8-4364-4277-BD46-A474570D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1BFD1-8581-450C-98B5-C1C43AEE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DE858-C706-472A-A23A-E452FEE8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4E2AC-781C-4927-9CAF-5139F3C1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AC627-B367-4AA0-A798-EE7CA2F0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30103-2744-47FD-B064-58E870F4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2D11-E7E0-40D9-852D-C30DBD31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299A2-0084-4436-8FD4-386DBDA4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93B55-908F-46F0-B159-6D59399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2B7AF-C97D-4151-BDDA-0144036B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8BD0C-57FB-4FDE-9B50-EE62B6F1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7F536-0A64-4B67-9951-EE0B73AB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F3B14-3445-4C99-94B5-38B2FA07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65EED-CF65-401B-B533-C70E92E9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45A14-8CCE-41E2-AE13-51430AC5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FD5CA-B8E1-42B5-8B93-D23E784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EF204-23F3-4E44-811A-E890255A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0A37-CC2D-4C68-BEC7-5B88E601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ABB50-AE41-4662-AAC3-56FC493E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43676-9F22-4CB8-B7F1-9C5A35E4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B11BB-569D-4839-98B2-AE7B2B78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20FAD-5BB7-4D61-BDBD-2D94ADC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273B0-2E88-4FCC-B6A0-978C3831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FC2FC-DC32-4CB3-A14D-468AF838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12CC3-2AEA-46A1-B592-487D4311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4F71-633A-4137-BF07-999F1DC5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7056-A12F-4A45-8EFA-FD920F57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09D9-4CAD-47E0-BD9F-8CF34112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2691-02E2-46C2-9C17-C3CDD547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ED6-D526-4C14-A65F-37870C47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5D34-1327-41AD-B985-54FB1D00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88F3-4A40-4F2D-9EBF-F41992B3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D645-5752-4773-B40B-04375987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ABFC-9A54-4A7B-9360-878B1E2D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08F6-3433-4EC9-9671-EAE2DAE9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EC0D-F297-4768-9322-5D6DBB07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EF73-E79F-4B96-A83C-F42614A8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8708-FAC7-4206-90AE-0DAA2A66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BE93-DC59-4711-A27E-A27BB8D4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355A-A56E-492D-96A3-000BFE8D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A8E-5455-4BF7-9CF1-8A36BD7B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092D-B16F-439C-B151-0A37B839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DAAB-04E4-45CA-94BB-C7B4042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18A9-1244-4FD7-97DF-F2115676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8CC9-E876-46B7-8A1A-5DEC168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3DC1-A827-4117-A7B8-F6A040C4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0C5D-5EE9-467F-AA30-78AF750F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5B82-CF20-4D7B-8D6E-7AAD545F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8F8CC-AEE0-4BC5-BB75-5CBB00F7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B80DC-0DDA-4302-A77F-AC301EFB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B021-8DD6-4AE0-AA48-ACA00438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92B-CB79-468E-9CD0-AC2D6F3F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D154-A7A8-4164-B01B-71B3802E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37A1-18D7-4B16-9D23-967ADE20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8A3E-EF08-441C-BD02-61137509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FFBC-9BA0-4904-AFDE-C3221BE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759B-71C0-4939-ABEA-E49B262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D90D-09F5-4DB7-A684-264162B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F3AD-03C7-4D7F-9492-C3860BBD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18902-6DFF-41F4-91DF-3FE36869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8F3A4-3FB3-4962-AEBF-E91137D6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88EF7-71F6-41F6-9173-3EAEC7E0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C36-2017-4B61-80C2-7C406E74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9872-8A24-4342-847B-313B5E8D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60225-69C6-4589-B37B-1F91B4B7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9361-16BD-4ABC-BBC3-1C47E5D7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7AA7-AEEC-4D72-90CE-2B1C46F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038D0-69B5-480E-A757-3F5237D8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2CE16-5F59-43C5-BC7D-E41DD15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F2937-F5AB-4666-929C-E181C83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8D204-832A-4E2F-BC97-D914D75F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129D5-4CB8-4A5E-9A9E-71EDAA18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6A858-2C67-4229-87E8-27D45EA3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6D2-3176-4402-85F5-7074E603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CAE7-48AD-4D92-8062-A72A1693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AF0B-4FF6-4DEB-A2A6-6F52080F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54C06-F657-44E2-ADC6-32A4D2E1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6C059-6C2C-4144-8796-FECF3F6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66758-FC37-419C-BEDD-8ECFBC1C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12E88-6C20-49EC-964A-9E4695B2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68C8B-8B63-4FEF-B6C0-3889497B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BF056-A559-456B-BED1-960D1075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AAF14-BFF1-435B-A6DA-0D6D7311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0BF6E-35FE-496B-87BA-0C162D8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CD7-91DC-4DDC-A28A-C77FD224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BAADC-0164-4009-BE77-FBB32CA1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B5992-17BF-4679-AB2F-AF5CAB0C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25348-D348-4565-A46B-DB8F9420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D7C68-A84F-4682-A061-37791720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E8AF-4D1F-4C32-8A7D-B2827DBE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B719B-CF74-431D-9376-C8FF373E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88D7-580B-49BB-968D-0F6B3823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E10D7-B3BB-4572-AD8A-8D13D928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49C7D-5D0E-48AC-94DA-678AE80D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C96FE-11A9-427A-8637-B2DADD07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277-FFB0-40E1-9C2E-59F6EFA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6CF9F-03BF-42FE-B18F-685E052F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16376-E175-4D8B-9CFB-40BAD55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807F0-2BB4-4D6A-87CC-41995FFB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C1511-0046-4976-B48E-A4768BE2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EECF6-CCD7-4DA0-A308-BEF44B06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0606A-810D-4A42-9E0E-6F3533EF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BC84-AD64-46FD-9E20-31AC11A4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79A92-17D0-4A6C-988A-58E31DDF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752C2-768D-4205-AAE9-BEC90A48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87EA1-278A-40E0-AFCA-14E8C830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1D4-6105-4B2D-A5FD-21FAE24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5D06B-A812-4B40-8DD2-0E196646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F0483-21D1-404A-B425-597EA1D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4290B-6B26-4A8C-B3CA-D4CFBFD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4F38E-4BEF-427C-8472-5E4AFFD7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D3CC4-AE1E-41A3-B0C6-C4B4D6B3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14CEF-600A-467C-90A2-9197F169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6DF5-2D95-4C8C-B4EF-7E61FC55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826F5-7029-40F7-A9A3-2BF1FCF9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4D67E-3D46-47C6-8E41-FCEE7B09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0BAAD-B9B5-43F5-AF35-E3813C06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A9EE-61DC-494F-98F8-3518A012B1E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A29-E256-47D5-9D93-AEA0E4FBAA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3E0C-E464-4B62-93BC-7B82E980BEDD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B63B-22C2-4BC1-999D-AAE8FD366999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7A58-BD0F-45E7-A94D-030E220FAA05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3944-FEFE-4796-8137-C0D0B6ABCDA2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5CD1-9CF1-49FF-9063-A61F72F51376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0983-282C-4080-B7B7-1B7865150658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2369-40C5-4DF7-B82B-F52A1542A17C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551-1859-404C-A6FB-60169FBD718A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D8A6-9737-4186-995D-52F3F0DBF862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43A9-4A10-4FD3-992B-E379315526DF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2C25-6AC7-472D-8F98-A9E923750C12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4D8D-7D47-4243-B61E-E8D4A752F3EC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D558-602B-47B8-BD9D-21F6424BC047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5069-CB66-483F-88AF-6D41FBA7192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4BB-7A6D-48E5-845E-80F80123AF70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0A0D-5BE5-4144-96DA-5CC531B82418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93AC-72CB-4973-9CD0-49C15A134DC5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E4CE-E2FD-4F21-8A6D-7845B27EA615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EF89-0576-4D79-8E37-9487D7AE12AB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05CD-2CA4-49DE-94A9-86029ACBCEBD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A74-6BD2-4903-92A2-82FDDB5C08C9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B2D6-27AC-481F-A1F9-BF9E0D9AF95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93D7-B4F5-4535-984C-DDC661C573CC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34E2-4239-47FF-B121-E35F65FBB92D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1440" y="6480"/>
            <a:ext cx="9144000" cy="3278160"/>
          </a:xfrm>
          <a:prstGeom prst="rect">
            <a:avLst/>
          </a:prstGeom>
          <a:solidFill>
            <a:srgbClr val="cc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511280" y="2062080"/>
            <a:ext cx="41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简约就是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617280" y="344808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粉色简约范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7869240" y="508644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Blackadder ITC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cc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5"/>
          <p:cNvGrpSpPr/>
          <p:nvPr/>
        </p:nvGrpSpPr>
        <p:grpSpPr>
          <a:xfrm>
            <a:off x="1740960" y="450720"/>
            <a:ext cx="5134680" cy="1501560"/>
            <a:chOff x="1740960" y="450720"/>
            <a:chExt cx="5134680" cy="1501560"/>
          </a:xfrm>
        </p:grpSpPr>
        <p:sp>
          <p:nvSpPr>
            <p:cNvPr id="541" name="TextBox 7"/>
            <p:cNvSpPr/>
            <p:nvPr/>
          </p:nvSpPr>
          <p:spPr>
            <a:xfrm>
              <a:off x="1740960" y="4507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cc0066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9"/>
            <p:cNvSpPr/>
            <p:nvPr/>
          </p:nvSpPr>
          <p:spPr>
            <a:xfrm>
              <a:off x="2483640" y="11278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8"/>
            <p:cNvGrpSpPr/>
            <p:nvPr/>
          </p:nvGrpSpPr>
          <p:grpSpPr>
            <a:xfrm>
              <a:off x="2336400" y="941400"/>
              <a:ext cx="532080" cy="1010880"/>
              <a:chOff x="2336400" y="941400"/>
              <a:chExt cx="532080" cy="1010880"/>
            </a:xfrm>
          </p:grpSpPr>
          <p:sp>
            <p:nvSpPr>
              <p:cNvPr id="544" name="直角三角形 20"/>
              <p:cNvSpPr/>
              <p:nvPr/>
            </p:nvSpPr>
            <p:spPr>
              <a:xfrm flipV="1">
                <a:off x="2483280" y="10724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直接连接符 10"/>
              <p:cNvSpPr/>
              <p:nvPr/>
            </p:nvSpPr>
            <p:spPr>
              <a:xfrm flipH="1">
                <a:off x="2336400" y="9414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6" name="Group 11"/>
          <p:cNvGrpSpPr/>
          <p:nvPr/>
        </p:nvGrpSpPr>
        <p:grpSpPr>
          <a:xfrm>
            <a:off x="1740960" y="2138400"/>
            <a:ext cx="5134680" cy="1501560"/>
            <a:chOff x="1740960" y="2138400"/>
            <a:chExt cx="5134680" cy="1501560"/>
          </a:xfrm>
        </p:grpSpPr>
        <p:sp>
          <p:nvSpPr>
            <p:cNvPr id="547" name="TextBox 28"/>
            <p:cNvSpPr/>
            <p:nvPr/>
          </p:nvSpPr>
          <p:spPr>
            <a:xfrm>
              <a:off x="1740960" y="213840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cc0066"/>
                  </a:solidFill>
                  <a:latin typeface="Arial"/>
                  <a:ea typeface="微软雅黑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9"/>
            <p:cNvSpPr/>
            <p:nvPr/>
          </p:nvSpPr>
          <p:spPr>
            <a:xfrm>
              <a:off x="2483640" y="281556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4"/>
            <p:cNvGrpSpPr/>
            <p:nvPr/>
          </p:nvGrpSpPr>
          <p:grpSpPr>
            <a:xfrm>
              <a:off x="2336400" y="2629080"/>
              <a:ext cx="532080" cy="1010880"/>
              <a:chOff x="2336400" y="2629080"/>
              <a:chExt cx="532080" cy="1010880"/>
            </a:xfrm>
          </p:grpSpPr>
          <p:sp>
            <p:nvSpPr>
              <p:cNvPr id="550" name="直角三角形 31"/>
              <p:cNvSpPr/>
              <p:nvPr/>
            </p:nvSpPr>
            <p:spPr>
              <a:xfrm flipV="1">
                <a:off x="2483280" y="2760120"/>
                <a:ext cx="338400" cy="60768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直接连接符 32"/>
              <p:cNvSpPr/>
              <p:nvPr/>
            </p:nvSpPr>
            <p:spPr>
              <a:xfrm flipH="1">
                <a:off x="2336400" y="262908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Group 17"/>
          <p:cNvGrpSpPr/>
          <p:nvPr/>
        </p:nvGrpSpPr>
        <p:grpSpPr>
          <a:xfrm>
            <a:off x="1812600" y="3803760"/>
            <a:ext cx="5064480" cy="1503360"/>
            <a:chOff x="1812600" y="3803760"/>
            <a:chExt cx="5064480" cy="1503360"/>
          </a:xfrm>
        </p:grpSpPr>
        <p:sp>
          <p:nvSpPr>
            <p:cNvPr id="553" name="TextBox 34"/>
            <p:cNvSpPr/>
            <p:nvPr/>
          </p:nvSpPr>
          <p:spPr>
            <a:xfrm>
              <a:off x="1812600" y="380376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0066"/>
                  </a:solidFill>
                  <a:latin typeface="Arial"/>
                  <a:ea typeface="微软雅黑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35"/>
            <p:cNvSpPr/>
            <p:nvPr/>
          </p:nvSpPr>
          <p:spPr>
            <a:xfrm>
              <a:off x="2483280" y="4481640"/>
              <a:ext cx="4393800" cy="61740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简约与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20"/>
            <p:cNvGrpSpPr/>
            <p:nvPr/>
          </p:nvGrpSpPr>
          <p:grpSpPr>
            <a:xfrm>
              <a:off x="2336040" y="4295160"/>
              <a:ext cx="532440" cy="1011960"/>
              <a:chOff x="2336040" y="4295160"/>
              <a:chExt cx="532440" cy="1011960"/>
            </a:xfrm>
          </p:grpSpPr>
          <p:sp>
            <p:nvSpPr>
              <p:cNvPr id="556" name="直角三角形 37"/>
              <p:cNvSpPr/>
              <p:nvPr/>
            </p:nvSpPr>
            <p:spPr>
              <a:xfrm flipV="1">
                <a:off x="2483280" y="4426200"/>
                <a:ext cx="338760" cy="60840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直接连接符 38"/>
              <p:cNvSpPr/>
              <p:nvPr/>
            </p:nvSpPr>
            <p:spPr>
              <a:xfrm flipH="1">
                <a:off x="2336040" y="4295160"/>
                <a:ext cx="532440" cy="101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cc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5"/>
          <p:cNvGrpSpPr/>
          <p:nvPr/>
        </p:nvGrpSpPr>
        <p:grpSpPr>
          <a:xfrm>
            <a:off x="1885320" y="2104920"/>
            <a:ext cx="5134680" cy="1501560"/>
            <a:chOff x="1885320" y="2104920"/>
            <a:chExt cx="5134680" cy="1501560"/>
          </a:xfrm>
        </p:grpSpPr>
        <p:sp>
          <p:nvSpPr>
            <p:cNvPr id="562" name="TextBox 7"/>
            <p:cNvSpPr/>
            <p:nvPr/>
          </p:nvSpPr>
          <p:spPr>
            <a:xfrm>
              <a:off x="1885320" y="21049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19"/>
            <p:cNvSpPr/>
            <p:nvPr/>
          </p:nvSpPr>
          <p:spPr>
            <a:xfrm>
              <a:off x="2628000" y="27820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8"/>
            <p:cNvGrpSpPr/>
            <p:nvPr/>
          </p:nvGrpSpPr>
          <p:grpSpPr>
            <a:xfrm>
              <a:off x="2480760" y="2595600"/>
              <a:ext cx="532080" cy="1010880"/>
              <a:chOff x="2480760" y="2595600"/>
              <a:chExt cx="532080" cy="1010880"/>
            </a:xfrm>
          </p:grpSpPr>
          <p:sp>
            <p:nvSpPr>
              <p:cNvPr id="565" name="直角三角形 20"/>
              <p:cNvSpPr/>
              <p:nvPr/>
            </p:nvSpPr>
            <p:spPr>
              <a:xfrm flipV="1">
                <a:off x="2627640" y="27266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直接连接符 10"/>
              <p:cNvSpPr/>
              <p:nvPr/>
            </p:nvSpPr>
            <p:spPr>
              <a:xfrm flipH="1">
                <a:off x="2480760" y="25956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466560" y="88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简约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"/>
          <p:cNvSpPr/>
          <p:nvPr/>
        </p:nvSpPr>
        <p:spPr>
          <a:xfrm>
            <a:off x="539640" y="60948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3"/>
          <p:cNvSpPr/>
          <p:nvPr/>
        </p:nvSpPr>
        <p:spPr>
          <a:xfrm>
            <a:off x="0" y="-28440"/>
            <a:ext cx="9144000" cy="5729040"/>
          </a:xfrm>
          <a:prstGeom prst="rect">
            <a:avLst/>
          </a:prstGeom>
          <a:solidFill>
            <a:srgbClr val="cc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519120" y="1336680"/>
            <a:ext cx="706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"/>
          <p:cNvSpPr/>
          <p:nvPr/>
        </p:nvSpPr>
        <p:spPr>
          <a:xfrm>
            <a:off x="0" y="3576600"/>
            <a:ext cx="9144000" cy="213840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d3d3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519120" y="234648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 your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61080" y="49467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577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8:02:13Z</dcterms:created>
  <dc:creator>yellownancy</dc:creator>
  <dc:description/>
  <dc:language>en-US</dc:language>
  <cp:lastModifiedBy>a</cp:lastModifiedBy>
  <dcterms:modified xsi:type="dcterms:W3CDTF">2015-01-15T03:08:2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