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8999538" cy="6011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9C2C-6D58-4735-BAA9-4053074AE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00C8-F2E9-4B01-B297-643A0D81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55E6-92E7-49EB-9B1B-32DA49463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53E1-518F-4919-A6DB-40EC0012B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504E-884C-4D00-9056-B1A3252B8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6A8C-9C94-4EE0-9F5C-59D58478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E8F5-636C-4A69-948B-FBA0B4B0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4350-0E21-4A7A-B985-A6760999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2FCA-A15F-4D9B-BEBA-041847FE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0B9A-2466-4B0C-9979-E83964CB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8B93-CB61-4372-AC5E-E4D29354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6E27-1C7D-4D6B-8848-0366CFA6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C042-E8E2-4412-9BDB-A24805BD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BFBA-B0D8-45A8-81AC-D4B1058B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AC18-87C0-401F-A150-963E9C91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6AD0-3A23-491B-8642-103B745D6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9546-D077-4A2E-A8C7-D66267135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D2F76-6C97-406F-BBBC-65CF833DE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5B11C-4071-4035-929D-48037B75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8A16F-E5E7-4CD7-BE85-5ED4593D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D2F67-8A70-42CC-8446-45257320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7BE85-B1CE-4798-A565-461BF0E4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45F4-E0EF-4DBD-A759-B45BDD26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DB8A2-56E6-47DE-AC06-1835E36A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FE31F-355F-4842-AB27-20DCAD7F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1D5BE-D75E-4482-9F75-E80A279E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29416-21A3-4570-AB46-6F3F5A91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6861D-2EF0-44EC-AF9B-F2917D40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BFEF8-519D-4203-83FF-0EBAAF167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FFE17-A5A3-4BF5-AC91-7D6AADC4D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2FDA0-0D94-450B-9CB4-42A9FC429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CF175-941B-4548-9D5B-6B27754F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6D727-FA97-4693-80B4-8E12D12F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477F-CDB2-4A9F-9E3A-2BD247F1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19A91-E19D-4A2C-AE52-4EB5AA35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E5B23-864A-4CBC-9E64-E0C924ED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42794-C0C6-4AEC-B9C2-7886CF56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3C850-4923-4712-904C-ED1B4BEB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E9058-B021-418C-BEFD-8262B79B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0E627-38BF-4A07-BA9E-19919FC3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F7F1A-3D7A-4610-9243-E345089B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454AA-993E-493C-889A-8AADC1D65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B9238-A4D1-4F83-9CEB-71C3A1923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5FE9-FB0B-4B13-8425-C6ED4523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60D8-F0F5-4772-8FDB-FF22085E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D8C5-977B-4738-AF93-EC1420BE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620B-EC9A-4CD4-9904-4C624D96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9D07-18FB-4907-8F00-04F55D9E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66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127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88960" indent="-212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720" y="5473800"/>
            <a:ext cx="20988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27D7-A3B7-45BC-A609-81DA72E22CF7}" type="datetime">
              <a:rPr b="0" lang="zh-CN" sz="13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5473800"/>
            <a:ext cx="28494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0D94-4538-48FD-9CDE-051AFDB2885A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66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127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88960" indent="-212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0720" y="5473800"/>
            <a:ext cx="20988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C8DD-A58B-403F-941A-A2BDBA2C24C7}" type="datetime">
              <a:rPr b="0" lang="zh-CN" sz="13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74760" y="5473800"/>
            <a:ext cx="28494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1745-9AA3-42D1-99BA-CAB4256D31B4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9880" indent="-299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0880" indent="-2491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1880" indent="-200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199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199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199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49280" y="5475240"/>
            <a:ext cx="21002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D38C-0D9A-4A38-89FC-8A4D9A56986C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74760" y="5475240"/>
            <a:ext cx="28494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0120" y="5475240"/>
            <a:ext cx="21002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7AAD-8CF1-4293-8B3E-404C57EEC06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66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127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88960" indent="-212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0720" y="5473800"/>
            <a:ext cx="20988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4959-2290-4577-94F1-2F871A32123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074760" y="5473800"/>
            <a:ext cx="28494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A5C5-357D-4D29-AFE8-492B2D8575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wg_blurred_backgrounds_10"/>
          <p:cNvPicPr/>
          <p:nvPr/>
        </p:nvPicPr>
        <p:blipFill>
          <a:blip r:embed="rId1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74280" y="1866600"/>
            <a:ext cx="7650360" cy="1289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贵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49280" y="3406320"/>
            <a:ext cx="6300720" cy="15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zh-CN" sz="29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0360" y="1402920"/>
            <a:ext cx="8099640" cy="32590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微软雅黑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wg_blurred_backgrounds_10"/>
          <p:cNvPicPr/>
          <p:nvPr/>
        </p:nvPicPr>
        <p:blipFill>
          <a:blip r:embed="rId1"/>
          <a:srcRect l="0" t="0" r="0" b="79280"/>
          <a:stretch/>
        </p:blipFill>
        <p:spPr>
          <a:xfrm>
            <a:off x="0" y="4757760"/>
            <a:ext cx="89996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36360" y="240840"/>
            <a:ext cx="6713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836360" y="1403280"/>
            <a:ext cx="6713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微软雅黑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wg_blurred_backgrounds_10"/>
          <p:cNvPicPr/>
          <p:nvPr/>
        </p:nvPicPr>
        <p:blipFill>
          <a:blip r:embed="rId1"/>
          <a:srcRect l="51729" t="0" r="30183" b="0"/>
          <a:stretch/>
        </p:blipFill>
        <p:spPr>
          <a:xfrm>
            <a:off x="0" y="6480"/>
            <a:ext cx="162864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2"/>
          <p:cNvSpPr/>
          <p:nvPr/>
        </p:nvSpPr>
        <p:spPr>
          <a:xfrm rot="10800000">
            <a:off x="2590920" y="1364760"/>
            <a:ext cx="3836880" cy="882720"/>
          </a:xfrm>
          <a:custGeom>
            <a:avLst/>
            <a:gdLst>
              <a:gd name="textAreaLeft" fmla="*/ 0 w 3836880"/>
              <a:gd name="textAreaRight" fmla="*/ 3837240 w 383688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07210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2811600" y="1366920"/>
            <a:ext cx="361620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4400" rIns="391320" tIns="209520" bIns="209520" anchor="ctr">
            <a:noAutofit/>
          </a:bodyPr>
          <a:p>
            <a:pPr algn="ctr">
              <a:lnSpc>
                <a:spcPct val="9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2149560" y="1366920"/>
            <a:ext cx="882720" cy="880920"/>
          </a:xfrm>
          <a:prstGeom prst="ellipse">
            <a:avLst/>
          </a:prstGeom>
          <a:solidFill>
            <a:srgbClr val="b07210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"/>
          <p:cNvSpPr/>
          <p:nvPr/>
        </p:nvSpPr>
        <p:spPr>
          <a:xfrm rot="10800000">
            <a:off x="2590920" y="2511360"/>
            <a:ext cx="3836880" cy="881280"/>
          </a:xfrm>
          <a:custGeom>
            <a:avLst/>
            <a:gdLst>
              <a:gd name="textAreaLeft" fmla="*/ 0 w 3836880"/>
              <a:gd name="textAreaRight" fmla="*/ 3837240 w 3836880"/>
              <a:gd name="textAreaTop" fmla="*/ 0 h 881280"/>
              <a:gd name="textAreaBottom" fmla="*/ 881640 h 88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07210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2811600" y="2511360"/>
            <a:ext cx="361620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4400" rIns="391320" tIns="209520" bIns="209520" anchor="ctr">
            <a:noAutofit/>
          </a:bodyPr>
          <a:p>
            <a:pPr algn="ctr">
              <a:lnSpc>
                <a:spcPct val="9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7"/>
          <p:cNvSpPr/>
          <p:nvPr/>
        </p:nvSpPr>
        <p:spPr>
          <a:xfrm>
            <a:off x="2149560" y="2511360"/>
            <a:ext cx="882720" cy="882720"/>
          </a:xfrm>
          <a:prstGeom prst="ellipse">
            <a:avLst/>
          </a:prstGeom>
          <a:solidFill>
            <a:srgbClr val="b07210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8"/>
          <p:cNvSpPr/>
          <p:nvPr/>
        </p:nvSpPr>
        <p:spPr>
          <a:xfrm rot="10800000">
            <a:off x="2590920" y="3655800"/>
            <a:ext cx="3836880" cy="880920"/>
          </a:xfrm>
          <a:custGeom>
            <a:avLst/>
            <a:gdLst>
              <a:gd name="textAreaLeft" fmla="*/ 0 w 3836880"/>
              <a:gd name="textAreaRight" fmla="*/ 3837240 w 3836880"/>
              <a:gd name="textAreaTop" fmla="*/ 0 h 880920"/>
              <a:gd name="textAreaBottom" fmla="*/ 881280 h 88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07210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2811600" y="3656160"/>
            <a:ext cx="361620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4400" rIns="391320" tIns="209520" bIns="209520" anchor="ctr">
            <a:noAutofit/>
          </a:bodyPr>
          <a:p>
            <a:pPr algn="ctr">
              <a:lnSpc>
                <a:spcPct val="9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0"/>
          <p:cNvSpPr/>
          <p:nvPr/>
        </p:nvSpPr>
        <p:spPr>
          <a:xfrm>
            <a:off x="2149560" y="3656160"/>
            <a:ext cx="882720" cy="882360"/>
          </a:xfrm>
          <a:prstGeom prst="ellipse">
            <a:avLst/>
          </a:prstGeom>
          <a:solidFill>
            <a:srgbClr val="b07210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5106960" y="950760"/>
            <a:ext cx="11192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5313240" y="1057320"/>
            <a:ext cx="111924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rm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2471760" y="919080"/>
            <a:ext cx="4199040" cy="4199040"/>
          </a:xfrm>
          <a:custGeom>
            <a:avLst/>
            <a:gdLst>
              <a:gd name="textAreaLeft" fmla="*/ 614880 w 4199040"/>
              <a:gd name="textAreaRight" fmla="*/ 3584160 w 4199040"/>
              <a:gd name="textAreaTop" fmla="*/ 614880 h 4199040"/>
              <a:gd name="textAreaBottom" fmla="*/ 3584160 h 4199040"/>
            </a:gdLst>
            <a:ahLst/>
            <a:rect l="textAreaLeft" t="textAreaTop" r="textAreaRight" b="textAreaBottom"/>
            <a:pathLst>
              <a:path w="21600" h="21600">
                <a:moveTo>
                  <a:pt x="20439" y="9939"/>
                </a:moveTo>
                <a:cubicBezTo>
                  <a:pt x="20311" y="8505"/>
                  <a:pt x="19865" y="7117"/>
                  <a:pt x="19132" y="5877"/>
                </a:cubicBezTo>
                <a:lnTo>
                  <a:pt x="20098" y="5306"/>
                </a:lnTo>
                <a:cubicBezTo>
                  <a:pt x="20916" y="6690"/>
                  <a:pt x="21414" y="8239"/>
                  <a:pt x="21557" y="9840"/>
                </a:cubicBezTo>
                <a:lnTo>
                  <a:pt x="24246" y="9600"/>
                </a:lnTo>
                <a:lnTo>
                  <a:pt x="21288" y="13137"/>
                </a:lnTo>
                <a:lnTo>
                  <a:pt x="17750" y="10179"/>
                </a:lnTo>
                <a:lnTo>
                  <a:pt x="20439" y="9939"/>
                </a:lnTo>
                <a:close/>
              </a:path>
            </a:pathLst>
          </a:custGeom>
          <a:solidFill>
            <a:srgbClr val="b07210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5783400" y="3033720"/>
            <a:ext cx="11188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5807160" y="3171960"/>
            <a:ext cx="1119240" cy="11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rm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7"/>
          <p:cNvSpPr/>
          <p:nvPr/>
        </p:nvSpPr>
        <p:spPr>
          <a:xfrm>
            <a:off x="2471760" y="919080"/>
            <a:ext cx="4199040" cy="4199040"/>
          </a:xfrm>
          <a:custGeom>
            <a:avLst/>
            <a:gdLst>
              <a:gd name="textAreaLeft" fmla="*/ 614880 w 4199040"/>
              <a:gd name="textAreaRight" fmla="*/ 3584160 w 4199040"/>
              <a:gd name="textAreaTop" fmla="*/ 614880 h 4199040"/>
              <a:gd name="textAreaBottom" fmla="*/ 3584160 h 4199040"/>
            </a:gdLst>
            <a:ahLst/>
            <a:rect l="textAreaLeft" t="textAreaTop" r="textAreaRight" b="textAreaBottom"/>
            <a:pathLst>
              <a:path w="21600" h="21600">
                <a:moveTo>
                  <a:pt x="14593" y="19703"/>
                </a:moveTo>
                <a:cubicBezTo>
                  <a:pt x="16123" y="19051"/>
                  <a:pt x="17459" y="18016"/>
                  <a:pt x="18473" y="16697"/>
                </a:cubicBezTo>
                <a:lnTo>
                  <a:pt x="19363" y="17381"/>
                </a:lnTo>
                <a:cubicBezTo>
                  <a:pt x="18231" y="18853"/>
                  <a:pt x="16740" y="20008"/>
                  <a:pt x="15032" y="20735"/>
                </a:cubicBezTo>
                <a:lnTo>
                  <a:pt x="16091" y="23219"/>
                </a:lnTo>
                <a:lnTo>
                  <a:pt x="11812" y="21497"/>
                </a:lnTo>
                <a:lnTo>
                  <a:pt x="13534" y="17219"/>
                </a:lnTo>
                <a:lnTo>
                  <a:pt x="14593" y="19703"/>
                </a:lnTo>
                <a:close/>
              </a:path>
            </a:pathLst>
          </a:custGeom>
          <a:solidFill>
            <a:srgbClr val="b07210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4011480" y="4321080"/>
            <a:ext cx="11192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4011480" y="4321080"/>
            <a:ext cx="11192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rm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0"/>
          <p:cNvSpPr/>
          <p:nvPr/>
        </p:nvSpPr>
        <p:spPr>
          <a:xfrm>
            <a:off x="2471760" y="919080"/>
            <a:ext cx="4199040" cy="4199040"/>
          </a:xfrm>
          <a:custGeom>
            <a:avLst/>
            <a:gdLst>
              <a:gd name="textAreaLeft" fmla="*/ 614880 w 4199040"/>
              <a:gd name="textAreaRight" fmla="*/ 3584160 w 4199040"/>
              <a:gd name="textAreaTop" fmla="*/ 614880 h 4199040"/>
              <a:gd name="textAreaBottom" fmla="*/ 3584160 h 4199040"/>
            </a:gdLst>
            <a:ahLst/>
            <a:rect l="textAreaLeft" t="textAreaTop" r="textAreaRight" b="textAreaBottom"/>
            <a:pathLst>
              <a:path w="21600" h="21600">
                <a:moveTo>
                  <a:pt x="3738" y="17417"/>
                </a:moveTo>
                <a:cubicBezTo>
                  <a:pt x="4875" y="18631"/>
                  <a:pt x="6306" y="19531"/>
                  <a:pt x="7893" y="20031"/>
                </a:cubicBezTo>
                <a:lnTo>
                  <a:pt x="7556" y="21101"/>
                </a:lnTo>
                <a:cubicBezTo>
                  <a:pt x="5785" y="20543"/>
                  <a:pt x="4188" y="19539"/>
                  <a:pt x="2919" y="18184"/>
                </a:cubicBezTo>
                <a:lnTo>
                  <a:pt x="949" y="20031"/>
                </a:lnTo>
                <a:lnTo>
                  <a:pt x="1098" y="15421"/>
                </a:lnTo>
                <a:lnTo>
                  <a:pt x="5708" y="15571"/>
                </a:lnTo>
                <a:lnTo>
                  <a:pt x="3738" y="17417"/>
                </a:lnTo>
                <a:close/>
              </a:path>
            </a:pathLst>
          </a:custGeom>
          <a:solidFill>
            <a:srgbClr val="b07210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2239920" y="3033720"/>
            <a:ext cx="11192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2239920" y="3033720"/>
            <a:ext cx="11192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3"/>
          <p:cNvSpPr/>
          <p:nvPr/>
        </p:nvSpPr>
        <p:spPr>
          <a:xfrm>
            <a:off x="2471760" y="919080"/>
            <a:ext cx="4199040" cy="4199040"/>
          </a:xfrm>
          <a:custGeom>
            <a:avLst/>
            <a:gdLst>
              <a:gd name="textAreaLeft" fmla="*/ 614880 w 4199040"/>
              <a:gd name="textAreaRight" fmla="*/ 3584160 w 4199040"/>
              <a:gd name="textAreaTop" fmla="*/ 614880 h 4199040"/>
              <a:gd name="textAreaBottom" fmla="*/ 3584160 h 4199040"/>
            </a:gdLst>
            <a:ahLst/>
            <a:rect l="textAreaLeft" t="textAreaTop" r="textAreaRight" b="textAreaBottom"/>
            <a:pathLst>
              <a:path w="21600" h="21600">
                <a:moveTo>
                  <a:pt x="2027" y="6713"/>
                </a:moveTo>
                <a:cubicBezTo>
                  <a:pt x="1430" y="7993"/>
                  <a:pt x="1122" y="9387"/>
                  <a:pt x="1122" y="10800"/>
                </a:cubicBezTo>
                <a:cubicBezTo>
                  <a:pt x="1122" y="10827"/>
                  <a:pt x="1122" y="10855"/>
                  <a:pt x="1122" y="10883"/>
                </a:cubicBezTo>
                <a:lnTo>
                  <a:pt x="0" y="10893"/>
                </a:lnTo>
                <a:cubicBezTo>
                  <a:pt x="0" y="10862"/>
                  <a:pt x="0" y="10831"/>
                  <a:pt x="0" y="10800"/>
                </a:cubicBezTo>
                <a:cubicBezTo>
                  <a:pt x="0" y="9224"/>
                  <a:pt x="344" y="7667"/>
                  <a:pt x="1010" y="6239"/>
                </a:cubicBezTo>
                <a:lnTo>
                  <a:pt x="-1438" y="5099"/>
                </a:lnTo>
                <a:lnTo>
                  <a:pt x="2895" y="3520"/>
                </a:lnTo>
                <a:lnTo>
                  <a:pt x="4474" y="7853"/>
                </a:lnTo>
                <a:lnTo>
                  <a:pt x="2027" y="6713"/>
                </a:lnTo>
                <a:close/>
              </a:path>
            </a:pathLst>
          </a:custGeom>
          <a:solidFill>
            <a:srgbClr val="b07210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4"/>
          <p:cNvSpPr/>
          <p:nvPr/>
        </p:nvSpPr>
        <p:spPr>
          <a:xfrm>
            <a:off x="2917800" y="950760"/>
            <a:ext cx="111780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2917800" y="950760"/>
            <a:ext cx="111780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rm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6"/>
          <p:cNvSpPr/>
          <p:nvPr/>
        </p:nvSpPr>
        <p:spPr>
          <a:xfrm>
            <a:off x="2471760" y="919080"/>
            <a:ext cx="4199040" cy="4199040"/>
          </a:xfrm>
          <a:custGeom>
            <a:avLst/>
            <a:gdLst>
              <a:gd name="textAreaLeft" fmla="*/ 614880 w 4199040"/>
              <a:gd name="textAreaRight" fmla="*/ 3584160 w 4199040"/>
              <a:gd name="textAreaTop" fmla="*/ 614880 h 4199040"/>
              <a:gd name="textAreaBottom" fmla="*/ 3584160 h 4199040"/>
            </a:gdLst>
            <a:ahLst/>
            <a:rect l="textAreaLeft" t="textAreaTop" r="textAreaRight" b="textAreaBottom"/>
            <a:pathLst>
              <a:path w="21600" h="21600">
                <a:moveTo>
                  <a:pt x="12664" y="1303"/>
                </a:moveTo>
                <a:cubicBezTo>
                  <a:pt x="12050" y="1182"/>
                  <a:pt x="11425" y="1122"/>
                  <a:pt x="10799" y="1122"/>
                </a:cubicBezTo>
                <a:cubicBezTo>
                  <a:pt x="9857" y="1122"/>
                  <a:pt x="8920" y="1259"/>
                  <a:pt x="8018" y="1530"/>
                </a:cubicBezTo>
                <a:lnTo>
                  <a:pt x="7695" y="455"/>
                </a:lnTo>
                <a:cubicBezTo>
                  <a:pt x="8702" y="153"/>
                  <a:pt x="9748" y="0"/>
                  <a:pt x="10799" y="0"/>
                </a:cubicBezTo>
                <a:cubicBezTo>
                  <a:pt x="11498" y="0"/>
                  <a:pt x="12195" y="67"/>
                  <a:pt x="12880" y="202"/>
                </a:cubicBezTo>
                <a:lnTo>
                  <a:pt x="13401" y="-2448"/>
                </a:lnTo>
                <a:lnTo>
                  <a:pt x="15972" y="1380"/>
                </a:lnTo>
                <a:lnTo>
                  <a:pt x="12144" y="3952"/>
                </a:lnTo>
                <a:lnTo>
                  <a:pt x="12664" y="1303"/>
                </a:lnTo>
                <a:close/>
              </a:path>
            </a:pathLst>
          </a:custGeom>
          <a:solidFill>
            <a:srgbClr val="b07210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wg_blurred_backgrounds_10"/>
          <p:cNvPicPr/>
          <p:nvPr/>
        </p:nvPicPr>
        <p:blipFill>
          <a:blip r:embed="rId1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74280" y="2141640"/>
            <a:ext cx="7650360" cy="12888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492120" y="0"/>
            <a:ext cx="7421400" cy="6012000"/>
            <a:chOff x="492120" y="0"/>
            <a:chExt cx="7421400" cy="6012000"/>
          </a:xfrm>
        </p:grpSpPr>
        <p:sp>
          <p:nvSpPr>
            <p:cNvPr id="200" name="矩形 4"/>
            <p:cNvSpPr/>
            <p:nvPr/>
          </p:nvSpPr>
          <p:spPr>
            <a:xfrm>
              <a:off x="1030680" y="0"/>
              <a:ext cx="5930640" cy="62748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492120" y="1503000"/>
              <a:ext cx="7421400" cy="450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TextBox 7"/>
            <p:cNvSpPr/>
            <p:nvPr/>
          </p:nvSpPr>
          <p:spPr>
            <a:xfrm rot="20926800">
              <a:off x="2163600" y="3123000"/>
              <a:ext cx="4091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cp:keywords/>
  <dc:language>en-US</dc:language>
  <cp:lastModifiedBy>a</cp:lastModifiedBy>
  <dcterms:modified xsi:type="dcterms:W3CDTF">2014-08-13T01:42:54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