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FB7-15AF-449F-A284-DF327BBC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016-9EC2-4D56-953B-9AD45E1E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CBB84-4584-46B7-B730-9BC67D20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92F18-C141-4C77-A55D-FD809E8C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14A76-E77C-4154-B3CD-E0650EC2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51E39-32D7-4B28-B774-6B756D71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92309-5D75-4A15-B507-0AA84467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6FBF2-93E9-4C06-B6A7-B3F78228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89272-C65B-4050-93C1-FB1532CA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70844-3074-471D-B571-9CA2DF70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18D94-C2C2-4186-B31E-51853383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BBEE0-13C3-4AA6-AEBF-E91B05E1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A97-A332-4E0E-9707-FC0D28A3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6EEBC-5D03-40FC-BCB3-1E6C8D89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4BDDC-D6F7-4B8B-90D8-78AD51D5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ACF55-30EA-46FA-AB33-1F229D04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E2640-4282-4F36-8590-4B7A32A1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E0A01-10CD-42A7-B70C-86651159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0C81B-7155-46F0-A490-3929BE2B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A4570-9A53-4A92-825E-0E1BC442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B4EA6-01E1-4CE6-B0D9-37E0337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E23F9-F79A-49F2-A97B-B0A8B07B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4AEB8-660E-4B47-8084-AC7A544A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63E-8F42-4F2A-B76C-D05BE59C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92815-ABA0-44E5-9930-005CEE7F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A64D8-D9B2-40B8-B042-0A96A7F8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221DD-0450-4923-8BC3-D3B6862E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ADDEA-1141-437C-9601-29B16DB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8197E-E3F7-4CEB-8495-39B1C2A0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0E717-AFD0-493D-8059-77F31551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E3D0F-79F4-4490-B1E6-FB02B278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7731D-79F4-41C5-B253-ED5500A7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184C9-559D-43C6-AE8B-6185114A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A3630-AEC9-47CF-B89B-695C4F55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5CBD-0ED3-4D0E-94F3-71295933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22421-F05A-424E-B200-5C005780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A2AD9-0B15-4EDE-91F2-E37F91AB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47776-EF24-453C-95D6-A61C9065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13242-8D96-406A-B54F-A44AE940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8E3BF-0DDB-4E23-BB28-62F6AF34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AC83B-DF93-413D-9365-0AB6EFDC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553A8-556C-4988-AFC8-4332830A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21F39-B975-4F16-89B8-4A17513C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984D6-8969-44C4-BDB1-7B463565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182DB-E353-4A25-8AC1-5947B54E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00D1-D286-42E9-95BE-6469E20F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C7C22-AD2A-4EAB-A40F-518FCA9D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E414D-E8D9-4AD9-870D-B8D51F7D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8EBA3-4BFD-4DFE-AEE0-1844559E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39532-34CC-4B0A-B463-1738ED8A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5FDB1-B6E0-4AD8-B2CD-3B0197B6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7E4C8-E1BD-4CA2-9E60-D4398D97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06B71-B62A-4BA3-A1CD-6D790B1C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4CD7C-7240-4636-ADD3-ACADB96F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FDEC7-60D1-44F8-A336-703E6855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AC795-523D-4B29-BF3A-861B0535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A588-6939-46AB-BC20-41977503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56CF3-747C-41C2-87F3-FB62171A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66985-C832-4344-A743-92C4A9BA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A205C-8D42-465F-8A72-F84994B3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35652-66DA-4571-BB9F-C8FC19C0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D080C-5248-4DFC-9115-27C91104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B2471-C3F1-4B3C-B795-31241901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37A63-414E-4C22-A45B-8E0F86AF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9D77-2FEB-4640-ABE7-7D3E9CA2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EE6E-E2FE-40EA-9740-540FFE1D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4CA1-CE75-4B9E-AFC6-0DE66139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CDFB-F303-4EF9-8CAA-F3A39162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873-B54E-4CAB-BC78-D7F4B35B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A214-2871-48C8-AFCF-4B8DB6D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5087-6B37-47AB-8CFE-E1AB2B89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4E2B-BABF-49C9-AA97-E345FD1C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C34B-5325-42C3-A558-81C0A53C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FD93-A924-4C5C-8DE9-2ADDA30F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6027-B6B4-473B-A5CB-68620AB9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D7B8E-F7FF-4553-B801-32256B00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3AFA2-DDBB-4A20-A9F6-54BD9BF9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B7A7-3D97-4909-B163-E1412D32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4D0A3-E191-46B2-AF97-99CCB3C7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0C6-71BC-4D8F-8B12-A263403F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AB75-B8EC-4F6F-B2CF-F8272813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AD853-E792-422A-A42E-F7400B03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2531-F98E-404C-A18C-A1703C19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EA7E7-9820-4741-B46A-D673C102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C5E81-D9AD-49B3-8711-C610ADC2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6F20-5B3F-4FBA-A75D-0908242F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E737-6FCD-4D29-A6CA-42148EC8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8B62F-6E68-4A5B-B406-4905EDCE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350C8-153F-4E3C-8A3E-D21F8D88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898E9-A503-4782-ACAB-D4AB9E4B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B3C-2B5A-41B8-AC86-B175224D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2C5AF-E82A-48D4-B11A-4AA5A93B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752E3-5DEF-48AE-8442-67B33945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5919-9A2C-45EC-BDDB-40C170A2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CC130-0944-4920-8F83-D75B27FE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CDE61-9061-4D16-AB77-672BC8F0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470C-94C9-4657-99AF-4C9C4ACC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0825E-B6A6-4DD2-AA00-40DBB8DE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7707E-20AB-407E-95C9-CAA375B4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F13AB-A2CD-462B-81CE-3804160A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7EE71-C90B-4EAD-B010-0CDCDD05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F2C-38AC-45D9-BCCE-B0308401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CD351-6B24-4C84-90D7-BD8B0E41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3A34D-1353-4D18-8E9E-21E1EC65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F0EC4-B6B3-49D4-A6E4-7CAAB1EF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F484D-258C-4FFC-B71E-D6247032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2337E-C5F4-4AA1-9BD2-6FB8E5B1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9964A-DF06-4358-80DE-8F5E7F89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DA2CF-2B6A-401D-9718-425C7848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41EA0-C9D6-412C-A548-122FC67D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8BAC2-067D-4A4F-B066-2B1C52CB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68D29-31BD-42B0-9DAE-E0B02D9E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211-6AD9-4C5B-B3B7-60713741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894D4-E281-4671-BA4C-8B1CD16A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E4F52-4353-495F-B10C-A8D70AB8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F64AE-B2AE-4313-8478-0FB16D86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89272-CDDF-4E12-8C47-1E9DD7E3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51C0E-C013-44D7-801B-7977CA15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A73A2-9E6A-42E0-B4CD-B1782744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9FD9D-C691-4F69-920E-873C81C9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306EC-B558-4C8B-A40D-AA015F43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CA922-150D-4C8A-BBD4-054DD7AA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F9BFB-3DA1-4F9C-83C4-9C3DB11F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A0F-7F97-48EF-AD78-FF2FDD41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7DE9A-48F8-40D1-A0BD-E8475E67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8CCBC-2049-4B42-B350-DFCAD311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2A679-C650-4D93-94AA-7C34F5D9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BCFC7-0E0F-4523-81B2-C0161781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3CF4C-4816-452F-A800-F958AAE0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D653A-1DE5-4BA8-B65F-6E0007C7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8C4B3-7053-404A-86DB-88ADB880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6BA53-8733-4542-A3B6-2EA06F91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E65CF-9233-43E5-ADDF-BCEB8B88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6010-157D-4955-8137-B5ED59A7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89C-E949-47D7-BC21-6CCF49B6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8052C-0DA0-4AF1-82BE-10230D0B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D0A91-36ED-47FA-8F48-4835DA51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23125-6B46-4394-97AF-9CF95932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7BEE2-E3A4-442B-8504-9CAEF67B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3A922-E592-43AC-B851-6545272A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C8403-5E9D-4AC7-A1EB-B179075C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7A94A-5856-4984-8BFD-4266F82B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E3125-F6F2-4F31-A7AF-3C1E9789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40B58-306E-48A3-9002-E9B90809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8497B-FE98-4594-8077-53948032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F39-EF2B-4D3E-A18C-8C091ED7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4A131-9D40-4915-B555-BFFF862E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72A5F-0C4A-4D1F-A186-F4A52A07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45564-AD4F-4747-89AD-8F707A6F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0A10C-E518-404C-BE98-10F8678E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9FA6E-D815-4015-9ABA-FC984C85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2FE50-1BF7-4EA2-BC45-DA0116AB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4ADBF-FC92-4685-ABA7-D21BEB00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8A5A3-1B01-4B3F-B93E-E269B2DE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BEFB8-6D62-465D-8DF3-8FE302E4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A1409-3036-4ADA-AFA9-6FDD4A59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8465-18CE-49E6-B0FB-D1C8CB4EB0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4611-72E4-40F7-B51F-5784949641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A45A-393D-4099-92A4-1C3BE44C47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A33D-52AB-4837-BDB2-F5DDCC5E06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C5BF-C972-4CC6-8B20-05DB5CC250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93A4-BEAE-42DF-AE4D-1C99D752AD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A23D-3925-4EE8-8AEF-D3CAB5AAB2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9F0B-C1D3-4033-8D66-C2C9403466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6E39-584B-4672-8590-7E0F17AD7D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3175-E521-4BA7-91A1-6FEED2738E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63A5-06E1-4011-9F98-DF6809DE2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E873-8F28-4B3C-8AC9-0B9E812CCE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28CC-02FE-4661-8550-C8EAAA2814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C6CE-5054-4709-A65D-D03AD9874F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353F-DFB9-4F1B-99AC-37916A41C6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4919-CAA2-4D91-A6B1-280B44D7E5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9F21-6C81-4F78-938B-8B2C733F8E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E54C-6D93-4966-A3E3-83110E0D2B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A0FB-4E51-4BD5-A7AE-275F34CDD2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6186-FD05-47E7-AAC7-32A885EBFE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AA8B-3A5E-4AB7-A7BD-52411B6FD0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89F2-51C3-43AA-9B36-7480E7A7DB3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4D5B-93A3-48CC-820F-260C3D83A8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33FA-B4B7-4F8B-8FF6-4FA0763AAA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11FE-A4C1-4728-A5D7-2146B6303C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tuanqi"/>
          <p:cNvPicPr/>
          <p:nvPr/>
        </p:nvPicPr>
        <p:blipFill>
          <a:blip r:embed="rId1"/>
          <a:stretch/>
        </p:blipFill>
        <p:spPr>
          <a:xfrm>
            <a:off x="914400" y="1752480"/>
            <a:ext cx="4876920" cy="4876920"/>
          </a:xfrm>
          <a:prstGeom prst="rect">
            <a:avLst/>
          </a:prstGeom>
          <a:ln w="0">
            <a:noFill/>
          </a:ln>
        </p:spPr>
      </p:pic>
      <p:grpSp>
        <p:nvGrpSpPr>
          <p:cNvPr id="534" name="Group 3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35" name="Picture 4" descr="banner_0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Line 5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6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7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Text Box 8"/>
          <p:cNvSpPr/>
          <p:nvPr/>
        </p:nvSpPr>
        <p:spPr>
          <a:xfrm>
            <a:off x="3105360" y="2706840"/>
            <a:ext cx="2863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认识我们的</a:t>
            </a:r>
            <a:r>
              <a:rPr b="1" lang="zh-CN" sz="4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共青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838080" y="5334120"/>
            <a:ext cx="5639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4979880" y="385452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团基本知识讲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08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7"/>
          <p:cNvSpPr/>
          <p:nvPr/>
        </p:nvSpPr>
        <p:spPr>
          <a:xfrm>
            <a:off x="3308760" y="157968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、团员的权利和义务之间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辩证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的关系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既有联系又有区别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2184120" y="2570040"/>
            <a:ext cx="41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、联系：</a:t>
            </a:r>
            <a:r>
              <a:rPr b="0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没有无义务的权利，也没有无权利的义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3212280" y="31798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履行义务是一个使自己不断进取、成熟的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4583520" y="378936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无原则的放弃权利也是一种不负责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1926000" y="4703760"/>
            <a:ext cx="34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、区别：</a:t>
            </a:r>
            <a:r>
              <a:rPr b="0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义务与权利反映的关系范围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3348360" y="53132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权利是团员特有的，部分义务则所有人都应该履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3" descr="tuanqi"/>
          <p:cNvPicPr/>
          <p:nvPr/>
        </p:nvPicPr>
        <p:blipFill>
          <a:blip r:embed="rId2"/>
          <a:stretch/>
        </p:blipFill>
        <p:spPr>
          <a:xfrm>
            <a:off x="8058240" y="577224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20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Text Box 7"/>
          <p:cNvSpPr/>
          <p:nvPr/>
        </p:nvSpPr>
        <p:spPr>
          <a:xfrm>
            <a:off x="2866680" y="1711440"/>
            <a:ext cx="420408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团的基本制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选举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三会一课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民主生活会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民主评议干部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团员证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推荐优秀青年入党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二十八周岁以下青年团员参加团的组织生活会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团的宣传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26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Text Box 7"/>
          <p:cNvSpPr/>
          <p:nvPr/>
        </p:nvSpPr>
        <p:spPr>
          <a:xfrm>
            <a:off x="1279440" y="1736640"/>
            <a:ext cx="725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《团章》第十二条规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国共产主义青年团是按照民主集中制组织起来的统一整体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这一项规定阐明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民主集中制</a:t>
            </a: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是共青团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根本组织原则</a:t>
            </a: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WordArt 8"/>
          <p:cNvSpPr txBox="1"/>
          <p:nvPr/>
        </p:nvSpPr>
        <p:spPr>
          <a:xfrm>
            <a:off x="1295280" y="4648320"/>
            <a:ext cx="1600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民主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32" name="WordArt 9"/>
          <p:cNvSpPr txBox="1"/>
          <p:nvPr/>
        </p:nvSpPr>
        <p:spPr>
          <a:xfrm>
            <a:off x="3733920" y="4648320"/>
            <a:ext cx="1600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集中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33" name="WordArt 10"/>
          <p:cNvSpPr txBox="1"/>
          <p:nvPr/>
        </p:nvSpPr>
        <p:spPr>
          <a:xfrm>
            <a:off x="6400800" y="4343400"/>
            <a:ext cx="2057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团结的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共青团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3009600" y="4572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5618160" y="4572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13" descr="tuanqi"/>
          <p:cNvPicPr/>
          <p:nvPr/>
        </p:nvPicPr>
        <p:blipFill>
          <a:blip r:embed="rId2"/>
          <a:stretch/>
        </p:blipFill>
        <p:spPr>
          <a:xfrm>
            <a:off x="8058240" y="577224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38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Text Box 7"/>
          <p:cNvSpPr/>
          <p:nvPr/>
        </p:nvSpPr>
        <p:spPr>
          <a:xfrm>
            <a:off x="838080" y="16002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合格团员必须符合的标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8"/>
          <p:cNvSpPr/>
          <p:nvPr/>
        </p:nvSpPr>
        <p:spPr>
          <a:xfrm rot="985800">
            <a:off x="1823760" y="3007800"/>
            <a:ext cx="1460520" cy="1434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综艺简体"/>
              </a:rPr>
              <a:t>信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综艺简体"/>
              </a:rPr>
              <a:t>坚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9"/>
          <p:cNvSpPr/>
          <p:nvPr/>
        </p:nvSpPr>
        <p:spPr>
          <a:xfrm rot="21118200">
            <a:off x="4644360" y="2514600"/>
            <a:ext cx="1460520" cy="1434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综艺简体"/>
              </a:rPr>
              <a:t>认真学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"/>
          <p:cNvSpPr/>
          <p:nvPr/>
        </p:nvSpPr>
        <p:spPr>
          <a:xfrm rot="387000">
            <a:off x="3647880" y="4759200"/>
            <a:ext cx="1460520" cy="1434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综艺简体"/>
              </a:rPr>
              <a:t>品德良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1"/>
          <p:cNvSpPr/>
          <p:nvPr/>
        </p:nvSpPr>
        <p:spPr>
          <a:xfrm rot="20532000">
            <a:off x="6468480" y="4344480"/>
            <a:ext cx="1460520" cy="1434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方正综艺简体"/>
              </a:rPr>
              <a:t>团结同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12" descr="tuanqi"/>
          <p:cNvPicPr/>
          <p:nvPr/>
        </p:nvPicPr>
        <p:blipFill>
          <a:blip r:embed="rId2"/>
          <a:stretch/>
        </p:blipFill>
        <p:spPr>
          <a:xfrm>
            <a:off x="8058240" y="577224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49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3" name="Picture 7" descr="02"/>
          <p:cNvPicPr/>
          <p:nvPr/>
        </p:nvPicPr>
        <p:blipFill>
          <a:blip r:embed="rId2"/>
          <a:stretch/>
        </p:blipFill>
        <p:spPr>
          <a:xfrm>
            <a:off x="2438280" y="1371600"/>
            <a:ext cx="4648320" cy="269388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8"/>
          <p:cNvSpPr/>
          <p:nvPr/>
        </p:nvSpPr>
        <p:spPr>
          <a:xfrm>
            <a:off x="1371600" y="44481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中国共产主义青年团团旗旗面为红色，象征革命胜利；左上角缀黄色五角星，周围环绕黄色圆圈，象征中国青年一代紧密团结在中国共产党周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611280" y="981000"/>
            <a:ext cx="8521560" cy="167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宋体"/>
              </a:rPr>
              <a:t>•  </a:t>
            </a:r>
            <a:r>
              <a:rPr b="1" lang="zh-CN" sz="2700" spc="-1" strike="noStrike">
                <a:solidFill>
                  <a:srgbClr val="ff0000"/>
                </a:solidFill>
                <a:latin typeface="宋体"/>
              </a:rPr>
              <a:t>来历 ：</a:t>
            </a:r>
            <a:r>
              <a:rPr b="1" lang="zh-CN" sz="2700" spc="-1" strike="noStrike">
                <a:solidFill>
                  <a:srgbClr val="3333cc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团旗是毛泽东、周恩来等老一辈无产阶级革命家亲自审定，并经党中央批准的。在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1949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年召开的中国新民主主义青年团第一次全国代表大会上，团员代表代表们提出了应有一面共青团自己的旗帜的想法，被大会采纳。会议结束后，团中央开始着手实施这项工作。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1949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5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月在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人民日报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头版刊登了征求团旗图案的启事。各地的团组织、团员、青年和社会各界人士纷纷响应，共设计出一百多种团旗图案。经过多方评选和几度修改，最后选出几种式样，于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1950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月呈报党中央审定。毛泽东同志于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28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日在其中一个团旗式样上批示“同意此式”，周恩来同志在同一式样上批示“同意这个”，并提出具体修改意见。团中央根据党中央的指示，于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1950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日发出了关于颁发团旗的决定，由此团旗诞生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3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57" name="Picture 4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Line 5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6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7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62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6" name="Picture 7" descr="tuanhui01"/>
          <p:cNvPicPr/>
          <p:nvPr/>
        </p:nvPicPr>
        <p:blipFill>
          <a:blip r:embed="rId2"/>
          <a:stretch/>
        </p:blipFill>
        <p:spPr>
          <a:xfrm>
            <a:off x="3200400" y="1219320"/>
            <a:ext cx="3048120" cy="303372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8"/>
          <p:cNvSpPr/>
          <p:nvPr/>
        </p:nvSpPr>
        <p:spPr>
          <a:xfrm>
            <a:off x="1143000" y="43434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团徽的内容为团旗、齿轮、麦穗、初升的太阳及其光芒、写有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中国共青团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五字的绶带。团徽颜色为金红两色。它象征着共青团在马克思列宁主义、毛泽东思想的光辉照耀下，团结各族青年，朝着党所指引的方向奋勇前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1116000" y="16286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中国共产主义青年团团徽是经党中央审定批准，在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959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年“五四”运动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周年纪念日这一天由共青团中央委员会颁布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3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70" name="Picture 4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Line 5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6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7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Rectangle 8"/>
          <p:cNvSpPr/>
          <p:nvPr/>
        </p:nvSpPr>
        <p:spPr>
          <a:xfrm>
            <a:off x="1158480" y="10270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来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76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0" name="Picture 7" descr="C:/Users/a/AppData/Roaming/kingsoft/office6/templates/download/默认/http:/www.xtw.fdzx.cq.cn/tyz.jpg"/>
          <p:cNvPicPr/>
          <p:nvPr/>
        </p:nvPicPr>
        <p:blipFill>
          <a:blip r:embed="rId2"/>
          <a:stretch/>
        </p:blipFill>
        <p:spPr>
          <a:xfrm>
            <a:off x="1828800" y="2133720"/>
            <a:ext cx="2209680" cy="2819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8" descr="C:/Users/a/AppData/Roaming/kingsoft/office6/templates/download/默认/http:/www.xtw.fdzx.cq.cn/new_pa57.jpg"/>
          <p:cNvPicPr/>
          <p:nvPr/>
        </p:nvPicPr>
        <p:blipFill>
          <a:blip r:embed="rId3"/>
          <a:stretch/>
        </p:blipFill>
        <p:spPr>
          <a:xfrm>
            <a:off x="5334120" y="2152800"/>
            <a:ext cx="2060280" cy="277164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9"/>
          <p:cNvSpPr/>
          <p:nvPr/>
        </p:nvSpPr>
        <p:spPr>
          <a:xfrm>
            <a:off x="1981080" y="510552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ff"/>
                </a:solidFill>
                <a:latin typeface="Times New Roman"/>
              </a:rPr>
              <a:t>旧版团员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5467320" y="518148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ff"/>
                </a:solidFill>
                <a:latin typeface="Times New Roman"/>
              </a:rPr>
              <a:t>新版团员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85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9" name="Picture 7" descr="tuanqi"/>
          <p:cNvPicPr/>
          <p:nvPr/>
        </p:nvPicPr>
        <p:blipFill>
          <a:blip r:embed="rId2"/>
          <a:stretch/>
        </p:blipFill>
        <p:spPr>
          <a:xfrm>
            <a:off x="8058240" y="577224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8"/>
          <p:cNvSpPr/>
          <p:nvPr/>
        </p:nvSpPr>
        <p:spPr>
          <a:xfrm>
            <a:off x="1600200" y="2438280"/>
            <a:ext cx="70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团员证封面为墨绿色，象征着青春和朝气蓬勃的青年运动；封面上方印有红色烫金团徽，象征着共青团是团结教育青年的核心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43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Text Box 7"/>
          <p:cNvSpPr/>
          <p:nvPr/>
        </p:nvSpPr>
        <p:spPr>
          <a:xfrm>
            <a:off x="2159640" y="173196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共青团的性质是什么？怎样理解这一性质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>
            <a:hlinkClick r:id="rId2" action="ppaction://hlinksldjump"/>
          </p:cNvPr>
          <p:cNvSpPr/>
          <p:nvPr/>
        </p:nvSpPr>
        <p:spPr>
          <a:xfrm>
            <a:off x="2281680" y="24382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共青团的基本任务是什么？怎样理解这一任务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9">
            <a:hlinkClick r:id="rId3" action="ppaction://hlinksldjump"/>
          </p:cNvPr>
          <p:cNvSpPr/>
          <p:nvPr/>
        </p:nvSpPr>
        <p:spPr>
          <a:xfrm>
            <a:off x="914400" y="3200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共青团员应履行的义务与享有的权利各是什么？如何正确对待团员的权利和义务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0">
            <a:hlinkClick r:id="rId4" action="ppaction://hlinksldjump"/>
          </p:cNvPr>
          <p:cNvSpPr/>
          <p:nvPr/>
        </p:nvSpPr>
        <p:spPr>
          <a:xfrm>
            <a:off x="914400" y="4343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共青团组织制度的根本原则是什么？怎样理解这一原则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1">
            <a:hlinkClick r:id="rId5" action="ppaction://hlinksldjump"/>
          </p:cNvPr>
          <p:cNvSpPr/>
          <p:nvPr/>
        </p:nvSpPr>
        <p:spPr>
          <a:xfrm>
            <a:off x="914400" y="5029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合格团员必须符合的标准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914400" y="5715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理解团旗、团徽、团员证的含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1275120" y="1052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新的世纪 新的使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93" name="Picture 4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Line 5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6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7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Text Box 8"/>
          <p:cNvSpPr/>
          <p:nvPr/>
        </p:nvSpPr>
        <p:spPr>
          <a:xfrm>
            <a:off x="1039680" y="1739880"/>
            <a:ext cx="792504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00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003300"/>
                </a:solidFill>
                <a:latin typeface="宋体"/>
              </a:rPr>
              <a:t>作为一名</a:t>
            </a:r>
            <a:r>
              <a:rPr b="1" lang="zh-CN" sz="25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3300"/>
                </a:solidFill>
                <a:latin typeface="Times New Roman"/>
              </a:rPr>
              <a:t>21 </a:t>
            </a:r>
            <a:r>
              <a:rPr b="1" lang="zh-CN" sz="2500" spc="-1" strike="noStrike">
                <a:solidFill>
                  <a:srgbClr val="003300"/>
                </a:solidFill>
                <a:latin typeface="宋体"/>
              </a:rPr>
              <a:t>世纪的共青团员，为适应现代化社会的需要和新时代的要求，要努力树立</a:t>
            </a:r>
            <a:r>
              <a:rPr b="1" lang="zh-CN" sz="25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zh-CN" sz="2500" spc="-1" strike="noStrike">
                <a:solidFill>
                  <a:srgbClr val="003300"/>
                </a:solidFill>
                <a:latin typeface="宋体"/>
              </a:rPr>
              <a:t>五大意识</a:t>
            </a:r>
            <a:r>
              <a:rPr b="1" lang="zh-CN" sz="2500" spc="-1" strike="noStrike">
                <a:solidFill>
                  <a:srgbClr val="003300"/>
                </a:solidFill>
                <a:latin typeface="Times New Roman"/>
              </a:rPr>
              <a:t>”</a:t>
            </a:r>
            <a:r>
              <a:rPr b="1" lang="zh-CN" sz="2500" spc="-1" strike="noStrike">
                <a:solidFill>
                  <a:srgbClr val="003300"/>
                </a:solidFill>
                <a:latin typeface="宋体"/>
              </a:rPr>
              <a:t>，担负</a:t>
            </a:r>
            <a:r>
              <a:rPr b="1" lang="zh-CN" sz="25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zh-CN" sz="2500" spc="-1" strike="noStrike">
                <a:solidFill>
                  <a:srgbClr val="003300"/>
                </a:solidFill>
                <a:latin typeface="宋体"/>
              </a:rPr>
              <a:t>五大使命</a:t>
            </a:r>
            <a:r>
              <a:rPr b="1" lang="zh-CN" sz="2500" spc="-1" strike="noStrike">
                <a:solidFill>
                  <a:srgbClr val="003300"/>
                </a:solidFill>
                <a:latin typeface="Times New Roman"/>
              </a:rPr>
              <a:t>”</a:t>
            </a:r>
            <a:r>
              <a:rPr b="1" lang="zh-CN" sz="2500" spc="-1" strike="noStrike">
                <a:solidFill>
                  <a:srgbClr val="0033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、</a:t>
            </a:r>
            <a:r>
              <a:rPr b="1" lang="zh-CN" sz="2500" spc="-1" strike="noStrike">
                <a:solidFill>
                  <a:srgbClr val="ff0000"/>
                </a:solidFill>
                <a:latin typeface="宋体"/>
              </a:rPr>
              <a:t>五大意识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政治意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　　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 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民主意识　　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科技意识　　　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创新意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　　　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竞争与合作的意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、</a:t>
            </a:r>
            <a:r>
              <a:rPr b="1" lang="zh-CN" sz="2500" spc="-1" strike="noStrike">
                <a:solidFill>
                  <a:srgbClr val="ff0000"/>
                </a:solidFill>
                <a:latin typeface="宋体"/>
              </a:rPr>
              <a:t>五大使命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坚定信念，构筑精神支柱；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发奋学习，掌握过硬的本领；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艰苦奋斗，自觉服务社会；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自立自强，不断创造新的成果；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高素质，勇于肩负重任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4457880" y="501480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"/>
          <p:cNvGrpSpPr/>
          <p:nvPr/>
        </p:nvGrpSpPr>
        <p:grpSpPr>
          <a:xfrm>
            <a:off x="990720" y="0"/>
            <a:ext cx="6476400" cy="3961800"/>
            <a:chOff x="990720" y="0"/>
            <a:chExt cx="6476400" cy="3961800"/>
          </a:xfrm>
        </p:grpSpPr>
        <p:sp>
          <p:nvSpPr>
            <p:cNvPr id="700" name="Rectangle 4"/>
            <p:cNvSpPr/>
            <p:nvPr/>
          </p:nvSpPr>
          <p:spPr>
            <a:xfrm>
              <a:off x="990720" y="0"/>
              <a:ext cx="6476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5"/>
            <p:cNvGrpSpPr/>
            <p:nvPr/>
          </p:nvGrpSpPr>
          <p:grpSpPr>
            <a:xfrm>
              <a:off x="990720" y="0"/>
              <a:ext cx="6476040" cy="3961800"/>
              <a:chOff x="990720" y="0"/>
              <a:chExt cx="6476040" cy="3961800"/>
            </a:xfrm>
          </p:grpSpPr>
          <p:sp>
            <p:nvSpPr>
              <p:cNvPr id="702" name="Rectangle 6"/>
              <p:cNvSpPr/>
              <p:nvPr/>
            </p:nvSpPr>
            <p:spPr>
              <a:xfrm>
                <a:off x="990720" y="0"/>
                <a:ext cx="6476040" cy="94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入团申请书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7"/>
              <p:cNvSpPr/>
              <p:nvPr/>
            </p:nvSpPr>
            <p:spPr>
              <a:xfrm>
                <a:off x="990720" y="943560"/>
                <a:ext cx="647604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一、入团申请书的写法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1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、标题：一般写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入团申请书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2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、称谓：一般写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敬爱的团支部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3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、正文：主要包括：（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1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）对团的认识；（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2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）入团动机和对待入团的态度，表明自己的入团愿望；（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3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）个人在政治、思想、学习等方面的主要表现情况；（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4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）今后努力方向以及如何以实际行动争取早日加入团组织等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4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、结尾：一般写：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恳请团组织批准我的入团申请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”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作为正文结束，加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此致，敬礼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”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等用语结束正文。申请书的最后要署名及注明日期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800000"/>
                    </a:solidFill>
                    <a:latin typeface="楷体_GB2312"/>
                    <a:ea typeface="楷体_GB2312"/>
                  </a:rPr>
                  <a:t>例文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Rectangle 8"/>
              <p:cNvSpPr/>
              <p:nvPr/>
            </p:nvSpPr>
            <p:spPr>
              <a:xfrm>
                <a:off x="990720" y="3125880"/>
                <a:ext cx="6476040" cy="83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0"/>
            <a:ext cx="914400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入  团  申  请  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团支部：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是初二四班的赖俊文，在班里任职宣传委员，成绩在班上排中上，在上学期期末考试里得全班第七名。一直以来我都认为加入共青团是一件光荣的事，因为共青团是中国共产党领导的先进青年的组织，是共产党的助手和后备军。所以我对已经加入了中国共青团的同学非常羡慕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这次有机会加入共青团我十分兴奋，因为进团可以学习建设有中国特色社会主义的理论，广泛开展党的基本路线教育，爱国主义、集体主义和社会主义思想教育，近代史、现代史教育和国情教育，民主和法制教育，增强我们的民主自尊，自信和自强精神，树立正确的理想、信念和价值观念。加入共青团还可以增加我们对学习的信心，帮助我们学习现代科学文化知识，不断提高青年的思想道德素质和科学文化素质。所以我要积极加入共青团，为实现共产主义而奋斗终身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中国共青团成立于</a:t>
            </a:r>
            <a:r>
              <a:rPr b="1" lang="en-US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922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的，它以马克思列宁主义、毛泽东思想为行动指南，实事求是，团结全国各族青年，为把我国建设成为富强、民主、文明的社会主义现代化国家，为最终实现共产主义的社会制度而奋斗。中国共产主义青年团的基本任务是：坚定不移地贯彻党在社会主义的基本路线，团结广大青年，造就有理想、有道德、有文化、有纪律的接班人，努力为党输送新鲜血液，为国家培养青年建设人才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在团组织批准我入团后，我将更加刻苦学习、工作要勤奋、品德要高尚、团结同学、助人为乐，要有自我批评精神。努力成为对社会建设有用的人，做共产主义事业的接班人。在组织不批准时，我也要做到不灰心，积极努力争取，为早日实现自己的伟大理想而奋斗，加入到团组织去，为人民服务。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                                   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申请人：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  * 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                               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  *                                         *  *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月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</a:t>
            </a:r>
            <a:r>
              <a:rPr b="1" lang="zh-CN" sz="1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日</a:t>
            </a: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0" y="0"/>
            <a:ext cx="876312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入团申请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敬爱的校团委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您好</a:t>
            </a:r>
            <a:r>
              <a:rPr b="1" lang="en-US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!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是初三五班的陈立邦。在初二时</a:t>
            </a:r>
            <a:r>
              <a:rPr b="1" lang="en-US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通过对团章的学习</a:t>
            </a:r>
            <a:r>
              <a:rPr b="1" lang="en-US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团组织、老师、父母和团员同学的帮助下，认识到作为跨时代的青年必须积极争取加入青年人自己的组织</a:t>
            </a:r>
            <a:r>
              <a:rPr b="1" lang="en-US" sz="1800" spc="-1" strike="noStrike">
                <a:solidFill>
                  <a:srgbClr val="800000"/>
                </a:solidFill>
                <a:latin typeface="Garamond"/>
                <a:ea typeface="楷体_GB2312"/>
              </a:rPr>
              <a:t>——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中国共产主义青年团。但那时我的成绩不算太拔尖，便决定再等一等。以后，每当看到同学胸前戴着团徽，都会觉得很羡慕他们，觉得他们是那么的光荣。于是，我便暗暗下决心把成绩提上来，尽快加入共青团。现在，我的成绩都上来了，所以我才有胆量试一试，希望能够加入共青团这个大家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共青团是党领导下的先进青年的群众性组织，是党的可靠的助手和后备军，是培养青年学习共产主义，使他们具有</a:t>
            </a:r>
            <a:r>
              <a:rPr b="1" lang="zh-CN" sz="1800" spc="-1" strike="noStrike">
                <a:solidFill>
                  <a:srgbClr val="800000"/>
                </a:solidFill>
                <a:latin typeface="Garamond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四有</a:t>
            </a:r>
            <a:r>
              <a:rPr b="1" lang="zh-CN" sz="1800" spc="-1" strike="noStrike">
                <a:solidFill>
                  <a:srgbClr val="800000"/>
                </a:solidFill>
                <a:latin typeface="Garamond"/>
                <a:ea typeface="楷体_GB2312"/>
              </a:rPr>
              <a:t>”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五爱</a:t>
            </a:r>
            <a:r>
              <a:rPr b="1" lang="zh-CN" sz="1800" spc="-1" strike="noStrike">
                <a:solidFill>
                  <a:srgbClr val="800000"/>
                </a:solidFill>
                <a:latin typeface="Garamond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品质的大学校。正因为这样，我恳切要求加入共青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向团委保证：我一定会用实际行动积极争取早日加入共青团，请考验、请批准。如果我被批准了，我决心遵守团章、执行团的决议、遵守团的纪律、履行团的义务、参加团的工作，多做有利于团、有利于群众的事情，处处起模范带头作用，作个名副其实的共青团员，为</a:t>
            </a:r>
            <a:r>
              <a:rPr b="1" lang="zh-CN" sz="1800" spc="-1" strike="noStrike">
                <a:solidFill>
                  <a:srgbClr val="800000"/>
                </a:solidFill>
                <a:latin typeface="Garamond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四化</a:t>
            </a:r>
            <a:r>
              <a:rPr b="1" lang="zh-CN" sz="1800" spc="-1" strike="noStrike">
                <a:solidFill>
                  <a:srgbClr val="800000"/>
                </a:solidFill>
                <a:latin typeface="Garamond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贡献力量，作二十一世纪的栋梁；如果我一时未被批准，说明我还有不足之处，但我决不灰心，再接再厉，继续争取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此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              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敬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                                           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 *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中学    初三五班          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 * *                 * * * *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月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0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54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Text Box 7"/>
          <p:cNvSpPr/>
          <p:nvPr/>
        </p:nvSpPr>
        <p:spPr>
          <a:xfrm>
            <a:off x="1219320" y="203508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《团章》在总则开头就明确指出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国共产主义青年团是中国共产党领导的先进青年的群众组织，是广大青年在实践中学习中国特色社会主义和共产主义的学校，是中国共产党的助手和后备军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8"/>
          <p:cNvSpPr/>
          <p:nvPr/>
        </p:nvSpPr>
        <p:spPr>
          <a:xfrm flipH="1">
            <a:off x="2514240" y="3581280"/>
            <a:ext cx="228600" cy="3812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9"/>
          <p:cNvSpPr/>
          <p:nvPr/>
        </p:nvSpPr>
        <p:spPr>
          <a:xfrm flipH="1">
            <a:off x="5409720" y="4191120"/>
            <a:ext cx="228600" cy="3808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0"/>
          <p:cNvSpPr/>
          <p:nvPr/>
        </p:nvSpPr>
        <p:spPr>
          <a:xfrm flipH="1">
            <a:off x="3276360" y="4800600"/>
            <a:ext cx="228600" cy="3808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11" descr="tuanqi"/>
          <p:cNvPicPr/>
          <p:nvPr/>
        </p:nvPicPr>
        <p:blipFill>
          <a:blip r:embed="rId2"/>
          <a:stretch/>
        </p:blipFill>
        <p:spPr>
          <a:xfrm>
            <a:off x="7772400" y="548640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12"/>
          <p:cNvSpPr/>
          <p:nvPr/>
        </p:nvSpPr>
        <p:spPr>
          <a:xfrm>
            <a:off x="1697760" y="98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共青团的性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65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Text Box 7"/>
          <p:cNvSpPr/>
          <p:nvPr/>
        </p:nvSpPr>
        <p:spPr>
          <a:xfrm>
            <a:off x="1066680" y="144792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共青团的</a:t>
            </a:r>
            <a:r>
              <a:rPr b="0" lang="zh-CN" sz="2000" spc="-1" strike="noStrike">
                <a:solidFill>
                  <a:srgbClr val="000099"/>
                </a:solidFill>
                <a:latin typeface="Times New Roman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十五大</a:t>
            </a:r>
            <a:r>
              <a:rPr b="0" lang="zh-CN" sz="2000" spc="-1" strike="noStrike">
                <a:solidFill>
                  <a:srgbClr val="000099"/>
                </a:solidFill>
                <a:latin typeface="Times New Roman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通过的新《团章》明确指出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中国共产主义青年团在现阶段的基本任务是：坚定不移地贯彻党在社会主义初级阶段的基本路线，以经济建设为中心，坚持四项基本原则，坚持改革开放，在建设中国特色社会主义的伟大实践中，造就有理想、有道德、有文化、有纪律的接班人，努力为党输送新鲜血液，为国家培养青年建设人才，团结带领广大青年，自力更生，艰苦创业，积极推动社会主义物质文明、政治文明和精神文明建设，为全面建设小康社会、加快推进社会主义现代化贡献智慧和力量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1371600" y="3962520"/>
            <a:ext cx="2133720" cy="205740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69440 h 2057400"/>
              <a:gd name="textAreaBottom" fmla="*/ 15879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育青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的任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9"/>
          <p:cNvSpPr/>
          <p:nvPr/>
        </p:nvSpPr>
        <p:spPr>
          <a:xfrm>
            <a:off x="3886200" y="4495680"/>
            <a:ext cx="2133720" cy="205740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69440 h 2057400"/>
              <a:gd name="textAreaBottom" fmla="*/ 15879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领青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的任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10"/>
          <p:cNvSpPr/>
          <p:nvPr/>
        </p:nvSpPr>
        <p:spPr>
          <a:xfrm>
            <a:off x="6172200" y="3733920"/>
            <a:ext cx="2133720" cy="205740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69440 h 2057400"/>
              <a:gd name="textAreaBottom" fmla="*/ 15879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务青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的任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11" descr="tuanqi"/>
          <p:cNvPicPr/>
          <p:nvPr/>
        </p:nvPicPr>
        <p:blipFill>
          <a:blip r:embed="rId2"/>
          <a:stretch/>
        </p:blipFill>
        <p:spPr>
          <a:xfrm>
            <a:off x="8058240" y="577224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12"/>
          <p:cNvSpPr/>
          <p:nvPr/>
        </p:nvSpPr>
        <p:spPr>
          <a:xfrm>
            <a:off x="982800" y="981000"/>
            <a:ext cx="31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共青团的目标和任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76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7"/>
          <p:cNvSpPr/>
          <p:nvPr/>
        </p:nvSpPr>
        <p:spPr>
          <a:xfrm>
            <a:off x="826920" y="1484280"/>
            <a:ext cx="777240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宋体"/>
              </a:rPr>
              <a:t>一、共青团的奋斗目标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团章总则中提出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中国共产主义青年团坚决拥护中国共产党的纲领，以马克思列宁主义、毛泽东思想和邓小平理论为行动指南，解放思想，实事求是，团结全国各族青年，为把我国建设成为富强、民主、文明的社会主义现代化国家，为最终实现共产主义的社会制度而奋斗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。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这个目标包含两层含义：一要为建设社会主义现代化国家而奋斗；二要为实现共产主义而奋斗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82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Text Box 7"/>
          <p:cNvSpPr/>
          <p:nvPr/>
        </p:nvSpPr>
        <p:spPr>
          <a:xfrm>
            <a:off x="826920" y="1611360"/>
            <a:ext cx="754380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宋体"/>
              </a:rPr>
              <a:t>二、共青团的基本任务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</a:rPr>
              <a:t>中国共产主义青年团章程明确规定，在现阶段共青团的基本任务是：坚定不移地贯彻党在社会主义初级阶段的基本路线，团结带领广大青年，以经济建设为中心，坚持四项基本原则，坚持改革开放，自力更生，艰苦创业，促进生产力发展和社会进步，在建设有中国特色社会主义的伟大实践中，造就有理想、有道德、有文化、有纪律的接班人，努力为党输送新鲜血液，为国家培养青年建设人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88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7"/>
          <p:cNvSpPr/>
          <p:nvPr/>
        </p:nvSpPr>
        <p:spPr>
          <a:xfrm>
            <a:off x="179280" y="1055520"/>
            <a:ext cx="90360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中国共产主义青年团章程第二条明确规定：团员必须履行下列义务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、努力学习马克思列宁主义、毛泽东思想和邓小平理论，学习团的基本知识，学习科学、文化和业务知识，不断提高为人民服务的本领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2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、宣传、执行党的基本路线和各项方针政策，积极参加改革开放和社会主义现代化建设，努力完成团组织交给的任务，在学习、劳动、工作及其他社会活动中起模范作有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3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、自觉遵守国家的法律和团的纪律，执行团的决议，发扬社会主义新风尚，提倡共产主义道德，维护国家和人民的利益，为保护国家财产和人民群众的安全挺身而出，英勇斗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4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、接受国防教育，增强国防意识，积极履行保卫祖国的义务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5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、虚心向人民群众学习，热心帮助青年进步，及时反映青年的意见和要求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6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、开展批评和自我批评，勇于改正缺点和错误，自觉维护团结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826920" y="981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团员的义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968400" y="1914480"/>
            <a:ext cx="792468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为一名中学生要针对实际做到以下几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宋体"/>
              </a:rPr>
              <a:t>了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一）认真学习理论和科学文化知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二）当好党的宣传员，充分发挥先锋模范作用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三）做一名遵纪守法，勇于奉献的好公民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四）接受国防教育，积极履行保卫祖国的神圣义务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五）密切联系群众，做群众的知心朋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六）完善自我，共同提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596" name="Picture 4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Line 5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6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7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pic>
          <p:nvPicPr>
            <p:cNvPr id="601" name="Picture 3" descr="banner_0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8402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Line 4"/>
            <p:cNvSpPr/>
            <p:nvPr/>
          </p:nvSpPr>
          <p:spPr>
            <a:xfrm>
              <a:off x="5867280" y="990720"/>
              <a:ext cx="3276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5"/>
            <p:cNvSpPr/>
            <p:nvPr/>
          </p:nvSpPr>
          <p:spPr>
            <a:xfrm>
              <a:off x="685800" y="1143000"/>
              <a:ext cx="0" cy="548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6"/>
            <p:cNvSpPr/>
            <p:nvPr/>
          </p:nvSpPr>
          <p:spPr>
            <a:xfrm>
              <a:off x="228600" y="14479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Text Box 7"/>
          <p:cNvSpPr/>
          <p:nvPr/>
        </p:nvSpPr>
        <p:spPr>
          <a:xfrm>
            <a:off x="879480" y="1557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（一）参加团的有关会议和团组织开展的各类活动，接受团组织的教育和培训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（二）在团内有选举权，被选举权和表决权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（三）在团的会议和团的报刊上，参加关于团的工作各青年关心的问题的讨论，对团的工作提出建议，监督、批评团的领导机关和团的工作人员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（四）对团的决议如有不同意见，在坚决执行的前提出，可以保留并且可以向团的上级组织提出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（五）参加团的组织讨论对自己处分的会议，并且可以申辩，其它团员可以为其作证和辩护。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（六）向团的任何一级组织直到中央委员会，提出请求，申诉和控告，并要求有关组织给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以负责的答复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1216800" y="102708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团员的权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23:55:23Z</dcterms:created>
  <dc:creator/>
  <dc:description/>
  <cp:keywords/>
  <dc:language>en-US</dc:language>
  <cp:lastModifiedBy>a</cp:lastModifiedBy>
  <dcterms:modified xsi:type="dcterms:W3CDTF">2014-08-11T07:36:20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