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5CA6-96A2-4775-B2D2-4AA4F89B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F152-FC9D-44EA-80E4-45CD3C47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810D0-4019-4BD1-AA57-108864F0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013BA-8F2E-4384-AD90-F5464D34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16309-615E-49E2-BA4E-B1C1A1E6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CBF73-C51B-49DF-9D0E-FA289014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03C3C-05E2-4458-B136-FB481A1D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5138D-BC0E-4754-A0BA-12BCD380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96B41-F7BB-42F9-9184-68BCA29C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F00EB-DA7F-4871-B76C-5C935A84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5FA17-BDBA-442D-8163-EA2DB481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CAA1E-1A98-42ED-B450-2752D0EF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43D7-FD61-4023-B917-53920D71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BD2C7-2302-4AE2-A183-EAAAC957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1818B-9569-4A07-9B6B-ABE3A2E1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341F1-9867-40B3-9038-C8841FF3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E8939-7462-423A-A62E-75998BF8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F0ABE-BDAA-4B54-96D1-DD1C7BA1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7EEBE-A312-420E-ABD2-E8B1A5C2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9EAD2-BAB2-4F22-8C33-D6EABD8E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BF47D-1E8B-48FA-A930-93F1A24C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BCC30-7863-4D59-8258-7F935D2F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166D3-876F-42C1-9B2B-D62E9918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F605-7C8F-4937-8A4F-2797DFE7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94120-D281-4287-B62B-955FE7CF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1E4F8-48BD-4EB0-A27C-F3F5242C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8FE05-08A3-4731-A0D6-62197E2A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64674-D46F-4661-9E78-5E75A393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A74BC-5EEB-4DA7-8107-F49FEC36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B1919-A35F-4D79-8DA9-68BEAE2C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FD91E-F20F-405A-A761-647540F7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2BCBE-4EDC-49AC-B588-FDDFD741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9F17A-D9A6-4105-B600-D699A1A0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53728-8280-4C2D-9BCB-796C3293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1A43-0A6F-4A99-B70C-841FC4A6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AA865-04DA-4BDE-83B2-303D9D57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6A860-D701-4FC3-BDDF-FAA92C42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F1999-7556-42BA-8BBD-0A622159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AB7E2-523E-4436-AA6C-BC512840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1F6C9-FB7E-4F9C-AEB9-EE7855F7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7FCF7-8A63-4D0F-8A2C-856EBE25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BA1C3-E186-4AE7-8EB4-95E98FFB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913E5-EFD5-4D14-9A79-A1BF41F8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5617B-713D-4616-B6F6-AA221213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E7D9F-F449-4403-BE85-901E6336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A201-A2CF-42FD-9A4A-9AD6BB7C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F07AB-0873-4ED0-8E57-BFD5A5A4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EFD16-13D1-4464-B06F-204B9D4D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89328-658E-4973-9783-01542212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60696-A17B-4C4E-A773-50D64EB7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FE32C-951B-47C1-B3EF-9C13D398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A23587-FAEC-4B14-87BA-47C17821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8F40A9-7D40-4D27-AC88-F0FC486F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4203A2-92FD-4579-9FF6-370BC042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3D5CD-89F0-45E5-A8A5-745D7364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A91DE0-C8AC-4610-9A02-2E864120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9E57-75D9-49E6-8E78-637E2851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253321-8239-45D5-AD17-B6D95A77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4A8C1A-40D9-4ED5-851F-39C832A7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6A8119-9BA3-45DF-8F21-DB64FD62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C026C9-0157-4489-8B57-D421F119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8CC20F-9B6A-43D9-B51B-818A2E05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AD5B02-89F3-46B8-8BF6-1DF5AE22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F6285-A8DC-43B5-9613-2EC46C28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A328-3BE1-463D-89C4-08C0E81F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4E28-1CB0-4FA6-868D-CD69C8A8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9104-26C8-4862-A708-9007D3CF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BF52-260B-46AF-A890-1D8C5A7F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E27-57A0-40B3-A0EF-98BD1E9C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734B-1C2B-435D-8274-A66A3471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1DE5-5DCF-40C9-85B8-16F094CA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765F-A654-4611-B32C-F949A937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B6BD-A799-434F-88CF-D8676417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789F-92CF-42E8-AAF8-62C5EBBD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58194-5BB2-452C-BAD6-28E70863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5C039-9099-4384-B6AA-A4277BCB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E5B36-45BC-4DD0-8F01-50465B9E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7EFF9-7BEB-4CF7-8D57-1592292F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90306-07FF-48F1-8DE6-EC37B998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8AA-3664-40E0-90D2-57ADB97A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02C05-F570-4630-9B5E-0E85659B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3837A-9673-4BC9-A153-7881C349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F7929-44ED-46EB-B8E4-12C6FA6C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8661B-97F9-4E62-8BF5-95CAC154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AB034-60FF-4C1B-A3B2-E88C9FB1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B4129-3E6D-4BE0-9F21-34AB60E6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38F9E-363A-43C9-8A60-D2D22D95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AB358-C0F8-4F3D-8EC9-CA40348B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72B99-C068-4B12-B40F-27C6723A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7B114-FF05-4BF6-9FDA-59D21F4F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DF50-2729-45FC-9640-DB6E1541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6FC26-1265-4CC9-80C6-E80A20C0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5795E-49F8-4377-9CEF-65256BCB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46202-04DA-4E33-A97A-8147A7EA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53A83-AD81-4143-B845-BDC3BED2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1140F-0C19-404B-A314-86E0612F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00FDE-C292-44DA-85ED-828466A5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67738-D1BD-4901-B02E-F83EBEBC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E726D-6FB4-4B57-81D6-F1F97614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9BC72-40C0-4629-8F87-B9B699DD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2F26A-C221-44C7-8859-C4D35836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FA86-91C8-4F7F-88E3-BC6D9767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D4CB3-84A4-408A-922C-02AEFE86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04BEF-679F-44EE-9F1D-F5E5A6D8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00956-4893-468F-8A11-F190621D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27504-03D8-4F2E-9C86-8710CC84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B5143-5C2E-48C3-B54E-DE87CAD0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2FB27-9E20-45FB-8E67-290B82DD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F8D24-152A-4C1C-97FD-4D649807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2741E-EE16-4B9B-95EC-62E32DD9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EF7F5-0856-402F-A577-6B17B7C0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D91D8-A5CC-40A8-9573-87E23C7D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86D5-43A2-4204-8C06-9D48FFBD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A866B-1674-4977-98BE-85B88DBC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2BB8A-50F5-4CF9-AECE-FD87D6F0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85456-155F-424C-9807-A7EEC22A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B6A07-E07C-47C7-8378-79017BD1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1E162-3CC6-4722-AEA4-A67E91B3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CC35F-7F2F-42C6-BDAE-B6F34A33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F9984-72ED-4F87-9BD4-380D65A0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94039-F474-4719-9523-41887E1F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49572-0959-4AC8-A1E6-ED7225E6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2E921-27DE-4817-A83F-88F708D5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0EB-6586-4CA8-9582-9DCEE42E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75547-E8E7-48C0-AE46-10B14454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C38AA-F632-4354-94B4-FE132F07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AFFE1-9BE5-405B-BCDE-31053F4A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20F4E-AAF0-412F-99DF-87AC9430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05C59-F056-4850-9AFF-E6E6149E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2FAC2-F828-41D0-BF8C-D9AD15AF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881C2-6D5D-4C88-A0E8-EC22F8F9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2DA3C-1173-4AAF-B247-C9A5A809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F37B8-E2E4-4A8A-BCEF-41545A38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CADCE-2BDC-4F54-9B11-FCFBEE28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8C75-E52A-4F6F-B67B-83AD9AAB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59D94-E4CF-42A2-B656-29796C4D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89203-7932-491C-AF57-7065132C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5FFE5-0599-4456-AAB0-8C7D0C3A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5C683-3DB7-44B6-BE9E-9C3E25AA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13B43-623D-4872-BE1C-C21CF247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F5F15-E59F-4736-A736-A28DB4F1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DD386-6E9D-479A-9BF4-A1086FDB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2044E-AD5D-4C6C-B01E-F25D17E0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9E76C-9399-4FB5-A820-0224B3C0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B3807-D484-4487-934F-FDDF61F4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7954-22F8-44AF-9547-027CC54C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B10D9-898E-48E8-A4EE-EBC873E2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F2A1F-D560-405E-9E16-492E737B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7F791-7D64-4F62-AA37-DF4B0271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74DAD-326C-4E8A-BB5F-C8040B1C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D7077-4871-4CD3-8E55-C3EB6811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3D51B-AB9F-46D8-96F4-2BB7CCA5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B7264-4E6B-43E7-8949-A4D3F2C2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3CA6B-3170-448B-BDC2-C9B7DCE2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3B8D1-A0D2-43A9-B37E-FFE1860D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AC5F4-4AC3-4C75-9D7A-32024199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0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7798-A008-4A2A-BF3E-7CD5017F98B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3768-59BE-47E4-B9DD-3F62255FD5D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B49C-B948-4318-B584-6C1CD0BDCA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7BD7-AB0E-40CB-BC9A-3D2BEAFCF0F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DDAC-E0C0-4EBE-812A-E8526F543B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5BF7-E53C-4049-88EA-983851E1861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3706-D670-4960-9835-A1E82176DA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53D4-FF46-4FB0-BB65-9771779732E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AD9F-4477-4B13-862F-4FA73A41D7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C263-15CB-470A-A333-AFA5EB276B7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BE67-DD8B-487A-B361-2CF480A3B0A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F15B-B735-4B84-A978-B82893D13C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92D1-C968-474F-9B90-E3CAC04CA3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6D90-D862-4D0E-9D8D-466D0E02AC7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9B2F-7C69-4AAD-B1D8-5B0FB7E73A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2F42-6AAA-43A2-8972-1B75A3F6FC7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A312-4679-496D-BD2E-EF3C4E0E68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EBB9-6043-4C07-9C11-CD343975C16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C5CB-16A9-4894-8AF5-8E5C21395F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E10A-2E66-4BD7-9C50-E604557D02B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7B4E-0FDF-4A3A-B186-C61F894054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F2C3-3292-4046-A3C4-26118456B87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2AE9-99BC-461E-97C6-D8E1720D50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F003-3FB1-4823-9B09-07C7737F220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03BA-7230-4307-81A6-F3136982D4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684360" y="0"/>
            <a:ext cx="7848360" cy="2492280"/>
          </a:xfrm>
          <a:prstGeom prst="rect">
            <a:avLst/>
          </a:prstGeom>
          <a:solidFill>
            <a:srgbClr val="b7290d"/>
          </a:solidFill>
          <a:ln w="381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684360" y="0"/>
            <a:ext cx="7848360" cy="2492280"/>
          </a:xfrm>
          <a:prstGeom prst="rect">
            <a:avLst/>
          </a:prstGeom>
          <a:solidFill>
            <a:srgbClr val="b7290d"/>
          </a:solidFill>
          <a:ln w="381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1332000" y="1413000"/>
            <a:ext cx="6624720" cy="1584360"/>
          </a:xfrm>
          <a:prstGeom prst="rect">
            <a:avLst/>
          </a:prstGeom>
          <a:solidFill>
            <a:srgbClr val="fefcce"/>
          </a:solidFill>
          <a:ln w="381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vantGarde ALT"/>
                <a:ea typeface="宋体"/>
              </a:rPr>
              <a:t>How to easily off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900000" y="5877000"/>
            <a:ext cx="7344000" cy="0"/>
          </a:xfrm>
          <a:prstGeom prst="line">
            <a:avLst/>
          </a:prstGeom>
          <a:ln w="381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5148360" y="450864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Yahoo"/>
                <a:ea typeface="宋体"/>
              </a:rPr>
              <a:t>Attitude            Goal            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684360" y="0"/>
            <a:ext cx="7775280" cy="549360"/>
          </a:xfrm>
          <a:prstGeom prst="rect">
            <a:avLst/>
          </a:prstGeom>
          <a:solidFill>
            <a:srgbClr val="b729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"/>
          <p:cNvSpPr/>
          <p:nvPr/>
        </p:nvSpPr>
        <p:spPr>
          <a:xfrm>
            <a:off x="4211640" y="1413000"/>
            <a:ext cx="4932360" cy="0"/>
          </a:xfrm>
          <a:prstGeom prst="line">
            <a:avLst/>
          </a:prstGeom>
          <a:ln w="28440">
            <a:solidFill>
              <a:srgbClr val="f2c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4"/>
          <p:cNvSpPr/>
          <p:nvPr/>
        </p:nvSpPr>
        <p:spPr>
          <a:xfrm>
            <a:off x="4067280" y="1341360"/>
            <a:ext cx="144360" cy="122400"/>
          </a:xfrm>
          <a:prstGeom prst="ellipse">
            <a:avLst/>
          </a:prstGeom>
          <a:solidFill>
            <a:srgbClr val="f2c16a"/>
          </a:solidFill>
          <a:ln w="9360">
            <a:solidFill>
              <a:srgbClr val="f2c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5"/>
          <p:cNvSpPr/>
          <p:nvPr/>
        </p:nvSpPr>
        <p:spPr>
          <a:xfrm>
            <a:off x="179280" y="2781360"/>
            <a:ext cx="1152720" cy="503280"/>
          </a:xfrm>
          <a:custGeom>
            <a:avLst/>
            <a:gdLst>
              <a:gd name="textAreaLeft" fmla="*/ 180000 w 1152720"/>
              <a:gd name="textAreaRight" fmla="*/ 1008720 w 1152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7290d"/>
          </a:solidFill>
          <a:ln w="93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6"/>
          <p:cNvSpPr/>
          <p:nvPr/>
        </p:nvSpPr>
        <p:spPr>
          <a:xfrm>
            <a:off x="179280" y="5084640"/>
            <a:ext cx="1152720" cy="503280"/>
          </a:xfrm>
          <a:custGeom>
            <a:avLst/>
            <a:gdLst>
              <a:gd name="textAreaLeft" fmla="*/ 180000 w 1152720"/>
              <a:gd name="textAreaRight" fmla="*/ 1008720 w 1152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7290d"/>
          </a:solidFill>
          <a:ln w="93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7"/>
          <p:cNvSpPr/>
          <p:nvPr/>
        </p:nvSpPr>
        <p:spPr>
          <a:xfrm>
            <a:off x="1476360" y="4941720"/>
            <a:ext cx="6048360" cy="720720"/>
          </a:xfrm>
          <a:prstGeom prst="roundRect">
            <a:avLst>
              <a:gd name="adj" fmla="val 16667"/>
            </a:avLst>
          </a:prstGeom>
          <a:solidFill>
            <a:srgbClr val="fefcce"/>
          </a:solidFill>
          <a:ln w="2844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vantGarde Bk BT"/>
                <a:ea typeface="宋体"/>
              </a:rPr>
              <a:t>Improving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8"/>
          <p:cNvSpPr/>
          <p:nvPr/>
        </p:nvSpPr>
        <p:spPr>
          <a:xfrm>
            <a:off x="1979640" y="6237360"/>
            <a:ext cx="7164360" cy="0"/>
          </a:xfrm>
          <a:prstGeom prst="line">
            <a:avLst/>
          </a:prstGeom>
          <a:ln w="381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9"/>
          <p:cNvSpPr/>
          <p:nvPr/>
        </p:nvSpPr>
        <p:spPr>
          <a:xfrm>
            <a:off x="1476360" y="3860640"/>
            <a:ext cx="6048360" cy="720720"/>
          </a:xfrm>
          <a:prstGeom prst="roundRect">
            <a:avLst>
              <a:gd name="adj" fmla="val 16667"/>
            </a:avLst>
          </a:prstGeom>
          <a:solidFill>
            <a:srgbClr val="fefcce"/>
          </a:solidFill>
          <a:ln w="2844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vantGarde Bk BT"/>
                <a:ea typeface="宋体"/>
              </a:rPr>
              <a:t>Make up your dream---make sure your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0"/>
          <p:cNvSpPr/>
          <p:nvPr/>
        </p:nvSpPr>
        <p:spPr>
          <a:xfrm>
            <a:off x="179280" y="3933720"/>
            <a:ext cx="1152720" cy="503280"/>
          </a:xfrm>
          <a:custGeom>
            <a:avLst/>
            <a:gdLst>
              <a:gd name="textAreaLeft" fmla="*/ 180000 w 1152720"/>
              <a:gd name="textAreaRight" fmla="*/ 1008720 w 1152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7290d"/>
          </a:solidFill>
          <a:ln w="93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1"/>
          <p:cNvSpPr/>
          <p:nvPr/>
        </p:nvSpPr>
        <p:spPr>
          <a:xfrm>
            <a:off x="1476360" y="2708280"/>
            <a:ext cx="6048360" cy="720720"/>
          </a:xfrm>
          <a:prstGeom prst="roundRect">
            <a:avLst>
              <a:gd name="adj" fmla="val 16667"/>
            </a:avLst>
          </a:prstGeom>
          <a:solidFill>
            <a:srgbClr val="fefcce"/>
          </a:solidFill>
          <a:ln w="2844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vantGarde Bk BT"/>
                <a:ea typeface="宋体"/>
              </a:rPr>
              <a:t>A good attitude in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5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5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5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684360" y="0"/>
            <a:ext cx="7848360" cy="549360"/>
          </a:xfrm>
          <a:prstGeom prst="rect">
            <a:avLst/>
          </a:prstGeom>
          <a:solidFill>
            <a:srgbClr val="b7290d"/>
          </a:solidFill>
          <a:ln w="93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3"/>
          <p:cNvSpPr/>
          <p:nvPr/>
        </p:nvSpPr>
        <p:spPr>
          <a:xfrm>
            <a:off x="2195640" y="6237360"/>
            <a:ext cx="6948360" cy="0"/>
          </a:xfrm>
          <a:prstGeom prst="line">
            <a:avLst/>
          </a:prstGeom>
          <a:ln w="381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4"/>
          <p:cNvSpPr/>
          <p:nvPr/>
        </p:nvSpPr>
        <p:spPr>
          <a:xfrm>
            <a:off x="826920" y="1125360"/>
            <a:ext cx="3024360" cy="2880000"/>
          </a:xfrm>
          <a:prstGeom prst="hexagon">
            <a:avLst>
              <a:gd name="adj" fmla="val 26253"/>
              <a:gd name="vf" fmla="val 115470"/>
            </a:avLst>
          </a:prstGeom>
          <a:solidFill>
            <a:srgbClr val="fefcce"/>
          </a:solidFill>
          <a:ln w="2844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A b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without purpo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will never me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the right 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5"/>
          <p:cNvSpPr/>
          <p:nvPr/>
        </p:nvSpPr>
        <p:spPr>
          <a:xfrm>
            <a:off x="3059280" y="2565360"/>
            <a:ext cx="3024000" cy="2879640"/>
          </a:xfrm>
          <a:prstGeom prst="hexagon">
            <a:avLst>
              <a:gd name="adj" fmla="val 26253"/>
              <a:gd name="vf" fmla="val 115470"/>
            </a:avLst>
          </a:prstGeom>
          <a:solidFill>
            <a:srgbClr val="fefcce"/>
          </a:solidFill>
          <a:ln w="2844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Taking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with a strong fa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6"/>
          <p:cNvSpPr/>
          <p:nvPr/>
        </p:nvSpPr>
        <p:spPr>
          <a:xfrm>
            <a:off x="5292720" y="1125360"/>
            <a:ext cx="3024360" cy="2880000"/>
          </a:xfrm>
          <a:prstGeom prst="hexagon">
            <a:avLst>
              <a:gd name="adj" fmla="val 26253"/>
              <a:gd name="vf" fmla="val 115470"/>
            </a:avLst>
          </a:prstGeom>
          <a:solidFill>
            <a:srgbClr val="fefcce"/>
          </a:solidFill>
          <a:ln w="2844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Coordin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with the pers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who are o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way to succe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5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5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5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684360" y="0"/>
            <a:ext cx="7848360" cy="620640"/>
          </a:xfrm>
          <a:prstGeom prst="rect">
            <a:avLst/>
          </a:prstGeom>
          <a:solidFill>
            <a:srgbClr val="b7290d"/>
          </a:solidFill>
          <a:ln w="93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3"/>
          <p:cNvSpPr/>
          <p:nvPr/>
        </p:nvSpPr>
        <p:spPr>
          <a:xfrm>
            <a:off x="2484360" y="6237360"/>
            <a:ext cx="6659640" cy="71280"/>
          </a:xfrm>
          <a:prstGeom prst="line">
            <a:avLst/>
          </a:prstGeom>
          <a:ln w="381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611280" y="1197000"/>
            <a:ext cx="649080" cy="647640"/>
          </a:xfrm>
          <a:prstGeom prst="rect">
            <a:avLst/>
          </a:prstGeom>
          <a:solidFill>
            <a:srgbClr val="7e0300"/>
          </a:solidFill>
          <a:ln w="9360">
            <a:solidFill>
              <a:srgbClr val="7e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611280" y="2421000"/>
            <a:ext cx="649080" cy="647640"/>
          </a:xfrm>
          <a:prstGeom prst="rect">
            <a:avLst/>
          </a:prstGeom>
          <a:solidFill>
            <a:srgbClr val="7e0300"/>
          </a:solidFill>
          <a:ln w="9360">
            <a:solidFill>
              <a:srgbClr val="7e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611280" y="3716280"/>
            <a:ext cx="649080" cy="647640"/>
          </a:xfrm>
          <a:prstGeom prst="rect">
            <a:avLst/>
          </a:prstGeom>
          <a:solidFill>
            <a:srgbClr val="7e0300"/>
          </a:solidFill>
          <a:ln w="9360">
            <a:solidFill>
              <a:srgbClr val="7e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611280" y="4941720"/>
            <a:ext cx="649080" cy="648000"/>
          </a:xfrm>
          <a:prstGeom prst="rect">
            <a:avLst/>
          </a:prstGeom>
          <a:solidFill>
            <a:srgbClr val="7e0300"/>
          </a:solidFill>
          <a:ln w="9360">
            <a:solidFill>
              <a:srgbClr val="7e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1692360" y="126828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1692360" y="242100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utiger-Normal"/>
                <a:ea typeface="宋体"/>
              </a:rPr>
              <a:t>Experiencing the joy in con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1692360" y="11970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utiger-Normal"/>
                <a:ea typeface="张晓明 纤体宋 英文"/>
              </a:rPr>
              <a:t>Enjoying the job you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1"/>
          <p:cNvSpPr/>
          <p:nvPr/>
        </p:nvSpPr>
        <p:spPr>
          <a:xfrm>
            <a:off x="1692360" y="364500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utiger-Normal"/>
                <a:ea typeface="宋体"/>
              </a:rPr>
              <a:t>Needing a song in 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2"/>
          <p:cNvSpPr/>
          <p:nvPr/>
        </p:nvSpPr>
        <p:spPr>
          <a:xfrm>
            <a:off x="1692360" y="4869000"/>
            <a:ext cx="69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utiger-Normal"/>
                <a:ea typeface="宋体"/>
              </a:rPr>
              <a:t>Conquering the challenges in job with a positive at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85 -0.12523 C 0.1776 -0.13056 0.26753 -0.13588 0.25139 -0.11296 C 0.23524 -0.09005 0.00799 -0.03079 -0.0092 0.01227 C -0.02639 0.05532 0.14687 0.14768 0.14844 0.1456 C 0.15 0.14352 0.075 0.07176 -1.94444E-006 3.7037E-007 E">
                                      <p:cBhvr>
                                        <p:cTn id="10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8 -0.00209 C -0.01788 0.03379 0.00105 0.06967 0.00834 0.06065 C 0.01563 0.05162 0.01129 -0.03033 0.0073 -0.05648 C 0.00313 -0.08264 -0.01406 -0.09908 -0.01614 -0.09699 C -0.01823 -0.09491 -0.0493 -0.05834 -0.00503 -0.04445 C 0.03924 -0.03056 0.24844 -0.02153 0.24931 -0.01412 C 0.25 -0.00672 0.125 -0.00348 -3.33333E-006 2.96296E-006 E">
                                      <p:cBhvr>
                                        <p:cTn id="114" dur="2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67 -0.02824 C 0.06077 -0.06365 0.13837 -0.09907 0.1606 -0.09074 C 0.18282 -0.0824 0.14185 0.02686 0.11667 0.02223 C 0.0915 0.0176 0.04862 -0.11273 0.00903 -0.11898 C -0.03056 -0.12523 -0.1198 -0.03588 -0.12136 -0.01597 C -0.12292 0.00394 -0.02171 -0.00578 5E-006 -3.33333E-006 E">
                                      <p:cBhvr>
                                        <p:cTn id="123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3 C -0.00052 -0.03287 0.12934 -0.1 0.15382 -0.09097 C 0.1783 -0.08194 0.1618 0.06181 0.14618 0.0544 C 0.13055 0.04699 0.09496 -0.11551 0.05989 -0.13541 C 0.02482 -0.15532 -0.05278 -0.10416 -0.06441 -0.06481 C -0.07604 -0.02546 -0.04601 0.07269 -0.0099 0.10093 C 0.02621 0.12917 0.15052 0.12176 0.15225 0.10487 C 0.15399 0.08797 -0.00087 0.03241 -0.0007 -0.00023 Z">
                                      <p:cBhvr>
                                        <p:cTn id="132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755640" y="0"/>
            <a:ext cx="7704000" cy="620640"/>
          </a:xfrm>
          <a:prstGeom prst="rect">
            <a:avLst/>
          </a:prstGeom>
          <a:solidFill>
            <a:srgbClr val="b7290d"/>
          </a:solidFill>
          <a:ln w="93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"/>
          <p:cNvSpPr/>
          <p:nvPr/>
        </p:nvSpPr>
        <p:spPr>
          <a:xfrm>
            <a:off x="2700360" y="6237360"/>
            <a:ext cx="6443640" cy="0"/>
          </a:xfrm>
          <a:prstGeom prst="line">
            <a:avLst/>
          </a:prstGeom>
          <a:ln w="381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5292720" y="1557360"/>
            <a:ext cx="2952720" cy="3530520"/>
          </a:xfrm>
          <a:prstGeom prst="flowChartDelay">
            <a:avLst/>
          </a:prstGeom>
          <a:solidFill>
            <a:srgbClr val="fefcce"/>
          </a:solidFill>
          <a:ln w="2844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Filtering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filtering the e-ma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efficiency and we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focus on attention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the most important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5"/>
          <p:cNvSpPr/>
          <p:nvPr/>
        </p:nvSpPr>
        <p:spPr>
          <a:xfrm rot="10800000">
            <a:off x="1042920" y="1557000"/>
            <a:ext cx="2952720" cy="3529080"/>
          </a:xfrm>
          <a:prstGeom prst="flowChartDelay">
            <a:avLst/>
          </a:prstGeom>
          <a:solidFill>
            <a:srgbClr val="fefcce"/>
          </a:solidFill>
          <a:ln w="2844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Keeping a simple,cl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purpose and dir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understanding wha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do ,what can’t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which can av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repeating the s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job decrea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making mist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indefinite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9" dur="indefinite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0" dur="indefinite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0" dur="indefinite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1" dur="indefinite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684360" y="0"/>
            <a:ext cx="7775280" cy="549360"/>
          </a:xfrm>
          <a:prstGeom prst="rect">
            <a:avLst/>
          </a:prstGeom>
          <a:solidFill>
            <a:srgbClr val="b7290d"/>
          </a:solidFill>
          <a:ln w="93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3"/>
          <p:cNvSpPr/>
          <p:nvPr/>
        </p:nvSpPr>
        <p:spPr>
          <a:xfrm>
            <a:off x="2556000" y="6308640"/>
            <a:ext cx="6588000" cy="0"/>
          </a:xfrm>
          <a:prstGeom prst="line">
            <a:avLst/>
          </a:prstGeom>
          <a:ln w="381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WordArt 4"/>
          <p:cNvSpPr txBox="1"/>
          <p:nvPr/>
        </p:nvSpPr>
        <p:spPr>
          <a:xfrm>
            <a:off x="2268360" y="2565360"/>
            <a:ext cx="419112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张晓明 纤体宋 英文"/>
              </a:rPr>
              <a:t>THANKS</a:t>
            </a:r>
            <a:endParaRPr b="0" lang="en-US" sz="6600" spc="1" strike="noStrike">
              <a:ln w="0">
                <a:noFill/>
              </a:ln>
              <a:solidFill>
                <a:srgbClr val="3366ff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张晓明 纤体宋 英文"/>
              <a:ea typeface="张晓明 纤体宋 英文"/>
            </a:endParaRPr>
          </a:p>
        </p:txBody>
      </p:sp>
      <p:sp>
        <p:nvSpPr>
          <p:cNvPr id="571" name="WordArt 5"/>
          <p:cNvSpPr txBox="1"/>
          <p:nvPr/>
        </p:nvSpPr>
        <p:spPr>
          <a:xfrm rot="10800000">
            <a:off x="2268360" y="3357720"/>
            <a:ext cx="410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e0e0e0"/>
                    </a:gs>
                    <a:gs pos="100000">
                      <a:srgbClr val="336699"/>
                    </a:gs>
                  </a:gsLst>
                  <a:lin ang="16200000"/>
                </a:gra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张晓明 纤体宋 英文"/>
              </a:rPr>
              <a:t>SKNAHT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e0e0e0"/>
                  </a:gs>
                  <a:gs pos="100000">
                    <a:srgbClr val="336699"/>
                  </a:gs>
                </a:gsLst>
                <a:lin ang="16200000"/>
              </a:gra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张晓明 纤体宋 英文"/>
              <a:ea typeface="张晓明 纤体宋 英文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12T01:59:55Z</dcterms:modified>
  <cp:revision>1</cp:revision>
  <dc:subject/>
  <dc:title>PowerPoint 演示文稿</dc:title>
</cp:coreProperties>
</file>