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BC8E-3AA8-4F47-A6D6-9309BEE23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5C91-D0A3-47C8-A049-3C2DEF58E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8C5-5B0E-4995-84AC-9EEC29020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1948-DEB7-4A56-B0CB-D3956834C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292D-1D2F-4DEB-ADF6-CE4CEA3CA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9039-7D05-4E01-87FF-D19B507B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D1DF-A4B5-4827-87B4-D2A81742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1823-58AD-481F-9031-527D34A11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E47E-73A3-4582-AF35-5DB3B037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4AC0-12C6-4119-BB50-9DDC5CA00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C15FB-5789-4B75-87AA-CA43AEA20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0C73-9D8D-4414-9966-523605585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Oval 2"/>
          <p:cNvSpPr/>
          <p:nvPr/>
        </p:nvSpPr>
        <p:spPr>
          <a:xfrm>
            <a:off x="-752400" y="1773360"/>
            <a:ext cx="7269120" cy="4798800"/>
          </a:xfrm>
          <a:prstGeom prst="ellipse">
            <a:avLst/>
          </a:prstGeom>
          <a:gradFill rotWithShape="0">
            <a:gsLst>
              <a:gs pos="0">
                <a:srgbClr val="ffffff">
                  <a:alpha val="21176"/>
                </a:srgbClr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286760" y="36360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BF74D-1790-4865-A923-30B35226BEC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16BC-6E6A-408C-91FB-3C4A9B475F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3203640" y="4292640"/>
            <a:ext cx="468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单击此处添加标题文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3"/>
          <p:cNvSpPr/>
          <p:nvPr/>
        </p:nvSpPr>
        <p:spPr>
          <a:xfrm>
            <a:off x="5075280" y="4956120"/>
            <a:ext cx="28098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华文细黑"/>
                <a:ea typeface="华文细黑"/>
              </a:rPr>
              <a:t>单击添加署名或公司信息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360" y="360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【格式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设计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配色方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编辑配色方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直接选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【视图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母版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【幻灯片母版】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2"/>
          <p:cNvSpPr/>
          <p:nvPr/>
        </p:nvSpPr>
        <p:spPr>
          <a:xfrm>
            <a:off x="0" y="4870440"/>
            <a:ext cx="9144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4149720"/>
            <a:ext cx="9144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NordriDesign</dc:creator>
  <dc:description>nordridesign.com  </dc:description>
  <cp:keywords>ppt幻灯设计/ppt模板设计</cp:keywords>
  <dc:language>en-US</dc:language>
  <cp:lastModifiedBy>a</cp:lastModifiedBy>
  <dcterms:modified xsi:type="dcterms:W3CDTF">2014-07-30T04:59:54Z</dcterms:modified>
  <cp:revision>57</cp:revision>
  <dc:subject/>
  <dc:title>PowerPoint 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