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90A-1C29-49C2-975B-F1C2F872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DFB4-45E1-46BB-AD24-743BF9BB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021-8F49-401A-93B2-F1124D9D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32D3-D1F8-4F3F-8ECD-2E8C027A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ED93-55A5-4B56-A28E-31AD570E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F7FF-46C8-4ED8-83C8-329460D9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7A3E-DA53-4DD6-88BB-BBC99A1E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BB83-1D0C-494C-B6F8-20867BC9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329B-831D-4E64-A42C-1FB0E270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4BBF-7056-4A3B-8CD4-E520E3A9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F93B-19D3-4C52-8C7A-6FF6CEA8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C27-4933-435F-803F-AB8074A3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2787-4407-45C6-B41A-ACA9E4B4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B9DF-9D02-4CAF-8B66-75A4286B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7722-11BD-4FE7-BC3B-4A49C68E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A06A-12F0-4BA1-958B-5A29C5F1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7146-FC70-42C6-868D-0C16DEA3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6FB1-B3FB-4272-BE12-8CC45169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8FC-416D-4198-8341-64D63813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495-6417-4D42-B524-92D68B39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04E-C4D1-4388-970E-B0C62BDF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B38-C435-465B-8219-8B4DD058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BF7-5E7E-49F4-AF94-A0875CFA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CE54-D743-40EE-98B9-1F894CB0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2475-8A7F-4716-A344-823825D3E3C0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91C7-BA03-4B77-8CC8-81E08C291A36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-249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200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4928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A307-3162-45B0-9EE2-F7A3F2B26022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475240"/>
            <a:ext cx="28494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33DB-CB8B-4C22-8192-4F2BFB8DF3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wg_blurred_backgrounds_9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雅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9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360" y="1402920"/>
            <a:ext cx="8099640" cy="32590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wg_blurred_backgrounds_9"/>
          <p:cNvPicPr/>
          <p:nvPr/>
        </p:nvPicPr>
        <p:blipFill>
          <a:blip r:embed="rId1"/>
          <a:srcRect l="0" t="0" r="0" b="80108"/>
          <a:stretch/>
        </p:blipFill>
        <p:spPr>
          <a:xfrm>
            <a:off x="0" y="4807080"/>
            <a:ext cx="89996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7640" y="240840"/>
            <a:ext cx="664236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7640" y="1403280"/>
            <a:ext cx="664236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wg_blurred_backgrounds_9"/>
          <p:cNvPicPr/>
          <p:nvPr/>
        </p:nvPicPr>
        <p:blipFill>
          <a:blip r:embed="rId1"/>
          <a:srcRect l="50797" t="0" r="30143" b="0"/>
          <a:stretch/>
        </p:blipFill>
        <p:spPr>
          <a:xfrm>
            <a:off x="0" y="6480"/>
            <a:ext cx="171612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857840" y="914400"/>
            <a:ext cx="107316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857840" y="914400"/>
            <a:ext cx="107316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222640" y="882720"/>
            <a:ext cx="4030560" cy="4030560"/>
          </a:xfrm>
          <a:custGeom>
            <a:avLst/>
            <a:gdLst>
              <a:gd name="textAreaLeft" fmla="*/ 590040 w 4030560"/>
              <a:gd name="textAreaRight" fmla="*/ 3440520 w 4030560"/>
              <a:gd name="textAreaTop" fmla="*/ 590040 h 4030560"/>
              <a:gd name="textAreaBottom" fmla="*/ 3440520 h 4030560"/>
            </a:gdLst>
            <a:ahLst/>
            <a:rect l="textAreaLeft" t="textAreaTop" r="textAreaRight" b="textAreaBottom"/>
            <a:pathLst>
              <a:path w="21600" h="21600">
                <a:moveTo>
                  <a:pt x="20439" y="9939"/>
                </a:moveTo>
                <a:cubicBezTo>
                  <a:pt x="20311" y="8505"/>
                  <a:pt x="19865" y="7117"/>
                  <a:pt x="19132" y="5877"/>
                </a:cubicBezTo>
                <a:lnTo>
                  <a:pt x="20098" y="5306"/>
                </a:lnTo>
                <a:cubicBezTo>
                  <a:pt x="20916" y="6690"/>
                  <a:pt x="21414" y="8239"/>
                  <a:pt x="21557" y="9840"/>
                </a:cubicBezTo>
                <a:lnTo>
                  <a:pt x="24246" y="9600"/>
                </a:lnTo>
                <a:lnTo>
                  <a:pt x="21288" y="13137"/>
                </a:lnTo>
                <a:lnTo>
                  <a:pt x="17750" y="10179"/>
                </a:lnTo>
                <a:lnTo>
                  <a:pt x="20439" y="9939"/>
                </a:lnTo>
                <a:close/>
              </a:path>
            </a:pathLst>
          </a:custGeom>
          <a:solidFill>
            <a:srgbClr val="8573c0"/>
          </a:solidFill>
          <a:ln w="25560">
            <a:solidFill>
              <a:srgbClr val="5b4d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533920" y="2997360"/>
            <a:ext cx="10749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533920" y="2997360"/>
            <a:ext cx="10749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2298600" y="819000"/>
            <a:ext cx="4030920" cy="4030920"/>
          </a:xfrm>
          <a:custGeom>
            <a:avLst/>
            <a:gdLst>
              <a:gd name="textAreaLeft" fmla="*/ 590040 w 4030920"/>
              <a:gd name="textAreaRight" fmla="*/ 3440880 w 4030920"/>
              <a:gd name="textAreaTop" fmla="*/ 590040 h 4030920"/>
              <a:gd name="textAreaBottom" fmla="*/ 3440880 h 4030920"/>
            </a:gdLst>
            <a:ahLst/>
            <a:rect l="textAreaLeft" t="textAreaTop" r="textAreaRight" b="textAreaBottom"/>
            <a:pathLst>
              <a:path w="21600" h="21600">
                <a:moveTo>
                  <a:pt x="14593" y="19703"/>
                </a:moveTo>
                <a:cubicBezTo>
                  <a:pt x="16123" y="19051"/>
                  <a:pt x="17459" y="18016"/>
                  <a:pt x="18473" y="16697"/>
                </a:cubicBezTo>
                <a:lnTo>
                  <a:pt x="19363" y="17381"/>
                </a:lnTo>
                <a:cubicBezTo>
                  <a:pt x="18231" y="18853"/>
                  <a:pt x="16740" y="20008"/>
                  <a:pt x="15032" y="20735"/>
                </a:cubicBezTo>
                <a:lnTo>
                  <a:pt x="16091" y="23219"/>
                </a:lnTo>
                <a:lnTo>
                  <a:pt x="11812" y="21497"/>
                </a:lnTo>
                <a:lnTo>
                  <a:pt x="13534" y="17219"/>
                </a:lnTo>
                <a:lnTo>
                  <a:pt x="14593" y="19703"/>
                </a:lnTo>
                <a:close/>
              </a:path>
            </a:pathLst>
          </a:custGeom>
          <a:solidFill>
            <a:srgbClr val="8573c0"/>
          </a:solidFill>
          <a:ln w="25560">
            <a:solidFill>
              <a:srgbClr val="5b4d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3762360" y="4284720"/>
            <a:ext cx="107316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513240" y="4284720"/>
            <a:ext cx="10746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2222640" y="882720"/>
            <a:ext cx="4030560" cy="4030560"/>
          </a:xfrm>
          <a:custGeom>
            <a:avLst/>
            <a:gdLst>
              <a:gd name="textAreaLeft" fmla="*/ 590040 w 4030560"/>
              <a:gd name="textAreaRight" fmla="*/ 3440520 w 4030560"/>
              <a:gd name="textAreaTop" fmla="*/ 590040 h 4030560"/>
              <a:gd name="textAreaBottom" fmla="*/ 3440520 h 4030560"/>
            </a:gdLst>
            <a:ahLst/>
            <a:rect l="textAreaLeft" t="textAreaTop" r="textAreaRight" b="textAreaBottom"/>
            <a:pathLst>
              <a:path w="21600" h="21600">
                <a:moveTo>
                  <a:pt x="3738" y="17417"/>
                </a:moveTo>
                <a:cubicBezTo>
                  <a:pt x="4875" y="18631"/>
                  <a:pt x="6306" y="19531"/>
                  <a:pt x="7893" y="20031"/>
                </a:cubicBezTo>
                <a:lnTo>
                  <a:pt x="7556" y="21101"/>
                </a:lnTo>
                <a:cubicBezTo>
                  <a:pt x="5785" y="20543"/>
                  <a:pt x="4188" y="19539"/>
                  <a:pt x="2919" y="18184"/>
                </a:cubicBezTo>
                <a:lnTo>
                  <a:pt x="949" y="20031"/>
                </a:lnTo>
                <a:lnTo>
                  <a:pt x="1098" y="15421"/>
                </a:lnTo>
                <a:lnTo>
                  <a:pt x="5708" y="15571"/>
                </a:lnTo>
                <a:lnTo>
                  <a:pt x="3738" y="17417"/>
                </a:lnTo>
                <a:close/>
              </a:path>
            </a:pathLst>
          </a:custGeom>
          <a:solidFill>
            <a:srgbClr val="8573c0"/>
          </a:solidFill>
          <a:ln w="25560">
            <a:solidFill>
              <a:srgbClr val="5b4d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1990800" y="2997360"/>
            <a:ext cx="10746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1990800" y="2997360"/>
            <a:ext cx="10746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2187720" y="973080"/>
            <a:ext cx="4030560" cy="4030560"/>
          </a:xfrm>
          <a:custGeom>
            <a:avLst/>
            <a:gdLst>
              <a:gd name="textAreaLeft" fmla="*/ 590040 w 4030560"/>
              <a:gd name="textAreaRight" fmla="*/ 3440520 w 4030560"/>
              <a:gd name="textAreaTop" fmla="*/ 590040 h 4030560"/>
              <a:gd name="textAreaBottom" fmla="*/ 3440520 h 4030560"/>
            </a:gdLst>
            <a:ahLst/>
            <a:rect l="textAreaLeft" t="textAreaTop" r="textAreaRight" b="textAreaBottom"/>
            <a:pathLst>
              <a:path w="21600" h="21600">
                <a:moveTo>
                  <a:pt x="2027" y="6713"/>
                </a:moveTo>
                <a:cubicBezTo>
                  <a:pt x="1430" y="7993"/>
                  <a:pt x="1122" y="9387"/>
                  <a:pt x="1122" y="10800"/>
                </a:cubicBezTo>
                <a:cubicBezTo>
                  <a:pt x="1122" y="10827"/>
                  <a:pt x="1122" y="10855"/>
                  <a:pt x="1122" y="10883"/>
                </a:cubicBezTo>
                <a:lnTo>
                  <a:pt x="0" y="10893"/>
                </a:lnTo>
                <a:cubicBezTo>
                  <a:pt x="0" y="10862"/>
                  <a:pt x="0" y="10831"/>
                  <a:pt x="0" y="10800"/>
                </a:cubicBezTo>
                <a:cubicBezTo>
                  <a:pt x="0" y="9224"/>
                  <a:pt x="344" y="7667"/>
                  <a:pt x="1010" y="6239"/>
                </a:cubicBezTo>
                <a:lnTo>
                  <a:pt x="-1438" y="5099"/>
                </a:lnTo>
                <a:lnTo>
                  <a:pt x="2895" y="3520"/>
                </a:lnTo>
                <a:lnTo>
                  <a:pt x="4474" y="7853"/>
                </a:lnTo>
                <a:lnTo>
                  <a:pt x="2027" y="6713"/>
                </a:lnTo>
                <a:close/>
              </a:path>
            </a:pathLst>
          </a:custGeom>
          <a:solidFill>
            <a:srgbClr val="8573c0"/>
          </a:solidFill>
          <a:ln w="25560">
            <a:solidFill>
              <a:srgbClr val="5b4d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2666880" y="914400"/>
            <a:ext cx="107496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666880" y="914400"/>
            <a:ext cx="107496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6"/>
          <p:cNvSpPr/>
          <p:nvPr/>
        </p:nvSpPr>
        <p:spPr>
          <a:xfrm>
            <a:off x="2222640" y="882720"/>
            <a:ext cx="4030560" cy="4030560"/>
          </a:xfrm>
          <a:custGeom>
            <a:avLst/>
            <a:gdLst>
              <a:gd name="textAreaLeft" fmla="*/ 590040 w 4030560"/>
              <a:gd name="textAreaRight" fmla="*/ 3440520 w 4030560"/>
              <a:gd name="textAreaTop" fmla="*/ 590040 h 4030560"/>
              <a:gd name="textAreaBottom" fmla="*/ 3440520 h 4030560"/>
            </a:gdLst>
            <a:ahLst/>
            <a:rect l="textAreaLeft" t="textAreaTop" r="textAreaRight" b="textAreaBottom"/>
            <a:pathLst>
              <a:path w="21600" h="21600">
                <a:moveTo>
                  <a:pt x="12664" y="1303"/>
                </a:moveTo>
                <a:cubicBezTo>
                  <a:pt x="12050" y="1182"/>
                  <a:pt x="11425" y="1122"/>
                  <a:pt x="10799" y="1122"/>
                </a:cubicBezTo>
                <a:cubicBezTo>
                  <a:pt x="9857" y="1122"/>
                  <a:pt x="8920" y="1259"/>
                  <a:pt x="8018" y="1530"/>
                </a:cubicBezTo>
                <a:lnTo>
                  <a:pt x="7695" y="455"/>
                </a:lnTo>
                <a:cubicBezTo>
                  <a:pt x="8702" y="153"/>
                  <a:pt x="9748" y="0"/>
                  <a:pt x="10799" y="0"/>
                </a:cubicBezTo>
                <a:cubicBezTo>
                  <a:pt x="11498" y="0"/>
                  <a:pt x="12195" y="67"/>
                  <a:pt x="12880" y="202"/>
                </a:cubicBezTo>
                <a:lnTo>
                  <a:pt x="13401" y="-2448"/>
                </a:lnTo>
                <a:lnTo>
                  <a:pt x="15972" y="1380"/>
                </a:lnTo>
                <a:lnTo>
                  <a:pt x="12144" y="3952"/>
                </a:lnTo>
                <a:lnTo>
                  <a:pt x="12664" y="1303"/>
                </a:lnTo>
                <a:close/>
              </a:path>
            </a:pathLst>
          </a:custGeom>
          <a:solidFill>
            <a:srgbClr val="8573c0"/>
          </a:solidFill>
          <a:ln w="25560">
            <a:solidFill>
              <a:srgbClr val="5b4d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1639800" y="1349280"/>
            <a:ext cx="29210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040" rIns="320040" tIns="320040" bIns="320040" anchor="ctr">
            <a:noAutofit/>
          </a:bodyPr>
          <a:p>
            <a:pPr algn="ctr"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560840" y="1349280"/>
            <a:ext cx="29224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040" rIns="320040" tIns="320040" bIns="320040" anchor="ctr">
            <a:noAutofit/>
          </a:bodyPr>
          <a:p>
            <a:pPr algn="ctr"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1639800" y="3357720"/>
            <a:ext cx="29210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040" rIns="320040" tIns="320040" bIns="320040" anchor="ctr">
            <a:noAutofit/>
          </a:bodyPr>
          <a:p>
            <a:pPr algn="ctr"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4560840" y="3357720"/>
            <a:ext cx="29210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040" rIns="320040" tIns="320040" bIns="320040" anchor="ctr">
            <a:noAutofit/>
          </a:bodyPr>
          <a:p>
            <a:pPr algn="ctr"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3684600" y="2554200"/>
            <a:ext cx="1752480" cy="803520"/>
          </a:xfrm>
          <a:prstGeom prst="roundRect">
            <a:avLst>
              <a:gd name="adj" fmla="val 16667"/>
            </a:avLst>
          </a:prstGeom>
          <a:solidFill>
            <a:srgbClr val="b0bf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724200" y="2593800"/>
            <a:ext cx="1673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1360" rIns="171360" tIns="171360" bIns="171360" anchor="ctr">
            <a:noAutofit/>
          </a:bodyPr>
          <a:p>
            <a:pPr algn="ctr"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wg_blurred_backgrounds_9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4280" y="2069640"/>
            <a:ext cx="7650360" cy="128772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492120" y="0"/>
            <a:ext cx="7421400" cy="6012000"/>
            <a:chOff x="492120" y="0"/>
            <a:chExt cx="7421400" cy="6012000"/>
          </a:xfrm>
        </p:grpSpPr>
        <p:sp>
          <p:nvSpPr>
            <p:cNvPr id="115" name="矩形 4"/>
            <p:cNvSpPr/>
            <p:nvPr/>
          </p:nvSpPr>
          <p:spPr>
            <a:xfrm>
              <a:off x="1030680" y="0"/>
              <a:ext cx="5930640" cy="6274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92120" y="1503000"/>
              <a:ext cx="7421400" cy="45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7"/>
            <p:cNvSpPr/>
            <p:nvPr/>
          </p:nvSpPr>
          <p:spPr>
            <a:xfrm rot="20926800">
              <a:off x="2163600" y="3123000"/>
              <a:ext cx="4091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a</cp:lastModifiedBy>
  <dcterms:modified xsi:type="dcterms:W3CDTF">2014-07-20T07:58:45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