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3D1-8D21-440E-8641-9C42CB95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E7BD-8C8F-443C-9259-5A07BA3F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3FF7A-C178-4568-84AC-14F2F060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35BCE-072F-4E30-B1F3-66FE07FE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5F8CD-AD91-44D5-9C82-0BD658EE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2C531-1809-459C-891E-3B878E58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5DB3D-B2FF-4F3C-A28F-4DE7194F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C26B3-60FA-406B-87F2-D2D879CC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3811B-73F3-483B-B965-14DA8FFC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8E027-9E46-4779-8A5F-E74A7876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371E6-518D-464B-882E-F2FE8C74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1BE16-F93D-4FA1-BA86-B49EC57B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9FBC-7860-4725-A012-5DD8A993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AC7D2-A1BB-4665-8F41-4851023B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0515C-1A45-4CFC-91E2-15CE5BF8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21076-C374-4BC5-B6A3-CE3B1167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7070A-71F9-438A-AF78-038CFB12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29912-2D1E-431D-BE4B-E300B7AC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21AD8-AD0C-41B4-A1CC-69295C4C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DEB74-6C21-4DC5-81E0-3BCA9859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74174-BA0E-4BDE-893F-FF5F57CE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57307-1656-48CE-94B1-709B68D0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C534F-4A57-424B-81E6-B3E09B36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9633-1B4C-4D61-9465-B1B90C7E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E5BF2-DC4B-4AE5-816E-90B06581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DD75B-7FFE-438B-8572-7C3B5474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2A180-153D-4797-A28D-32E2A409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D616B-E111-4B28-87EA-CC000418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D22BA-AD32-4F40-823A-13D6736D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38EBA-9E16-4FB7-B2DC-B53CAB2A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FEE50-AD46-4472-A693-B2F51052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54F2D-C225-417C-A130-EE270AEC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CE29D-6F17-43F6-BCDC-A613A992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84AA1-5CA4-4844-804A-214004F2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11F8-C705-49C0-A7AF-E65F9583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1F793-CED2-4DFF-96EF-240710BF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5A224-AAB5-4F77-829F-53D77163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5311B-A8B9-4762-AAF2-7AA940B3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BB1D0-839D-46B4-88F4-8BEF6F46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95A88-3A27-4C3B-BEC5-F2BEE3D7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63167-8877-42F6-9C15-C8B90895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8BB94-F4E0-4E48-B4FC-276C01A8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5F4D5-64E5-464D-B0D9-ED782CA5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B0F36-D866-41A6-A4B6-D4D048D4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60740-449F-4393-98FA-393C87D7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9DA3-0D31-4B28-B76E-7A8173ED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FEE2B-3373-4CB9-8169-8CFAE45B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F6EF1-1A08-4855-B4C4-32E5D096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91EBA-B876-4BB1-A548-9A1A31BD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A991B-46BC-4DB1-B8CD-654C9878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9125C-9F23-400C-9F5E-9CEF6CE6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C277D0-4BA3-47BC-BDE5-38514F4E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F5AC0D-126A-41BF-B846-1AB6B240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ADB930-41A1-4085-8ED9-E7F1A9CC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4B1D9-2515-4396-92E3-D11CBC93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6DEC6-AC51-4FA4-858B-E7E6B4B8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74EC-C56C-4CEC-9212-E521F7D7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BDD360-6F3A-46AD-A6A7-F02556E0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0F80E9-DF0B-4D7A-9052-BEE5D536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D2338-E78F-441E-8A9E-8413B9DF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30AA23-B5D7-404C-99CD-E8E2352A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65452-C5D3-4F30-B654-295E7110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C32F8-3C8B-4F19-9F2E-669393B4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086D5D-65E2-4699-9B67-F904B7E4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006B29-6745-4800-B7C2-444B3909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5C334C-365B-430A-BA6E-9395C832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98CAE1-C987-414C-A6EE-FED8B7FE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0E51-8AA4-4E68-864B-CB494ECD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3709D8-41E1-4D55-A6A6-A9A49B5B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670B9F-2B62-4E45-8828-C8B07899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2CAFB7-E853-4579-A64E-DD8F95F2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5B94BA-69E7-4398-9A96-13F47C0C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A758BD-8AA5-434E-82C1-A106D069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D1BBF5-60E2-4F11-B26F-958E2DB3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E8CD36-1673-48C4-9745-4674F2EA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1BCBC3-FFD1-45A1-98F7-05824FD1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C0F65C-6901-410F-99CB-A3D88429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5AC3-5850-4296-904E-5774EC86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60B5-A714-4A77-A353-7219D8B8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1A56-30EB-4F9E-9B26-3AAEC682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6867-3F59-4E6A-B678-2D2ABAB2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465D-8C7B-4B83-B83D-8CC33649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1F16-EE34-496C-A13D-2AB39CD3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88FB-A3D2-44DF-AE79-6CD16CB8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F7E5-886A-4B14-8997-A7C87EA6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9616-AE09-4B3C-B023-47546794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66882-B9C6-42CF-AA48-B0C3D7B1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B4F30-E425-482D-8FDE-B700D011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AC829-B04D-4CAD-A84C-E59BF235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A4E93-6E45-4C3B-8EA8-E566F594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F3794-0940-402B-AE18-375BD44E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FFD0-A1E8-4382-B20E-FC92315E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FE661-8587-460F-9BD6-ED0DC36D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914AD-EAE4-44B0-9D06-0803F9D4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3DD2C-0D46-4E99-8700-F3A50F7C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7C5B0-4626-4799-881D-253F32AD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57ACE-8BEB-47D5-874D-C5DA221A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BF8DD-3050-4674-8A75-7B6759A2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C308D-D52A-43F3-9CF0-E3326341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B5F9D-0A08-42DD-8178-BFB95EBA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5E737-EDE0-489B-9C34-D0C9360A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D98E6-158A-4107-A871-806D5D94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AD10-24C8-4CBC-9B93-F3F545AB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865C9-FD0A-4D7B-AF20-5A33EF2F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6D7D1-D227-4976-955F-FF4C2084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DB558-55CF-4DA5-8494-21718284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6E1C7-BFD3-4E23-B32B-CB97D841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A66C9-3B2B-42CF-8CBD-6D05FD49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40117-B2F7-4AC5-99B1-B45F8F57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7DE6D-E5DD-4ADD-9EB9-0D1B2CC8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0F89F-2186-4A46-B128-61220805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4F381-0D52-42B0-96E5-0636EEA3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1C289-B7B3-4B08-AAF4-BA84E6AE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B583-F168-4B6A-8720-889BD562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BD874-2CD8-4A46-8B93-26415A7D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37E80-0622-4999-A178-3A475449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889A1-DA00-4FA9-9974-ECCF4CF1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497A5-9087-4DEE-A4DD-9B34091E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09226-83A3-4B56-9330-0F20BA55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D425E-AAC1-43F8-8CF4-EBF2E201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1B9C5-7B40-4CDD-A58F-0D1E4992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7B436-0479-41F2-B9DB-1335B55F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628DB-7840-40BB-987F-FD4FFC15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0D24F-A82D-4A0D-B15C-91271D78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EC0D-DC44-4585-867D-A776DA84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D32F4-9658-45A7-B19D-53E6B11F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99D7E-ECA2-43DD-8AD2-A1E66DF8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9C019-8B1C-49FF-B29C-8E5EDA2F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07971-DD76-4FE8-B78A-327A3496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BB818-E966-4C5D-BBB2-8A8EC66B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F5B16-571C-4AEF-A44D-75698CC6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7EB67-1849-4116-89E5-32B7156D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0A178-E5BB-4F91-AF36-03FA9078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47F9B-CF97-4814-AA75-4A06B623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8A4EB-E1F8-4241-AD8A-D97CFC5E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BE9-71F1-4625-AD14-13CCF1C1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89246-D71D-444C-A671-BFFE54BF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A1981-7BBA-47B7-8EAE-DB9AD048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1692F-E920-4BA0-819A-BD31D02F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3665F-32A4-4241-8090-3BA4C7DE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2FB1A-1C93-4973-B984-23E309AE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330D7-6994-4A43-B62C-340C9F5F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EFAE1-A2E7-4771-B221-3B3AFABF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333D6-4EA9-44AA-8FED-FE3465EC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ACE67-AA1C-457B-B7C1-159851AF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9C300-FA32-44AD-A73E-261E1673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9E90-C398-4149-9167-8DC102F9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986B3-1D19-408E-B947-961792A3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CD320-B574-4E72-A2A3-500AFDEB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62817-3BA3-49B3-AEF1-6A2E1727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D3B4A-6DFA-4ACE-86D3-A51F6B32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7BB39-D863-49E1-9A79-2BA8E9D7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2B0EB-2C1F-4E0D-A445-8B53B72C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9D448-9C0A-4DA8-9EC6-40035819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08DBC-B974-4FC9-A9A8-21FDF09F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E80C6-3370-4DFF-B6F1-217528D5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496FA-E445-43CE-89DC-6671C431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A233-F901-4C9F-ADD1-899BEBF1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6C179-486F-484B-8B58-C4351A4A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E2EEF-2EC4-447B-A334-52478BE8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B9A3F-873A-40AE-8292-BD2F88DB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BDE10-08FC-43CA-B23B-FBEB626A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BD07E-B044-47D2-B6D0-5C740F6F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F650F-AFD0-4C08-B3B7-A979BC0D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8D0DB-940C-41AF-A114-33FC811F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2306C-F6B9-4EEB-9B5B-1E8644FD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F5CCE-869F-4BCA-A310-9B3EEA83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389B9-1D0E-430E-BC5F-BB0FF63E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8560" y="925200"/>
            <a:ext cx="788688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2d0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F763-DCEE-44EE-96AD-B3F12E9D65D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图片 6" descr=""/>
          <p:cNvPicPr/>
          <p:nvPr/>
        </p:nvPicPr>
        <p:blipFill>
          <a:blip r:embed="rId2"/>
          <a:srcRect l="0" t="12622" r="0" b="69678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5" name="矩形 7"/>
          <p:cNvSpPr/>
          <p:nvPr/>
        </p:nvSpPr>
        <p:spPr>
          <a:xfrm>
            <a:off x="0" y="657360"/>
            <a:ext cx="6823080" cy="5688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矩形 8"/>
          <p:cNvSpPr/>
          <p:nvPr/>
        </p:nvSpPr>
        <p:spPr>
          <a:xfrm>
            <a:off x="6823080" y="655560"/>
            <a:ext cx="2320920" cy="58680"/>
          </a:xfrm>
          <a:prstGeom prst="rect">
            <a:avLst/>
          </a:prstGeom>
          <a:solidFill>
            <a:srgbClr val="a6a6a6"/>
          </a:soli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628560" y="84240"/>
            <a:ext cx="788688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FFC8-D1F7-4318-ACE3-03160B14402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363F-0F8B-4BEB-AB6C-43EAB7DCB8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AA5B-6B24-4891-A5C5-2C23E799B77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D333-8E3A-4157-A530-4F1C3FBAE0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EA47-76E9-4C02-8258-A2E2675BAF2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1009-3173-4C71-8CB5-91FE652476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F9B3-4A4C-43BD-8949-1C7265BF8CA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5C88-CD55-409F-8BCD-913A602082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3E04-BEB9-446D-8F83-A80F7DB4163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4618-2C02-4B12-8E6C-BE2BA3F188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9" descr=""/>
          <p:cNvPicPr/>
          <p:nvPr/>
        </p:nvPicPr>
        <p:blipFill>
          <a:blip r:embed="rId2"/>
          <a:srcRect l="0" t="0" r="0" b="42102"/>
          <a:stretch/>
        </p:blipFill>
        <p:spPr>
          <a:xfrm>
            <a:off x="0" y="4519440"/>
            <a:ext cx="9144000" cy="2338560"/>
          </a:xfrm>
          <a:prstGeom prst="rect">
            <a:avLst/>
          </a:prstGeom>
          <a:ln w="0">
            <a:noFill/>
          </a:ln>
        </p:spPr>
      </p:pic>
      <p:sp>
        <p:nvSpPr>
          <p:cNvPr id="45" name="矩形 10"/>
          <p:cNvSpPr/>
          <p:nvPr/>
        </p:nvSpPr>
        <p:spPr>
          <a:xfrm>
            <a:off x="0" y="4519440"/>
            <a:ext cx="6823080" cy="204840"/>
          </a:xfrm>
          <a:prstGeom prst="rect">
            <a:avLst/>
          </a:prstGeom>
          <a:solidFill>
            <a:srgbClr val="9ce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5686560" y="4325760"/>
            <a:ext cx="3457440" cy="19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28560" y="925200"/>
            <a:ext cx="788688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2d0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28560" y="84240"/>
            <a:ext cx="788688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5341-1FA5-43FC-8331-B868AF6AD07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DC3B-C9BC-4DF7-BDAD-E4E438A09C5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066E-C034-48C6-AAC9-3F83AC497D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AB23-CB3C-4C30-B1E1-6F45A1622E2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9066-D6CE-49B8-B3BE-5A393ADF5A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D232-32E5-4848-B2C7-AB1A7D19996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DC1D-5B66-4750-A098-9B9E37BEDC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6C82-357B-42C2-A7DC-19A75F5C1B6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5EC4-7BF6-4E25-BC0A-E42B3085C3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0065-ABCC-4238-B19D-C7166449B5D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DBBD-B21E-48BB-8940-B091729D14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68E6-C6EB-42D8-B4D5-D870E9742BD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4AB5-8A88-4CC4-923F-BE4EB6CE73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A266-085A-4ECF-B951-3189DEF8736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8C3A-73C2-4671-83C1-A3B134E93A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61372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黑白年终总结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endParaRPr b="1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5686560" y="3601800"/>
            <a:ext cx="30002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ce53b"/>
                </a:solidFill>
                <a:latin typeface="Calibri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84240"/>
            <a:ext cx="788688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 Light"/>
              </a:rPr>
              <a:t>此处添加标题</a:t>
            </a:r>
            <a:endParaRPr b="1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28560" y="925200"/>
            <a:ext cx="788688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2d0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17:17:19Z</dcterms:created>
  <dc:creator>邹恩栋</dc:creator>
  <dc:description/>
  <cp:keywords>XS-普屏 4：3;SC-淡绿色;BG-浅色;DH-静态</cp:keywords>
  <dc:language>en-US</dc:language>
  <cp:lastModifiedBy>a</cp:lastModifiedBy>
  <dcterms:modified xsi:type="dcterms:W3CDTF">2015-01-15T02:40:40Z</dcterms:modified>
  <cp:revision>6</cp:revision>
  <dc:subject>TP-通用纹理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