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360A2-1B84-4891-83DD-FA5B85D8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F2DD6-27EA-472A-B9DE-FBC83ED3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4E438-2B88-44ED-8FCE-BBA14BBF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7ACF9-604C-4049-9AD4-F572F54C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F6058-AC06-4649-8E91-01DF270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D4BA6-CAD8-4871-9A45-D7FCF66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8635B-2FF5-42A5-A664-BB3746C8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D3AB9-A6D0-4BE5-AE11-549157D2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155E2-E994-4F39-8255-6F4A05EB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E9C53-F414-4E5B-A460-ADE2D10F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C6CAD-8320-49CA-B24A-58616115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2662F-B64A-42F5-810A-E3C40500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6843C-91D1-48B7-8B9B-0FB65F32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B8B2F-F3C1-4511-826B-CF2B3B52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A2232-F1BB-4E7C-93FD-B8D12AEC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C46F7-82C9-431F-8669-C2B777C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4A067-0C6B-45E2-862B-1A74C340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7EEFF-EC6B-4477-9935-4F8AAC6D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892CF-5AC5-48FC-983A-FA6B72FE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FF91F-0088-4239-9B4B-FA6C9972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6F8FD-81B0-4F9B-A8EF-C825B0A1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DDBBD-28E8-4418-B021-1A6C452B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877F0-1FC1-47A7-9868-F34AAFFC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B4D23-4B97-4645-A874-F4BE101F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AC917-A73B-4B70-BE8C-16B3EEB3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E0369-FD42-4687-8F62-8DEA09F3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7B775-EA32-49F1-B606-64A47655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5C96B-13F2-429B-83F8-8067E972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A8F0D-037C-404C-BAA0-EE9876F0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89189-7398-469E-9919-DDC666DD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95C-8C23-4817-A742-F0BABFEC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B26C5-130F-480D-B29D-B2D380D2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4B312-A0A9-4188-BE13-7F7F24F8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11AC2-1D32-4597-9827-FF5A665B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87618-A5A8-4C29-BF2B-3A24E62C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B6B51-A489-40C1-8C02-1904036B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44FAB-0B4B-4E89-B220-D4A67440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4FC8B-5AFE-4A2D-8B8D-23F880A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90347-465D-4270-AF79-D215C67B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331C9-5AED-4837-9C32-D4672ECF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4FA02-E763-43AA-AA56-89233FC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E36-CF4C-4059-9687-76737877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67CB-5A8F-496D-A525-1EE9E764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F5BFE-1700-43C4-898E-FA08808F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2FE7E-F146-4F8F-895A-D6E8FAF3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F5824-E745-4EA1-AF65-D312A3DC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0F184-AD48-467E-B240-265DFBFA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B1D31-C5AD-4737-83A3-96C6268B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D31C3-53F3-4531-899E-12357230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645C5-65F7-4F53-A310-EC5D6B91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36757-F6BD-40B4-BD15-4AD5227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DE347-4889-4E07-8EE8-743D840A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270-E61D-47E1-B16E-270DD9B6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27F5B-39C5-4E8E-B25D-F581661C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12F76-E200-4371-B608-93F4A002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0C249-0D49-4403-9A25-76519DE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5082C-654A-47BF-A2FD-4C3621A7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FD9D3-E1E1-4627-A5C5-0D2C061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E90F9-1429-479D-B0EC-57656365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7FC2B-D376-4D37-9529-A10437B5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1F2-2FD8-4C81-BE78-E548DFE2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EA6-6B0A-4870-A962-FA237758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919-65F5-4454-866F-18766BFE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857-443B-4235-9594-EEFD4E7C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C33-D0FE-482B-A846-D03FFE89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F72-610C-458A-8611-B7B19D5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5B4-C04E-4016-82FE-A518E88C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B50-F0C8-41F2-9F82-54166678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A5D-BE2D-4EDA-8BEB-567AD0D4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695D-27A4-4177-92D4-3E70369B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139C-2258-4BC4-B1F5-656DD61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BFED-097F-4F31-9E74-3261B822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0B06-539C-4CFA-B894-D01A1AEB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5FE9-BD00-4817-8771-56EE0460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BC6C-474D-4535-9BD1-303FACBD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1E10-DA68-4A84-A8DE-87007DE5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C96A-3A8F-41FC-8678-4468F82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3EAE-D894-4E27-B33C-CC5E5826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7F73-D08D-4E45-AEE4-5134326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20DD-98D6-4555-833A-C7D828B5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A8A4-3ED2-4CDB-80C4-34C8347A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8F31-E04A-4022-B0EF-B27B49DA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9E06-5692-41A8-B751-005C2283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E365-D9BB-4AA8-84C5-9C530C9E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77F4-9ECE-4810-BA96-01DEC46A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4841-E95A-47DC-BBF3-7EE10B01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AFA1-0967-4751-AF4A-582FE556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F183-3195-4D39-8F79-134970A4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66D1-150F-4B61-BBB4-B6D1334C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6372-40EB-4627-A2BF-8835664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2032-5E08-4449-A63F-FA71F9F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918E-2150-4026-8F49-743BB06F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359E-FA70-4C1F-94C9-42B16C8C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3F632-ACC6-48E4-8D43-0E3D5A81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01EC-AB93-4793-A939-1C179A01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4974-CACB-4654-9C71-DFA628B4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3701-AAB9-46FE-8EEB-FCD79082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91B5-E925-4996-BA6E-4D167003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A3B8-6E5A-4840-B71B-01DB288B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66F1-5A5A-4E33-B5D0-C0EC6B4E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39CE8-E01F-4EDD-AFE7-3294DFEF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F51E-2A5A-45F0-98E9-27B3DCAF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986B-783E-4DC1-A312-7343F7AD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E73A-DDB4-40CF-A25F-59CC8448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BB0A-A366-48BF-8DC7-1B5AE53D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52149-E170-46F4-A954-85D37911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E37DD-2D51-4292-A909-7AB13140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9815-64E6-49BE-B996-AD7A19C3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B8484-4104-490F-B7F8-E93E449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40B4C-D8AE-4D07-BB69-8496512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81E5-FEB1-4410-A941-5A5B9A6F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0D127-F1D8-4F56-BAE4-D26435CE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F82FE-447B-47B4-8BA3-5FF2C9C6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7401-0A4E-431F-AC71-54F8179A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77BBB-DA76-4C82-A44A-9614C6FD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241D-D157-4A85-887B-41981C18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FE369-8B8A-4668-A339-CCEB1685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27E3F-9FDA-4710-B117-D71767C3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1EF1-DE71-4243-8667-B30E5244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7B843-262E-4ED9-8B3B-B07340B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ADC70-8DD1-4D70-BCF4-B73831E1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148A1-4A3C-435B-8979-EE28831A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2B933-FA21-4BB0-BD8F-9C098902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2A14-B046-4019-B938-C4EB20D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5C23-9D76-4D8C-AC46-43D7E78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B65A-EA68-47FE-9390-54E76C73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89AD-3D85-49BB-826C-ACB3E1A7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2FB52-72C2-471C-BC24-E005BA61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45310-62F3-4D86-BD99-BC82E4D5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82D38-AD3E-4804-A26B-791367DC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B8ED1-F30D-435D-8708-37261C2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B3D84-2113-4ED7-BDD9-1271A69E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A6104-4CA8-4646-9DF3-7EC51679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4EC01-EEB9-425C-8066-C34BE865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0344B-6E82-4120-9DB9-8EAF706A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2521-1974-4997-B089-577E7181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F2F66-9426-4DF9-ADE8-D072506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1D5C-60A1-44D6-ABD3-606D755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5FDE1-15B9-4261-8C52-47C9E581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B7F0E-5612-41F3-B68D-3EE9313E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C9791-D1F3-4828-8855-87558EC5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F9155-210F-435D-AE20-2F71E1B1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A2215-8D23-4FE4-AEEA-CE700AF7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7DFCB-B5AA-424E-8E48-11DA6039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16767"/>
                </a:solidFill>
                <a:latin typeface="나눔고딕"/>
              </a:rPr>
              <a:t>Click to edit the title text format</a:t>
            </a:r>
            <a:endParaRPr b="1" lang="en-US" sz="44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Click to edit the outline text format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1" marL="343080" indent="-343080">
              <a:spcBef>
                <a:spcPts val="799"/>
              </a:spcBef>
              <a:buClr>
                <a:srgbClr val="71676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Second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2" marL="343080" indent="-343080">
              <a:spcBef>
                <a:spcPts val="799"/>
              </a:spcBef>
              <a:buClr>
                <a:srgbClr val="71676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Third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3" marL="343080" indent="-343080">
              <a:spcBef>
                <a:spcPts val="799"/>
              </a:spcBef>
              <a:buClr>
                <a:srgbClr val="71676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Fourth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4" marL="343080" indent="-343080">
              <a:spcBef>
                <a:spcPts val="799"/>
              </a:spcBef>
              <a:buClr>
                <a:srgbClr val="716767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Fifth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Sixth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6767"/>
                </a:solidFill>
                <a:latin typeface="나눔고딕"/>
              </a:rPr>
              <a:t>Seventh Outline Level</a:t>
            </a:r>
            <a:endParaRPr b="1" lang="en-US" sz="32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2" name="직사각형 5"/>
          <p:cNvSpPr/>
          <p:nvPr/>
        </p:nvSpPr>
        <p:spPr>
          <a:xfrm>
            <a:off x="88920" y="6337440"/>
            <a:ext cx="74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FDAC-507B-497D-8902-729CC29BFF14}" type="slidenum">
              <a:rPr b="0" lang="zh-CN" sz="900" spc="-1" strike="noStrike">
                <a:solidFill>
                  <a:srgbClr val="716767"/>
                </a:solidFill>
                <a:latin typeface="나눔고딕"/>
                <a:ea typeface="나눔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CDA-E06D-43F3-85F7-A8EBB5DDDF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B36F-B440-47E4-9400-A84FB5F19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C59C-49DF-4355-91B9-29D43B2C67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A551-C0E4-4B78-967D-F9A5EFC6F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4C49-F385-41E9-9F42-FFEF645631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EBC-E9F3-42E6-A8FC-B813C7839E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0D4E-BE47-4027-8263-803AF030E5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607B-F166-4D11-B409-00A392CCFA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07F7-1E66-41FF-BEA2-7C5DFE7CCE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EC4C-E703-435A-9C92-5C4CCA1B35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08A3-7B69-4FA6-A06F-73C801BD4F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7368-F17B-40E4-81EC-BEF39FA9BC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B062-D619-4D74-A7EC-24EC294297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2333-105C-4E97-B79A-6245416C8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AC49-E7AE-44B6-A342-EFECF282B7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E926-D1ED-48D5-A0E4-C6279E0F8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C0DB-3A5D-448D-86D5-45620782DC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F83E-8D37-4883-AF61-831F3E45AC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BE06-7973-4B25-BC4F-7E22BE40AE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8615-0091-4D01-A630-823520A56F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4BA9-DA97-46A6-9410-5A5BE73929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793E-C607-4093-8573-AF3E183060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0555-9C55-4EA0-9BC0-D3F7FAFEAD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1A7C-36DA-4167-B955-F0EC85FFD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"/>
          <p:cNvSpPr/>
          <p:nvPr/>
        </p:nvSpPr>
        <p:spPr>
          <a:xfrm>
            <a:off x="539640" y="549360"/>
            <a:ext cx="8064720" cy="273528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128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문서의 제목</a:t>
            </a:r>
            <a:br>
              <a:rPr sz="4000"/>
            </a:br>
            <a:endParaRPr b="1" lang="en-US" sz="4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755640" y="4436640"/>
            <a:ext cx="219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</a:rPr>
              <a:t>작성자</a:t>
            </a:r>
            <a:endParaRPr b="1" lang="en-US" sz="1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535" name="직사각형 6"/>
          <p:cNvSpPr/>
          <p:nvPr/>
        </p:nvSpPr>
        <p:spPr>
          <a:xfrm>
            <a:off x="539640" y="3284640"/>
            <a:ext cx="8064720" cy="100800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9"/>
          <p:cNvSpPr/>
          <p:nvPr/>
        </p:nvSpPr>
        <p:spPr>
          <a:xfrm>
            <a:off x="539640" y="4292640"/>
            <a:ext cx="8064720" cy="65232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부제목 2"/>
          <p:cNvSpPr/>
          <p:nvPr/>
        </p:nvSpPr>
        <p:spPr>
          <a:xfrm>
            <a:off x="2556000" y="4437000"/>
            <a:ext cx="25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 </a:t>
            </a:r>
            <a:r>
              <a:rPr b="1" i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/ </a:t>
            </a:r>
            <a:r>
              <a:rPr b="1" i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상위부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부제목 2"/>
          <p:cNvSpPr/>
          <p:nvPr/>
        </p:nvSpPr>
        <p:spPr>
          <a:xfrm>
            <a:off x="5068800" y="4437000"/>
            <a:ext cx="219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2011.0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제목 1"/>
          <p:cNvSpPr/>
          <p:nvPr/>
        </p:nvSpPr>
        <p:spPr>
          <a:xfrm>
            <a:off x="755640" y="3355920"/>
            <a:ext cx="6121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부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3640" y="6381720"/>
            <a:ext cx="86508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9600" y="620640"/>
            <a:ext cx="51087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감사합니다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.</a:t>
            </a:r>
            <a:endParaRPr b="1" lang="en-US" sz="4000" spc="-1" strike="noStrike">
              <a:solidFill>
                <a:srgbClr val="716767"/>
              </a:solidFill>
              <a:latin typeface="나눔고딕"/>
            </a:endParaRPr>
          </a:p>
        </p:txBody>
      </p:sp>
      <p:pic>
        <p:nvPicPr>
          <p:cNvPr id="680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3640" y="6381720"/>
            <a:ext cx="86508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직사각형 17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287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나눔고딕"/>
              </a:rPr>
              <a:t>목차</a:t>
            </a:r>
            <a:endParaRPr b="1" lang="en-US" sz="24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543" name="부제목 2"/>
          <p:cNvSpPr/>
          <p:nvPr/>
        </p:nvSpPr>
        <p:spPr>
          <a:xfrm>
            <a:off x="2700360" y="167004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02  </a:t>
            </a:r>
            <a:r>
              <a:rPr b="1" i="1" lang="zh-CN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부제목 2"/>
          <p:cNvSpPr/>
          <p:nvPr/>
        </p:nvSpPr>
        <p:spPr>
          <a:xfrm>
            <a:off x="5796000" y="167004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2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2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직선 연결선 38"/>
          <p:cNvSpPr/>
          <p:nvPr/>
        </p:nvSpPr>
        <p:spPr>
          <a:xfrm>
            <a:off x="2771640" y="1596960"/>
            <a:ext cx="2952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직선 연결선 39"/>
          <p:cNvSpPr/>
          <p:nvPr/>
        </p:nvSpPr>
        <p:spPr>
          <a:xfrm>
            <a:off x="5867280" y="1596960"/>
            <a:ext cx="278136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부제목 2"/>
          <p:cNvSpPr/>
          <p:nvPr/>
        </p:nvSpPr>
        <p:spPr>
          <a:xfrm>
            <a:off x="2700360" y="272880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03  </a:t>
            </a:r>
            <a:r>
              <a:rPr b="1" i="1" lang="zh-CN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부제목 2"/>
          <p:cNvSpPr/>
          <p:nvPr/>
        </p:nvSpPr>
        <p:spPr>
          <a:xfrm>
            <a:off x="5796000" y="2728800"/>
            <a:ext cx="3313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3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3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직선 연결선 43"/>
          <p:cNvSpPr/>
          <p:nvPr/>
        </p:nvSpPr>
        <p:spPr>
          <a:xfrm>
            <a:off x="5867280" y="265752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직선 연결선 31"/>
          <p:cNvSpPr/>
          <p:nvPr/>
        </p:nvSpPr>
        <p:spPr>
          <a:xfrm>
            <a:off x="2771640" y="265752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부제목 2"/>
          <p:cNvSpPr/>
          <p:nvPr/>
        </p:nvSpPr>
        <p:spPr>
          <a:xfrm>
            <a:off x="2700360" y="60948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01  </a:t>
            </a:r>
            <a:r>
              <a:rPr b="1" i="1" lang="zh-CN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부제목 2"/>
          <p:cNvSpPr/>
          <p:nvPr/>
        </p:nvSpPr>
        <p:spPr>
          <a:xfrm>
            <a:off x="5796000" y="609480"/>
            <a:ext cx="331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1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1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직선 연결선 48"/>
          <p:cNvSpPr/>
          <p:nvPr/>
        </p:nvSpPr>
        <p:spPr>
          <a:xfrm>
            <a:off x="2771640" y="53820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직선 연결선 49"/>
          <p:cNvSpPr/>
          <p:nvPr/>
        </p:nvSpPr>
        <p:spPr>
          <a:xfrm>
            <a:off x="5867280" y="53820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부제목 2"/>
          <p:cNvSpPr/>
          <p:nvPr/>
        </p:nvSpPr>
        <p:spPr>
          <a:xfrm>
            <a:off x="2700360" y="378936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04  </a:t>
            </a:r>
            <a:r>
              <a:rPr b="1" i="1" lang="zh-CN" sz="1400" spc="-1" strike="noStrike">
                <a:solidFill>
                  <a:srgbClr val="ffffff"/>
                </a:solidFill>
                <a:latin typeface="나눔고딕"/>
                <a:ea typeface="나눔고딕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부제목 2"/>
          <p:cNvSpPr/>
          <p:nvPr/>
        </p:nvSpPr>
        <p:spPr>
          <a:xfrm>
            <a:off x="5796000" y="3789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4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4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나눔고딕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직선 연결선 53"/>
          <p:cNvSpPr/>
          <p:nvPr/>
        </p:nvSpPr>
        <p:spPr>
          <a:xfrm>
            <a:off x="5867280" y="371808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직선 연결선 54"/>
          <p:cNvSpPr/>
          <p:nvPr/>
        </p:nvSpPr>
        <p:spPr>
          <a:xfrm>
            <a:off x="2771640" y="371808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3640" y="6381720"/>
            <a:ext cx="86508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직사각형 3"/>
          <p:cNvSpPr/>
          <p:nvPr/>
        </p:nvSpPr>
        <p:spPr>
          <a:xfrm>
            <a:off x="539640" y="549360"/>
            <a:ext cx="8064720" cy="2735280"/>
          </a:xfrm>
          <a:prstGeom prst="rect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0320" y="620640"/>
            <a:ext cx="5106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꼭지 제목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나눔고딕 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EB, 40pt</a:t>
            </a:r>
            <a:endParaRPr b="1" lang="en-US" sz="4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563" name="제목 1"/>
          <p:cNvSpPr/>
          <p:nvPr/>
        </p:nvSpPr>
        <p:spPr>
          <a:xfrm>
            <a:off x="6804000" y="476280"/>
            <a:ext cx="1644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3640" y="6381720"/>
            <a:ext cx="86508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페이지 제목</a:t>
            </a:r>
            <a:br>
              <a:rPr sz="3000"/>
            </a:b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나눔고딕 </a:t>
            </a:r>
            <a:r>
              <a:rPr b="1" lang="en-US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EB, 30pt</a:t>
            </a: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pic>
        <p:nvPicPr>
          <p:cNvPr id="567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568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부제목 2"/>
          <p:cNvSpPr/>
          <p:nvPr/>
        </p:nvSpPr>
        <p:spPr>
          <a:xfrm>
            <a:off x="324000" y="2852640"/>
            <a:ext cx="56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1) </a:t>
            </a:r>
            <a:r>
              <a:rPr b="0" lang="zh-CN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소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     ① </a:t>
            </a:r>
            <a:r>
              <a:rPr b="0" lang="zh-CN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     ② </a:t>
            </a:r>
            <a:r>
              <a:rPr b="0" lang="zh-CN" sz="1100" spc="-1" strike="noStrike">
                <a:solidFill>
                  <a:srgbClr val="716767"/>
                </a:solidFill>
                <a:latin typeface="나눔고딕"/>
                <a:ea typeface="나눔고딕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부제목 2"/>
          <p:cNvSpPr/>
          <p:nvPr/>
        </p:nvSpPr>
        <p:spPr>
          <a:xfrm>
            <a:off x="324000" y="2276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1. </a:t>
            </a: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 제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500040" y="4081320"/>
            <a:ext cx="522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본문 내용의 글꼴 크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화면에서의 가독성을 고려하여 최소 </a:t>
            </a:r>
            <a:r>
              <a:rPr b="0" lang="en-US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10pt</a:t>
            </a:r>
            <a:r>
              <a:rPr b="0" lang="zh-CN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로 권장합니다</a:t>
            </a:r>
            <a:r>
              <a:rPr b="0" lang="en-US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만</a:t>
            </a:r>
            <a:r>
              <a:rPr b="0" lang="en-US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, </a:t>
            </a: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캡션으로 사용하는 경우 등 상황에 따라 </a:t>
            </a:r>
            <a:r>
              <a:rPr b="0" lang="en-US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10pt </a:t>
            </a: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미만으로 사용하실 수 있습니다</a:t>
            </a:r>
            <a:r>
              <a:rPr b="0" lang="en-US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4"/>
          <p:cNvSpPr/>
          <p:nvPr/>
        </p:nvSpPr>
        <p:spPr>
          <a:xfrm>
            <a:off x="500040" y="4948200"/>
            <a:ext cx="522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본문 내용의 줄간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기본 줄간격은 </a:t>
            </a:r>
            <a:r>
              <a:rPr b="0" lang="en-US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1.5</a:t>
            </a:r>
            <a:r>
              <a:rPr b="0" lang="zh-CN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배입니다</a:t>
            </a:r>
            <a:r>
              <a:rPr b="0" lang="en-US" sz="1000" spc="-1" strike="noStrike">
                <a:solidFill>
                  <a:srgbClr val="548bb7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상황에 따라 조절하실 수 있습니다</a:t>
            </a:r>
            <a:r>
              <a:rPr b="0" lang="en-US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9473f"/>
                </a:solidFill>
                <a:latin typeface="나눔고딕 ExtraBold"/>
                <a:ea typeface="나눔고딕 ExtraBold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093000"/>
            <a:ext cx="853920" cy="2044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pic>
        <p:nvPicPr>
          <p:cNvPr id="576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093000"/>
            <a:ext cx="853920" cy="204480"/>
          </a:xfrm>
          <a:prstGeom prst="rect">
            <a:avLst/>
          </a:prstGeom>
          <a:ln w="0">
            <a:noFill/>
          </a:ln>
        </p:spPr>
      </p:pic>
      <p:sp>
        <p:nvSpPr>
          <p:cNvPr id="577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직사각형 22"/>
          <p:cNvSpPr/>
          <p:nvPr/>
        </p:nvSpPr>
        <p:spPr>
          <a:xfrm>
            <a:off x="1835280" y="3429000"/>
            <a:ext cx="25588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부제목 2"/>
          <p:cNvSpPr/>
          <p:nvPr/>
        </p:nvSpPr>
        <p:spPr>
          <a:xfrm>
            <a:off x="1908000" y="3429000"/>
            <a:ext cx="25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직사각형 24"/>
          <p:cNvSpPr/>
          <p:nvPr/>
        </p:nvSpPr>
        <p:spPr>
          <a:xfrm>
            <a:off x="395280" y="2708280"/>
            <a:ext cx="23050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부제목 2"/>
          <p:cNvSpPr/>
          <p:nvPr/>
        </p:nvSpPr>
        <p:spPr>
          <a:xfrm>
            <a:off x="433440" y="270828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6"/>
          <p:cNvSpPr/>
          <p:nvPr/>
        </p:nvSpPr>
        <p:spPr>
          <a:xfrm>
            <a:off x="3664080" y="4149720"/>
            <a:ext cx="2420640" cy="35892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부제목 2"/>
          <p:cNvSpPr/>
          <p:nvPr/>
        </p:nvSpPr>
        <p:spPr>
          <a:xfrm>
            <a:off x="3735360" y="4149720"/>
            <a:ext cx="251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>
            <a:off x="5364000" y="4869000"/>
            <a:ext cx="27352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부제목 2"/>
          <p:cNvSpPr/>
          <p:nvPr/>
        </p:nvSpPr>
        <p:spPr>
          <a:xfrm>
            <a:off x="5435640" y="486900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직선 연결선 35"/>
          <p:cNvSpPr/>
          <p:nvPr/>
        </p:nvSpPr>
        <p:spPr>
          <a:xfrm>
            <a:off x="1789920" y="3068640"/>
            <a:ext cx="35892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직선 연결선 36"/>
          <p:cNvSpPr/>
          <p:nvPr/>
        </p:nvSpPr>
        <p:spPr>
          <a:xfrm>
            <a:off x="3733200" y="378792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선 연결선 37"/>
          <p:cNvSpPr/>
          <p:nvPr/>
        </p:nvSpPr>
        <p:spPr>
          <a:xfrm>
            <a:off x="5434920" y="450864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pic>
        <p:nvPicPr>
          <p:cNvPr id="593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594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직사각형 22"/>
          <p:cNvSpPr/>
          <p:nvPr/>
        </p:nvSpPr>
        <p:spPr>
          <a:xfrm>
            <a:off x="3492360" y="364500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부제목 2"/>
          <p:cNvSpPr/>
          <p:nvPr/>
        </p:nvSpPr>
        <p:spPr>
          <a:xfrm>
            <a:off x="3564000" y="364500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직사각형 24"/>
          <p:cNvSpPr/>
          <p:nvPr/>
        </p:nvSpPr>
        <p:spPr>
          <a:xfrm>
            <a:off x="3492360" y="292428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부제목 2"/>
          <p:cNvSpPr/>
          <p:nvPr/>
        </p:nvSpPr>
        <p:spPr>
          <a:xfrm>
            <a:off x="3529080" y="292428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직사각형 26"/>
          <p:cNvSpPr/>
          <p:nvPr/>
        </p:nvSpPr>
        <p:spPr>
          <a:xfrm>
            <a:off x="3492360" y="4365720"/>
            <a:ext cx="3600720" cy="3585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부제목 2"/>
          <p:cNvSpPr/>
          <p:nvPr/>
        </p:nvSpPr>
        <p:spPr>
          <a:xfrm>
            <a:off x="3564000" y="4365720"/>
            <a:ext cx="2519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직사각형 30"/>
          <p:cNvSpPr/>
          <p:nvPr/>
        </p:nvSpPr>
        <p:spPr>
          <a:xfrm>
            <a:off x="3492360" y="508464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부제목 2"/>
          <p:cNvSpPr/>
          <p:nvPr/>
        </p:nvSpPr>
        <p:spPr>
          <a:xfrm>
            <a:off x="3564000" y="5084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16767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직사각형 29"/>
          <p:cNvSpPr/>
          <p:nvPr/>
        </p:nvSpPr>
        <p:spPr>
          <a:xfrm>
            <a:off x="419040" y="364500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부제목 2"/>
          <p:cNvSpPr/>
          <p:nvPr/>
        </p:nvSpPr>
        <p:spPr>
          <a:xfrm>
            <a:off x="490680" y="364500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직사각형 34"/>
          <p:cNvSpPr/>
          <p:nvPr/>
        </p:nvSpPr>
        <p:spPr>
          <a:xfrm>
            <a:off x="419040" y="292428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부제목 2"/>
          <p:cNvSpPr/>
          <p:nvPr/>
        </p:nvSpPr>
        <p:spPr>
          <a:xfrm>
            <a:off x="455760" y="292428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직사각형 40"/>
          <p:cNvSpPr/>
          <p:nvPr/>
        </p:nvSpPr>
        <p:spPr>
          <a:xfrm>
            <a:off x="419040" y="4365720"/>
            <a:ext cx="2352600" cy="3585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부제목 2"/>
          <p:cNvSpPr/>
          <p:nvPr/>
        </p:nvSpPr>
        <p:spPr>
          <a:xfrm>
            <a:off x="49068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직사각형 43"/>
          <p:cNvSpPr/>
          <p:nvPr/>
        </p:nvSpPr>
        <p:spPr>
          <a:xfrm>
            <a:off x="419040" y="508464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부제목 2"/>
          <p:cNvSpPr/>
          <p:nvPr/>
        </p:nvSpPr>
        <p:spPr>
          <a:xfrm>
            <a:off x="490680" y="508464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987280" y="4223880"/>
            <a:ext cx="289080" cy="2160"/>
            <a:chOff x="2987280" y="4223880"/>
            <a:chExt cx="289080" cy="2160"/>
          </a:xfrm>
        </p:grpSpPr>
        <p:cxnSp>
          <p:nvCxnSpPr>
            <p:cNvPr id="614" name="직선 화살표 연결선 46"/>
            <p:cNvCxnSpPr/>
            <p:nvPr/>
          </p:nvCxnSpPr>
          <p:spPr>
            <a:xfrm>
              <a:off x="2987280" y="4223880"/>
              <a:ext cx="289440" cy="2520"/>
            </a:xfrm>
            <a:prstGeom prst="straightConnector1">
              <a:avLst/>
            </a:prstGeom>
            <a:ln w="38160">
              <a:solidFill>
                <a:srgbClr val="716767"/>
              </a:solidFill>
              <a:miter/>
              <a:tailEnd len="med" type="arrow" w="med"/>
            </a:ln>
          </p:spPr>
        </p:cxnSp>
        <p:sp>
          <p:nvSpPr>
            <p:cNvPr id="615" name=""/>
            <p:cNvSpPr txBox="1"/>
            <p:nvPr/>
          </p:nvSpPr>
          <p:spPr>
            <a:xfrm>
              <a:off x="2987280" y="4223880"/>
              <a:ext cx="289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pic>
        <p:nvPicPr>
          <p:cNvPr id="617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618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395280" y="2676600"/>
            <a:ext cx="8424720" cy="3416400"/>
            <a:chOff x="395280" y="2676600"/>
            <a:chExt cx="8424720" cy="3416400"/>
          </a:xfrm>
        </p:grpSpPr>
        <p:sp>
          <p:nvSpPr>
            <p:cNvPr id="620" name="Rectangle 6"/>
            <p:cNvSpPr/>
            <p:nvPr/>
          </p:nvSpPr>
          <p:spPr>
            <a:xfrm>
              <a:off x="395280" y="2676600"/>
              <a:ext cx="8424720" cy="978480"/>
            </a:xfrm>
            <a:prstGeom prst="rect">
              <a:avLst/>
            </a:prstGeom>
            <a:solidFill>
              <a:srgbClr val="716767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395280" y="2676600"/>
              <a:ext cx="8424720" cy="9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 </a:t>
              </a:r>
              <a:r>
                <a:rPr b="1" lang="zh-CN" sz="120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8"/>
            <p:cNvSpPr/>
            <p:nvPr/>
          </p:nvSpPr>
          <p:spPr>
            <a:xfrm>
              <a:off x="395280" y="3614400"/>
              <a:ext cx="4212360" cy="1869840"/>
            </a:xfrm>
            <a:prstGeom prst="rect">
              <a:avLst/>
            </a:prstGeom>
            <a:solidFill>
              <a:srgbClr val="80875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9"/>
            <p:cNvSpPr/>
            <p:nvPr/>
          </p:nvSpPr>
          <p:spPr>
            <a:xfrm>
              <a:off x="395280" y="3614400"/>
              <a:ext cx="421236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 </a:t>
              </a:r>
              <a:r>
                <a:rPr b="1" lang="zh-CN" sz="12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0"/>
            <p:cNvSpPr/>
            <p:nvPr/>
          </p:nvSpPr>
          <p:spPr>
            <a:xfrm>
              <a:off x="4607640" y="3614400"/>
              <a:ext cx="4212360" cy="1869840"/>
            </a:xfrm>
            <a:prstGeom prst="rect">
              <a:avLst/>
            </a:prstGeom>
            <a:solidFill>
              <a:srgbClr val="80875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1"/>
            <p:cNvSpPr/>
            <p:nvPr/>
          </p:nvSpPr>
          <p:spPr>
            <a:xfrm>
              <a:off x="4607640" y="3614400"/>
              <a:ext cx="421236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 </a:t>
              </a:r>
              <a:r>
                <a:rPr b="1" lang="zh-CN" sz="12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2"/>
            <p:cNvSpPr/>
            <p:nvPr/>
          </p:nvSpPr>
          <p:spPr>
            <a:xfrm>
              <a:off x="395280" y="5436360"/>
              <a:ext cx="8424720" cy="656640"/>
            </a:xfrm>
            <a:prstGeom prst="rect">
              <a:avLst/>
            </a:prstGeom>
            <a:solidFill>
              <a:srgbClr val="80875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628" name="직사각형 10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그림 16" descr="NHN로고-흰색.png"/>
          <p:cNvPicPr/>
          <p:nvPr/>
        </p:nvPicPr>
        <p:blipFill>
          <a:blip r:embed="rId1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pic>
        <p:nvPicPr>
          <p:cNvPr id="631" name="그림 11" descr="NHN로고-흰색.png"/>
          <p:cNvPicPr/>
          <p:nvPr/>
        </p:nvPicPr>
        <p:blipFill>
          <a:blip r:embed="rId2"/>
          <a:stretch/>
        </p:blipFill>
        <p:spPr>
          <a:xfrm>
            <a:off x="7883640" y="6308640"/>
            <a:ext cx="853920" cy="204840"/>
          </a:xfrm>
          <a:prstGeom prst="rect">
            <a:avLst/>
          </a:prstGeom>
          <a:ln w="0">
            <a:noFill/>
          </a:ln>
        </p:spPr>
      </p:pic>
      <p:sp>
        <p:nvSpPr>
          <p:cNvPr id="632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16767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65534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16767"/>
              </a:solidFill>
              <a:latin typeface="나눔고딕"/>
            </a:endParaRPr>
          </a:p>
        </p:txBody>
      </p:sp>
      <p:sp>
        <p:nvSpPr>
          <p:cNvPr id="634" name="직사각형 1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제목 1"/>
          <p:cNvSpPr/>
          <p:nvPr/>
        </p:nvSpPr>
        <p:spPr>
          <a:xfrm>
            <a:off x="7031160" y="117360"/>
            <a:ext cx="1646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16767"/>
                </a:solidFill>
                <a:latin typeface="나눔고딕 ExtraBold"/>
                <a:ea typeface="나눔고딕 ExtraBold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8"/>
          <p:cNvGrpSpPr/>
          <p:nvPr/>
        </p:nvGrpSpPr>
        <p:grpSpPr>
          <a:xfrm>
            <a:off x="3924360" y="2421000"/>
            <a:ext cx="5435640" cy="3624120"/>
            <a:chOff x="3924360" y="2421000"/>
            <a:chExt cx="5435640" cy="3624120"/>
          </a:xfrm>
        </p:grpSpPr>
        <p:sp>
          <p:nvSpPr>
            <p:cNvPr id="637" name="Oval 9"/>
            <p:cNvSpPr/>
            <p:nvPr/>
          </p:nvSpPr>
          <p:spPr>
            <a:xfrm>
              <a:off x="3924360" y="2421000"/>
              <a:ext cx="5435640" cy="3624120"/>
            </a:xfrm>
            <a:prstGeom prst="ellipse">
              <a:avLst/>
            </a:prstGeom>
            <a:solidFill>
              <a:srgbClr val="d3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0"/>
            <p:cNvSpPr/>
            <p:nvPr/>
          </p:nvSpPr>
          <p:spPr>
            <a:xfrm>
              <a:off x="5882400" y="2602080"/>
              <a:ext cx="15195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1"/>
            <p:cNvSpPr/>
            <p:nvPr/>
          </p:nvSpPr>
          <p:spPr>
            <a:xfrm>
              <a:off x="4467600" y="3145680"/>
              <a:ext cx="4348440" cy="2899440"/>
            </a:xfrm>
            <a:prstGeom prst="ellipse">
              <a:avLst/>
            </a:prstGeom>
            <a:solidFill>
              <a:srgbClr val="bed2e3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2"/>
            <p:cNvSpPr/>
            <p:nvPr/>
          </p:nvSpPr>
          <p:spPr>
            <a:xfrm>
              <a:off x="5882400" y="3319560"/>
              <a:ext cx="15195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3"/>
            <p:cNvSpPr/>
            <p:nvPr/>
          </p:nvSpPr>
          <p:spPr>
            <a:xfrm>
              <a:off x="5011200" y="3870720"/>
              <a:ext cx="3261240" cy="2174400"/>
            </a:xfrm>
            <a:prstGeom prst="ellipse">
              <a:avLst/>
            </a:prstGeom>
            <a:solidFill>
              <a:srgbClr val="548bb7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5882400" y="4033800"/>
              <a:ext cx="15195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15"/>
            <p:cNvSpPr/>
            <p:nvPr/>
          </p:nvSpPr>
          <p:spPr>
            <a:xfrm>
              <a:off x="5554800" y="4595400"/>
              <a:ext cx="2174040" cy="1449720"/>
            </a:xfrm>
            <a:prstGeom prst="ellipse">
              <a:avLst/>
            </a:prstGeom>
            <a:solidFill>
              <a:srgbClr val="345d7e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6"/>
            <p:cNvSpPr/>
            <p:nvPr/>
          </p:nvSpPr>
          <p:spPr>
            <a:xfrm>
              <a:off x="5873400" y="4957920"/>
              <a:ext cx="153720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17"/>
          <p:cNvGrpSpPr/>
          <p:nvPr/>
        </p:nvGrpSpPr>
        <p:grpSpPr>
          <a:xfrm>
            <a:off x="-176040" y="2421000"/>
            <a:ext cx="5541840" cy="3551040"/>
            <a:chOff x="-176040" y="2421000"/>
            <a:chExt cx="5541840" cy="3551040"/>
          </a:xfrm>
        </p:grpSpPr>
        <p:sp>
          <p:nvSpPr>
            <p:cNvPr id="646" name="AutoShape 18"/>
            <p:cNvSpPr/>
            <p:nvPr/>
          </p:nvSpPr>
          <p:spPr>
            <a:xfrm>
              <a:off x="1209240" y="2421000"/>
              <a:ext cx="2770920" cy="1775520"/>
            </a:xfrm>
            <a:prstGeom prst="triangle">
              <a:avLst>
                <a:gd name="adj" fmla="val 50000"/>
              </a:avLst>
            </a:prstGeom>
            <a:solidFill>
              <a:srgbClr val="a17b3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9"/>
            <p:cNvSpPr/>
            <p:nvPr/>
          </p:nvSpPr>
          <p:spPr>
            <a:xfrm>
              <a:off x="1209240" y="2421000"/>
              <a:ext cx="277092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0"/>
            <p:cNvSpPr/>
            <p:nvPr/>
          </p:nvSpPr>
          <p:spPr>
            <a:xfrm>
              <a:off x="-176040" y="4196520"/>
              <a:ext cx="2770920" cy="1775520"/>
            </a:xfrm>
            <a:prstGeom prst="triangle">
              <a:avLst>
                <a:gd name="adj" fmla="val 50000"/>
              </a:avLst>
            </a:prstGeom>
            <a:solidFill>
              <a:srgbClr val="a17b3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21"/>
            <p:cNvSpPr/>
            <p:nvPr/>
          </p:nvSpPr>
          <p:spPr>
            <a:xfrm>
              <a:off x="-176040" y="4196520"/>
              <a:ext cx="277092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2"/>
            <p:cNvSpPr/>
            <p:nvPr/>
          </p:nvSpPr>
          <p:spPr>
            <a:xfrm rot="10800000">
              <a:off x="1208880" y="4196520"/>
              <a:ext cx="2770920" cy="1775520"/>
            </a:xfrm>
            <a:prstGeom prst="triangle">
              <a:avLst>
                <a:gd name="adj" fmla="val 50000"/>
              </a:avLst>
            </a:prstGeom>
            <a:solidFill>
              <a:srgbClr val="503d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3"/>
            <p:cNvSpPr/>
            <p:nvPr/>
          </p:nvSpPr>
          <p:spPr>
            <a:xfrm rot="10800000">
              <a:off x="1208880" y="4196520"/>
              <a:ext cx="277092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4"/>
            <p:cNvSpPr/>
            <p:nvPr/>
          </p:nvSpPr>
          <p:spPr>
            <a:xfrm>
              <a:off x="2594880" y="4196520"/>
              <a:ext cx="2770920" cy="1775520"/>
            </a:xfrm>
            <a:prstGeom prst="triangle">
              <a:avLst>
                <a:gd name="adj" fmla="val 50000"/>
              </a:avLst>
            </a:prstGeom>
            <a:solidFill>
              <a:srgbClr val="a17b35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25"/>
            <p:cNvSpPr/>
            <p:nvPr/>
          </p:nvSpPr>
          <p:spPr>
            <a:xfrm>
              <a:off x="2594880" y="4196520"/>
              <a:ext cx="277092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나눔고딕"/>
                  <a:ea typeface="나눔고딕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직사각형 1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부제목 2"/>
          <p:cNvSpPr/>
          <p:nvPr/>
        </p:nvSpPr>
        <p:spPr>
          <a:xfrm>
            <a:off x="324000" y="333360"/>
            <a:ext cx="33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직사각형 22"/>
          <p:cNvSpPr/>
          <p:nvPr/>
        </p:nvSpPr>
        <p:spPr>
          <a:xfrm>
            <a:off x="466560" y="981000"/>
            <a:ext cx="2559240" cy="358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부제목 2"/>
          <p:cNvSpPr/>
          <p:nvPr/>
        </p:nvSpPr>
        <p:spPr>
          <a:xfrm>
            <a:off x="539640" y="981000"/>
            <a:ext cx="25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직사각형 24"/>
          <p:cNvSpPr/>
          <p:nvPr/>
        </p:nvSpPr>
        <p:spPr>
          <a:xfrm>
            <a:off x="441360" y="4076640"/>
            <a:ext cx="456228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부제목 2"/>
          <p:cNvSpPr/>
          <p:nvPr/>
        </p:nvSpPr>
        <p:spPr>
          <a:xfrm>
            <a:off x="477720" y="4076640"/>
            <a:ext cx="467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직사각형 26"/>
          <p:cNvSpPr/>
          <p:nvPr/>
        </p:nvSpPr>
        <p:spPr>
          <a:xfrm>
            <a:off x="6975360" y="2548080"/>
            <a:ext cx="165744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부제목 2"/>
          <p:cNvSpPr/>
          <p:nvPr/>
        </p:nvSpPr>
        <p:spPr>
          <a:xfrm>
            <a:off x="7048440" y="254808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직사각형 30"/>
          <p:cNvSpPr/>
          <p:nvPr/>
        </p:nvSpPr>
        <p:spPr>
          <a:xfrm>
            <a:off x="3060720" y="6021360"/>
            <a:ext cx="302400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부제목 2"/>
          <p:cNvSpPr/>
          <p:nvPr/>
        </p:nvSpPr>
        <p:spPr>
          <a:xfrm>
            <a:off x="3132000" y="602136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직선 연결선 35"/>
          <p:cNvSpPr/>
          <p:nvPr/>
        </p:nvSpPr>
        <p:spPr>
          <a:xfrm>
            <a:off x="3067920" y="1368360"/>
            <a:ext cx="576360" cy="57636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직선 연결선 37"/>
          <p:cNvSpPr/>
          <p:nvPr/>
        </p:nvSpPr>
        <p:spPr>
          <a:xfrm flipV="1">
            <a:off x="1339920" y="4444560"/>
            <a:ext cx="350640" cy="35100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직선 연결선 29"/>
          <p:cNvSpPr/>
          <p:nvPr/>
        </p:nvSpPr>
        <p:spPr>
          <a:xfrm>
            <a:off x="1690560" y="1339920"/>
            <a:ext cx="0" cy="57636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C:\Documents and Settings\nhn\바탕 화면\새 폴더\EQ022.JPG"/>
          <p:cNvPicPr/>
          <p:nvPr/>
        </p:nvPicPr>
        <p:blipFill>
          <a:blip r:embed="rId1"/>
          <a:stretch/>
        </p:blipFill>
        <p:spPr>
          <a:xfrm>
            <a:off x="3666960" y="1979640"/>
            <a:ext cx="1121040" cy="1520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68" name="Picture 2" descr="C:\Documents and Settings\nhn\바탕 화면\새 폴더\EQ022.JPG"/>
          <p:cNvPicPr/>
          <p:nvPr/>
        </p:nvPicPr>
        <p:blipFill>
          <a:blip r:embed="rId2"/>
          <a:stretch/>
        </p:blipFill>
        <p:spPr>
          <a:xfrm>
            <a:off x="1185840" y="1979640"/>
            <a:ext cx="1079640" cy="1520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69" name="직선 연결선 40"/>
          <p:cNvSpPr/>
          <p:nvPr/>
        </p:nvSpPr>
        <p:spPr>
          <a:xfrm flipH="1">
            <a:off x="1690200" y="3571920"/>
            <a:ext cx="1800" cy="48744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직선 연결선 41"/>
          <p:cNvSpPr/>
          <p:nvPr/>
        </p:nvSpPr>
        <p:spPr>
          <a:xfrm>
            <a:off x="7767720" y="2908440"/>
            <a:ext cx="0" cy="18889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C:\Documents and Settings\nhn\바탕 화면\새 폴더\EQ022.JPG"/>
          <p:cNvPicPr/>
          <p:nvPr/>
        </p:nvPicPr>
        <p:blipFill>
          <a:blip r:embed="rId3"/>
          <a:stretch/>
        </p:blipFill>
        <p:spPr>
          <a:xfrm>
            <a:off x="7191360" y="4869000"/>
            <a:ext cx="1081080" cy="1522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72" name="Picture 2" descr="C:\Documents and Settings\nhn\바탕 화면\새 폴더\EQ022.JPG"/>
          <p:cNvPicPr/>
          <p:nvPr/>
        </p:nvPicPr>
        <p:blipFill>
          <a:blip r:embed="rId4"/>
          <a:stretch/>
        </p:blipFill>
        <p:spPr>
          <a:xfrm>
            <a:off x="469800" y="4863960"/>
            <a:ext cx="1081080" cy="1521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73" name="직선 연결선 54"/>
          <p:cNvSpPr/>
          <p:nvPr/>
        </p:nvSpPr>
        <p:spPr>
          <a:xfrm>
            <a:off x="1619280" y="6189840"/>
            <a:ext cx="14414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직선 연결선 59"/>
          <p:cNvSpPr/>
          <p:nvPr/>
        </p:nvSpPr>
        <p:spPr>
          <a:xfrm flipV="1">
            <a:off x="4819680" y="2723760"/>
            <a:ext cx="2152800" cy="1908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직선 연결선 62"/>
          <p:cNvSpPr/>
          <p:nvPr/>
        </p:nvSpPr>
        <p:spPr>
          <a:xfrm>
            <a:off x="4226760" y="3502080"/>
            <a:ext cx="25560" cy="5587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직선 연결선 66"/>
          <p:cNvSpPr/>
          <p:nvPr/>
        </p:nvSpPr>
        <p:spPr>
          <a:xfrm>
            <a:off x="5003640" y="4437000"/>
            <a:ext cx="2089440" cy="11527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직선 연결선 69"/>
          <p:cNvSpPr/>
          <p:nvPr/>
        </p:nvSpPr>
        <p:spPr>
          <a:xfrm flipV="1">
            <a:off x="6083280" y="6189840"/>
            <a:ext cx="1103400" cy="1080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8:21:00Z</dcterms:created>
  <dc:creator>네이버 한글캠페인</dc:creator>
  <dc:description/>
  <cp:keywords/>
  <dc:language>en-US</dc:language>
  <cp:lastModifiedBy>a</cp:lastModifiedBy>
  <dcterms:modified xsi:type="dcterms:W3CDTF">2014-07-24T07:50:19Z</dcterms:modified>
  <cp:revision>3</cp:revision>
  <dc:subject/>
  <dc:title>문서의 제목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