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631-69DF-4AF6-8A5D-4548BEC3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9F0-1850-4647-BD66-5C68D0C7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FF2-1E23-4D3E-8948-76858A2F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6C2-F83A-42EA-BF3A-CBCB61A8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F69C-771C-4313-B29F-78489091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FC76-B824-4EAF-9A15-933FF78E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CCA8-6C06-48CA-BC3C-BD2DCE10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3517-6F75-48AA-BADD-0DC3182E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3CD1-A129-4B70-8978-F866CD95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99D9-C693-4248-B848-BD2CB272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8004-20E3-4310-BC18-C3F5379E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C0B-97D3-4AFF-A29E-EDD7F10A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EFA2-9A25-4E24-8EB1-53158074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18B5-0C80-4F9A-AEAC-57D23D65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AB10-0295-49C9-A980-46C69E8C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1FF4-9AFC-438A-9D85-EAC17C30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3174-E345-4145-BAD6-BC66D30D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69276-0B86-4D6F-8B94-7E0A0CF4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FD04C-ABCE-4C32-873F-7345D648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8E0B-5AE3-40E1-8843-63B94FA4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1280D-5162-47F8-B54B-68EB327E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A87CE-1878-4BB5-8BFA-7B2673AA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188-60DD-427C-A633-C8AF358E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3AA15-1817-4D5A-AEAA-E7D6F1E8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2BDB2-E718-4BED-B9BD-4E11B0C3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2689F-C2C1-4672-BD8E-02FC1220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0501-8810-491B-B1BC-D9D47309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2309F-D797-43E7-8254-D56D07D4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51956-8B07-4406-8133-737EB96A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82A78-6F80-4AAE-85CD-DEF1A2BD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2FD-3F5C-4D1F-BB4C-9A664EB5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FF0-C812-42E8-AEBE-63B6136B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60F-9A51-47B5-A201-78EFFED2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6C2D-B2D8-460D-8C63-6F077837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94F-2F30-4926-8A81-8CCD7A37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F63-CA70-4B39-B37E-DA9F4356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S_Template00112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5D26-8D71-495F-9A79-9EF4B2F01A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LP_Template00112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835280" y="1628640"/>
            <a:ext cx="70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042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923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3272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2901-242A-434D-B5CD-327077B472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E80A-A2BB-4D67-999D-92422F84CF3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56C6-0370-4398-9EA5-F7C94146A9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LT_Template00112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000" y="460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8000" y="1182600"/>
            <a:ext cx="64008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1"/>
              </a:rPr>
              <a:t>免费PPT模板</a:t>
            </a: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35280" y="1628640"/>
            <a:ext cx="70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04:06:14Z</dcterms:created>
  <dc:creator>Jack</dc:creator>
  <dc:description/>
  <dc:language>en-US</dc:language>
  <cp:lastModifiedBy>a</cp:lastModifiedBy>
  <dcterms:modified xsi:type="dcterms:W3CDTF">2015-01-14T17:26:24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