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FC7-1D2C-4463-84EC-8B41C64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605-F058-4322-ACBE-903E47C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646-19E1-40F8-ACCD-288AA729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035-2BD7-4F2C-8B6B-683EAB2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FAA-A8E4-4A9A-BF39-CA98FED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E8F3-A768-40A6-AC06-3C191FD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285C-0C0F-4DC9-AF09-A227604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874F-A0F5-4515-8711-885EE843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AEEA-D05D-4663-8D23-5D454E56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B5AA-E974-4790-8918-0A69AF5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27FE-8792-457D-8005-8B0C65B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471-4B4C-4242-A2A8-ED97DC2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210D-14D3-4B85-9171-D63AB42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80C8-2794-425C-8200-6FE843E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0BE3-D8A7-4639-83F0-E04F1F73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15BE-1C15-4FDE-BD33-AB87C2A8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001A-558B-4342-A827-6847B934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27A5-C216-42FB-83B9-0AF4C961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4C4D-E2AD-473A-8967-73C2E18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C7B0-761B-4AEA-A052-FC7769F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C8EC-A50A-4BF0-98AD-26FB88C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4783-D65C-4C17-9C50-8919BC6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7FB-B3C5-41EB-B424-FA376843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1E72-6F11-407E-86ED-38F88D6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99C0-225B-473E-B2B7-EDF6BC5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D32C-7359-4AD3-95FD-42A98DC6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BDD9-08ED-4B0B-A76E-83FF6C7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A6BA-634D-49F4-982E-943EE0F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1939-665A-45CD-934E-992A0F77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5D8F-7C07-4C44-A205-43DE2435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9BBE-23F8-4156-887E-6711E60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5279-B801-45AA-8987-CA24D88C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63DA-9861-443E-8C63-1482A4D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AD9-1B6A-4AA7-A0B4-7BC942C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37EA-64EF-4E7E-87CF-EDB5AB85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C322-7561-4331-A9B2-9D65821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EB5B-0B3A-41B5-9936-75D87288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3A31-1A74-4FE6-84CA-2110AC3A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4AB5-603A-4609-8B58-679683D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604D-6B04-46AD-B329-E102644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0A61-CB64-4883-B539-34FAD9A9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8068-258D-433A-B091-ACC567CC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A509-26CF-4D1C-A3FB-1D0580E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220-EFD3-4B8D-99E7-BC54A182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B5C-B3A1-4B7B-94DE-E227260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A48-F190-43B2-BC65-57C1D8B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F3A-1850-417F-9AB9-EF93426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55C-779D-4389-8A25-182B833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-22320"/>
            <a:ext cx="9144000" cy="144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D2B-B064-4A1D-9B59-2E3E02964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2C3A-75C3-4E5A-9B59-F4CA69866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C600-161C-4CCD-93D5-05FBE44658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30B9-7B9E-48EE-B390-ABA3FAC3EB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FD41-88D2-4DC8-BC98-6F561020E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黄色典雅风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411280" y="3357720"/>
            <a:ext cx="41767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追求经典的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451240" y="2421000"/>
            <a:ext cx="2230200" cy="863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808520" y="2421000"/>
            <a:ext cx="1819440" cy="86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451240" y="3429000"/>
            <a:ext cx="2809800" cy="863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359320" y="3429000"/>
            <a:ext cx="1268640" cy="863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90840" y="69372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ta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7885080" y="925560"/>
            <a:ext cx="126828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172360" y="1457280"/>
            <a:ext cx="981000" cy="504720"/>
          </a:xfrm>
          <a:prstGeom prst="rect">
            <a:avLst/>
          </a:prstGeom>
          <a:solidFill>
            <a:srgbClr val="993300">
              <a:alpha val="70000"/>
            </a:srgbClr>
          </a:solidFill>
          <a:ln w="936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885080" y="1996920"/>
            <a:ext cx="1268280" cy="505080"/>
          </a:xfrm>
          <a:prstGeom prst="rect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172360" y="2536920"/>
            <a:ext cx="981000" cy="504720"/>
          </a:xfrm>
          <a:prstGeom prst="rect">
            <a:avLst/>
          </a:prstGeom>
          <a:solidFill>
            <a:srgbClr val="ff5050">
              <a:alpha val="60000"/>
            </a:srgbClr>
          </a:solidFill>
          <a:ln w="936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7885080" y="3078000"/>
            <a:ext cx="1268280" cy="505080"/>
          </a:xfrm>
          <a:prstGeom prst="rect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2"/>
          <p:cNvSpPr/>
          <p:nvPr/>
        </p:nvSpPr>
        <p:spPr>
          <a:xfrm>
            <a:off x="3421080" y="1700280"/>
            <a:ext cx="0" cy="237636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5364000" y="1700280"/>
            <a:ext cx="0" cy="237636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916080" y="191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16080" y="2868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6526080"/>
            <a:ext cx="9144000" cy="363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03:49Z</dcterms:created>
  <dc:creator>yellownancy</dc:creator>
  <dc:description/>
  <dc:language>en-US</dc:language>
  <cp:lastModifiedBy>a</cp:lastModifiedBy>
  <dcterms:modified xsi:type="dcterms:W3CDTF">2015-01-15T04:40:24Z</dcterms:modified>
  <cp:revision>1</cp:revision>
  <dc:subject/>
  <dc:title>黄色典雅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