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26D-00B3-4B84-AD31-94F041E2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F7C-1D4D-49CA-AC49-195DE29E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90A-5130-4F33-AE7D-0D30F8D4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4D7-AD29-4892-B45A-4F92FE2D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19ED-BE9F-434E-A587-62972484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2FCD-D0F5-467C-9C31-FAA9454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DE33-8C7E-476E-B755-A393FB3A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201D-72D3-42D7-8CE3-36395C79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78E6-57D6-49AF-9524-51F3D3D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6CE9-DE01-4720-B3E6-2AA88869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4A11-788A-4109-A06D-13BC4968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881-26A4-4530-B725-2D2B1095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A666-5B22-4788-9136-5F40EBB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866B-9580-4266-B2ED-8406694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9EED-623E-43C1-ADA7-AF1B5374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E8F7-6C30-41E2-BF75-3103CE12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BB07-20B9-4A1F-A346-6641318B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DC3-ECD0-415C-A1A0-75354E44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99F-9A04-4E71-91E3-A74D345E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237-BEA8-4439-9FF0-39441D4D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D51-012A-4502-9183-AF562F62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123-E58D-4F7C-9F91-3954883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A87-88C0-4ADF-A79D-93046A2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F5A-7706-4C6B-A8B1-A46B95D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7FDB-99BA-435E-AC5D-7FF3926A2B5B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0514-A046-412D-B0C6-A226DAD69ED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99A2-EA77-4329-92F5-BC777C451E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Georgia"/>
                <a:ea typeface="宋体"/>
              </a:rPr>
              <a:t>黑色古典艺术花纹</a:t>
            </a:r>
            <a:r>
              <a:rPr b="0" lang="zh-CN" sz="3600" spc="-1" strike="noStrike">
                <a:solidFill>
                  <a:srgbClr val="f2f2f2"/>
                </a:solidFill>
                <a:latin typeface="Georgia"/>
                <a:ea typeface="宋体"/>
              </a:rPr>
              <a:t>PPT</a:t>
            </a:r>
            <a:r>
              <a:rPr b="0" lang="zh-CN" sz="3600" spc="-1" strike="noStrike">
                <a:solidFill>
                  <a:srgbClr val="f2f2f2"/>
                </a:solidFill>
                <a:latin typeface="Georgia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60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CA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CA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CA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CA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CA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CA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2:50:16Z</dcterms:created>
  <dc:creator>kingsoft</dc:creator>
  <dc:description/>
  <dc:language>en-US</dc:language>
  <cp:lastModifiedBy>a</cp:lastModifiedBy>
  <dcterms:modified xsi:type="dcterms:W3CDTF">2015-01-14T17:12:49Z</dcterms:modified>
  <cp:revision>3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