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6BB-8EEB-49DC-BEFA-8489F104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129-00F4-42AA-B8EA-99157872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D0E-A5E3-457E-BAA8-C0F14D14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D17-5141-4683-913F-1692E1C6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BDA-FF1A-4BF0-BEDB-1A04327C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7C4-D7A6-4E76-8B4E-3E87DD12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F70-7493-40F8-B4DB-64F5D169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D15-A3D9-4A8A-9EA1-AF38CFB3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037-DCB0-4F51-8009-6F89CE82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470-38C3-4263-9E4D-59CDF482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5E9-B819-418A-8A07-B830CDD9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A20-AC02-4606-A1A4-52D51830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D832-182E-4401-B976-54D072D4D45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6EA6-6A4D-4124-B952-F27B5ABEC4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09320" y="61722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</a:t>
            </a:r>
            <a:r>
              <a:rPr b="1" lang="en-US" sz="2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SUBTITLE</a:t>
            </a:r>
            <a:r>
              <a:rPr b="1" lang="en-US" sz="2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GOES</a:t>
            </a:r>
            <a:r>
              <a:rPr b="1" lang="en-US" sz="2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" y="55627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SKATEBOARD Z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kate"/>
          <p:cNvPicPr/>
          <p:nvPr/>
        </p:nvPicPr>
        <p:blipFill>
          <a:blip r:embed="rId2"/>
          <a:stretch/>
        </p:blipFill>
        <p:spPr>
          <a:xfrm>
            <a:off x="5943600" y="2209680"/>
            <a:ext cx="2641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5800" y="16765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4876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TRAN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skateboarder"/>
          <p:cNvPicPr/>
          <p:nvPr/>
        </p:nvPicPr>
        <p:blipFill>
          <a:blip r:embed="rId2"/>
          <a:stretch/>
        </p:blipFill>
        <p:spPr>
          <a:xfrm>
            <a:off x="2798640" y="1371600"/>
            <a:ext cx="36021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ero"/>
                <a:ea typeface="宋体"/>
              </a:rPr>
              <a:t>YOUR TITL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ero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ero"/>
                <a:ea typeface="宋体"/>
              </a:rPr>
              <a:t>YOUR SUBTOPIC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5800" y="3124080"/>
            <a:ext cx="8229600" cy="3200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80880" y="6705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57200" y="2743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skateboard_zone_qx"/>
          <p:cNvPicPr/>
          <p:nvPr/>
        </p:nvPicPr>
        <p:blipFill>
          <a:blip r:embed="rId1"/>
          <a:stretch/>
        </p:blipFill>
        <p:spPr>
          <a:xfrm>
            <a:off x="25909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7" name="Picture 9" descr="skateboard_zone_sld"/>
          <p:cNvPicPr/>
          <p:nvPr/>
        </p:nvPicPr>
        <p:blipFill>
          <a:blip r:embed="rId2"/>
          <a:stretch/>
        </p:blipFill>
        <p:spPr>
          <a:xfrm>
            <a:off x="41911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8" name="Picture 10" descr="skateboard_zone_trs"/>
          <p:cNvPicPr/>
          <p:nvPr/>
        </p:nvPicPr>
        <p:blipFill>
          <a:blip r:embed="rId3"/>
          <a:stretch/>
        </p:blipFill>
        <p:spPr>
          <a:xfrm>
            <a:off x="57913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9" name="Picture 11" descr="skateboard_zone_prt"/>
          <p:cNvPicPr/>
          <p:nvPr/>
        </p:nvPicPr>
        <p:blipFill>
          <a:blip r:embed="rId4"/>
          <a:stretch/>
        </p:blipFill>
        <p:spPr>
          <a:xfrm>
            <a:off x="73915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0" name="Picture 12" descr="skateboarder"/>
          <p:cNvPicPr/>
          <p:nvPr/>
        </p:nvPicPr>
        <p:blipFill>
          <a:blip r:embed="rId5"/>
          <a:stretch/>
        </p:blipFill>
        <p:spPr>
          <a:xfrm>
            <a:off x="5410080" y="2895480"/>
            <a:ext cx="3108600" cy="365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skate"/>
          <p:cNvPicPr/>
          <p:nvPr/>
        </p:nvPicPr>
        <p:blipFill>
          <a:blip r:embed="rId6"/>
          <a:stretch/>
        </p:blipFill>
        <p:spPr>
          <a:xfrm>
            <a:off x="1165320" y="4010040"/>
            <a:ext cx="43974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8T04:57:51Z</dcterms:modified>
  <cp:revision>1</cp:revision>
  <dc:subject/>
  <dc:title>PowerPoint 演示文稿</dc:title>
</cp:coreProperties>
</file>