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8999538" cy="6011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908B-47A9-4A05-A01F-BE7BAFA6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1410-05AF-44A5-9BDC-BE29207F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15D-20D5-4212-9CC9-D17D41A3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F1A0-106E-4F3A-851B-CBD41D3B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D459-33B4-42AB-8F1B-A03F07BB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E558-CAE7-4569-B9C7-A90EF164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730A-9C52-4F04-B4BB-84BB722A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928E-FF10-49E0-B775-75E7B9DF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A5F9-B059-4DE1-A749-0E1E0B78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C94F-B5BB-461F-8F10-262F0E6D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3340-85EB-4112-879A-84A83B66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9E3-1B3E-44A5-8C8A-8B20A363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F650-DD53-4DBE-820E-C9DCAB48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D764-6C9F-48ED-9F1E-40977485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FA62-8BD7-455B-8843-C830BF38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61D6-748D-41D8-A8A8-9761D9C1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749E-5699-45D3-9AEB-1A3C4306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C46BC-289E-40CF-9532-6F6655E8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EB405-F167-4FF5-B843-ECFC06B6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22426-CC6D-457D-9109-F2678099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B597B-A62C-4A09-BD42-679CEF0B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53FE7-0565-4221-9C31-3640C1D8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5A72-9991-4D2A-904F-DDDBBDDF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FDDD7-A788-4A6A-8622-012BFB0A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576A5-AD5E-44C1-AEB7-4ACD6C21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44F23-9639-466D-8683-2370C44A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B4F08-5BB9-4D23-93B9-D5DCE69C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E8860-6841-4CEA-901A-868C67C0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DCAF3-4209-4A23-8F4A-87781324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54309-A87E-4814-93B9-46576392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A043-45E5-4B50-88B1-F5029C01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52BC-6592-4C66-B6AB-1A793E6E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5EF7-2F6A-4BC3-8678-AB5CDA19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5060-CB60-460D-B371-B587FE14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7A4B-1813-4109-9725-8307AFF2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8574-8C95-4891-99CC-AA30600E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0CB7-359C-4012-AD07-36C3CE69AF36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07E4-3993-4C79-9454-493652E0A045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22AA-6E71-4F28-9FB2-2FAE2018AC29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8590-9366-4343-9E2E-EA115CE62098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0880" indent="-2491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1880" indent="-200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4928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3B62-E58C-413E-A541-D89016771D17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74760" y="5475240"/>
            <a:ext cx="28494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012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E2F9-C3B5-4956-8036-9C3FE87CCB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wg_blurred_backgrounds_19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4280" y="186660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厚重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49280" y="3406320"/>
            <a:ext cx="63007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29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11472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wg_blurred_backgrounds_19"/>
          <p:cNvPicPr/>
          <p:nvPr/>
        </p:nvPicPr>
        <p:blipFill>
          <a:blip r:embed="rId1"/>
          <a:srcRect l="0" t="0" r="0" b="78199"/>
          <a:stretch/>
        </p:blipFill>
        <p:spPr>
          <a:xfrm>
            <a:off x="0" y="4699080"/>
            <a:ext cx="899964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57072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79640" y="1403280"/>
            <a:ext cx="657072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wg_blurred_backgrounds_19"/>
          <p:cNvPicPr/>
          <p:nvPr/>
        </p:nvPicPr>
        <p:blipFill>
          <a:blip r:embed="rId1"/>
          <a:srcRect l="51009" t="0" r="29059" b="0"/>
          <a:stretch/>
        </p:blipFill>
        <p:spPr>
          <a:xfrm>
            <a:off x="0" y="6480"/>
            <a:ext cx="17924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1047600" y="1832040"/>
            <a:ext cx="2014560" cy="806400"/>
          </a:xfrm>
          <a:prstGeom prst="rect">
            <a:avLst/>
          </a:prstGeom>
          <a:solidFill>
            <a:srgbClr val="c66a46"/>
          </a:solidFill>
          <a:ln w="25560">
            <a:solidFill>
              <a:srgbClr val="c68e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047600" y="1832040"/>
            <a:ext cx="201456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5640" rIns="305640" tIns="174600" bIns="174600" anchor="ctr">
            <a:noAutofit/>
          </a:bodyPr>
          <a:p>
            <a:pPr algn="ctr">
              <a:lnSpc>
                <a:spcPct val="90000"/>
              </a:lnSpc>
              <a:spcAft>
                <a:spcPts val="15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049400" y="2717640"/>
            <a:ext cx="2012760" cy="1613160"/>
          </a:xfrm>
          <a:prstGeom prst="rect">
            <a:avLst/>
          </a:prstGeom>
          <a:solidFill>
            <a:srgbClr val="c66a46">
              <a:alpha val="89000"/>
            </a:srgbClr>
          </a:solidFill>
          <a:ln w="25560">
            <a:solidFill>
              <a:srgbClr val="c68e46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049400" y="2717640"/>
            <a:ext cx="201276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9320" rIns="305640" tIns="229320" bIns="344160" anchor="t">
            <a:normAutofit fontScale="99000"/>
          </a:bodyPr>
          <a:p>
            <a:pPr lvl="1" marL="282960" indent="-2829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443400" y="1832040"/>
            <a:ext cx="2012760" cy="806400"/>
          </a:xfrm>
          <a:prstGeom prst="rect">
            <a:avLst/>
          </a:prstGeom>
          <a:solidFill>
            <a:srgbClr val="c66a46"/>
          </a:solidFill>
          <a:ln w="25560">
            <a:solidFill>
              <a:srgbClr val="c68e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443400" y="1832040"/>
            <a:ext cx="201276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5640" rIns="305640" tIns="174600" bIns="174600" anchor="ctr">
            <a:noAutofit/>
          </a:bodyPr>
          <a:p>
            <a:pPr algn="ctr">
              <a:lnSpc>
                <a:spcPct val="90000"/>
              </a:lnSpc>
              <a:spcAft>
                <a:spcPts val="15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441600" y="2717640"/>
            <a:ext cx="2013120" cy="1613160"/>
          </a:xfrm>
          <a:prstGeom prst="rect">
            <a:avLst/>
          </a:prstGeom>
          <a:solidFill>
            <a:srgbClr val="c66a46">
              <a:alpha val="89000"/>
            </a:srgbClr>
          </a:solidFill>
          <a:ln w="25560">
            <a:solidFill>
              <a:srgbClr val="c68e46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3441600" y="2717640"/>
            <a:ext cx="201312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9320" rIns="305640" tIns="229320" bIns="344160" anchor="t">
            <a:normAutofit fontScale="99000"/>
          </a:bodyPr>
          <a:p>
            <a:pPr lvl="1" marL="282960" indent="-2829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5794200" y="1832040"/>
            <a:ext cx="2013120" cy="806400"/>
          </a:xfrm>
          <a:prstGeom prst="rect">
            <a:avLst/>
          </a:prstGeom>
          <a:solidFill>
            <a:srgbClr val="c66a46"/>
          </a:solidFill>
          <a:ln w="25560">
            <a:solidFill>
              <a:srgbClr val="c68e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5794200" y="1832040"/>
            <a:ext cx="20131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5640" rIns="305640" tIns="174600" bIns="174600" anchor="ctr">
            <a:noAutofit/>
          </a:bodyPr>
          <a:p>
            <a:pPr algn="ctr">
              <a:lnSpc>
                <a:spcPct val="90000"/>
              </a:lnSpc>
              <a:spcAft>
                <a:spcPts val="15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794200" y="2717640"/>
            <a:ext cx="2013120" cy="1613160"/>
          </a:xfrm>
          <a:prstGeom prst="rect">
            <a:avLst/>
          </a:prstGeom>
          <a:solidFill>
            <a:srgbClr val="c66a46">
              <a:alpha val="89000"/>
            </a:srgbClr>
          </a:solidFill>
          <a:ln w="25560">
            <a:solidFill>
              <a:srgbClr val="c68e46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794200" y="2717640"/>
            <a:ext cx="201312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9320" rIns="305640" tIns="229320" bIns="344160" anchor="t">
            <a:normAutofit fontScale="99000"/>
          </a:bodyPr>
          <a:p>
            <a:pPr lvl="1" marL="282960" indent="-2829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4327560" y="3108240"/>
            <a:ext cx="1163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0680" rIns="40680" tIns="40680" bIns="4068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162240" y="2550960"/>
            <a:ext cx="701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0680" rIns="40680" tIns="40680" bIns="4068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902040" y="1521000"/>
            <a:ext cx="7779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0680" rIns="40680" tIns="40680" bIns="4068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3790800" y="2357280"/>
            <a:ext cx="2489400" cy="2489400"/>
          </a:xfrm>
          <a:custGeom>
            <a:avLst/>
            <a:gdLst>
              <a:gd name="textAreaLeft" fmla="*/ 364320 w 2489400"/>
              <a:gd name="textAreaRight" fmla="*/ 2125080 w 2489400"/>
              <a:gd name="textAreaTop" fmla="*/ 364320 h 2489400"/>
              <a:gd name="textAreaBottom" fmla="*/ 2125080 h 2489400"/>
            </a:gdLst>
            <a:ahLst/>
            <a:rect l="textAreaLeft" t="textAreaTop" r="textAreaRight" b="textAreaBottom"/>
            <a:pathLst>
              <a:path w="21600" h="21600">
                <a:moveTo>
                  <a:pt x="18067" y="17357"/>
                </a:moveTo>
                <a:cubicBezTo>
                  <a:pt x="19689" y="15558"/>
                  <a:pt x="20588" y="13222"/>
                  <a:pt x="20588" y="10800"/>
                </a:cubicBezTo>
                <a:cubicBezTo>
                  <a:pt x="20588" y="5394"/>
                  <a:pt x="16205" y="1012"/>
                  <a:pt x="10800" y="1012"/>
                </a:cubicBezTo>
                <a:cubicBezTo>
                  <a:pt x="10463" y="1012"/>
                  <a:pt x="10127" y="1029"/>
                  <a:pt x="9792" y="1064"/>
                </a:cubicBezTo>
                <a:lnTo>
                  <a:pt x="9688" y="57"/>
                </a:lnTo>
                <a:cubicBezTo>
                  <a:pt x="10057" y="19"/>
                  <a:pt x="10428" y="0"/>
                  <a:pt x="10799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3472"/>
                  <a:pt x="20608" y="16050"/>
                  <a:pt x="18818" y="18034"/>
                </a:cubicBezTo>
                <a:lnTo>
                  <a:pt x="20823" y="19843"/>
                </a:lnTo>
                <a:lnTo>
                  <a:pt x="16295" y="20075"/>
                </a:lnTo>
                <a:lnTo>
                  <a:pt x="16062" y="15548"/>
                </a:lnTo>
                <a:lnTo>
                  <a:pt x="18067" y="17357"/>
                </a:lnTo>
                <a:close/>
              </a:path>
            </a:pathLst>
          </a:custGeom>
          <a:solidFill>
            <a:srgbClr val="c68e4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2556000" y="1879560"/>
            <a:ext cx="1807920" cy="1808280"/>
          </a:xfrm>
          <a:custGeom>
            <a:avLst/>
            <a:gdLst>
              <a:gd name="textAreaLeft" fmla="*/ 264600 w 1807920"/>
              <a:gd name="textAreaRight" fmla="*/ 1543320 w 1807920"/>
              <a:gd name="textAreaTop" fmla="*/ 264600 h 1808280"/>
              <a:gd name="textAreaBottom" fmla="*/ 1543680 h 1808280"/>
            </a:gdLst>
            <a:ahLst/>
            <a:rect l="textAreaLeft" t="textAreaTop" r="textAreaRight" b="textAreaBottom"/>
            <a:pathLst>
              <a:path w="21600" h="21600">
                <a:moveTo>
                  <a:pt x="1431" y="11649"/>
                </a:moveTo>
                <a:cubicBezTo>
                  <a:pt x="1870" y="16495"/>
                  <a:pt x="5933" y="20207"/>
                  <a:pt x="10800" y="20207"/>
                </a:cubicBezTo>
                <a:cubicBezTo>
                  <a:pt x="15995" y="20207"/>
                  <a:pt x="20207" y="15995"/>
                  <a:pt x="20207" y="10800"/>
                </a:cubicBezTo>
                <a:cubicBezTo>
                  <a:pt x="20207" y="5604"/>
                  <a:pt x="15995" y="1393"/>
                  <a:pt x="10800" y="1393"/>
                </a:cubicBezTo>
                <a:cubicBezTo>
                  <a:pt x="9553" y="1393"/>
                  <a:pt x="8319" y="1640"/>
                  <a:pt x="7169" y="2121"/>
                </a:cubicBezTo>
                <a:lnTo>
                  <a:pt x="6631" y="836"/>
                </a:lnTo>
                <a:cubicBezTo>
                  <a:pt x="7951" y="284"/>
                  <a:pt x="9368" y="0"/>
                  <a:pt x="10799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5213" y="21600"/>
                  <a:pt x="548" y="17339"/>
                  <a:pt x="44" y="11775"/>
                </a:cubicBezTo>
                <a:lnTo>
                  <a:pt x="-2645" y="12019"/>
                </a:lnTo>
                <a:lnTo>
                  <a:pt x="430" y="8329"/>
                </a:lnTo>
                <a:lnTo>
                  <a:pt x="4120" y="11405"/>
                </a:lnTo>
                <a:lnTo>
                  <a:pt x="1431" y="11649"/>
                </a:lnTo>
                <a:close/>
              </a:path>
            </a:pathLst>
          </a:custGeom>
          <a:solidFill>
            <a:srgbClr val="c68e4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3276720" y="912960"/>
            <a:ext cx="1950840" cy="1949400"/>
          </a:xfrm>
          <a:custGeom>
            <a:avLst/>
            <a:gdLst>
              <a:gd name="textAreaLeft" fmla="*/ 285480 w 1950840"/>
              <a:gd name="textAreaRight" fmla="*/ 1665360 w 1950840"/>
              <a:gd name="textAreaTop" fmla="*/ 285480 h 1949400"/>
              <a:gd name="textAreaBottom" fmla="*/ 1663920 h 1949400"/>
            </a:gdLst>
            <a:ahLst/>
            <a:rect l="textAreaLeft" t="textAreaTop" r="textAreaRight" b="textAreaBottom"/>
            <a:pathLst>
              <a:path w="21600" h="21600">
                <a:moveTo>
                  <a:pt x="3722" y="4450"/>
                </a:moveTo>
                <a:cubicBezTo>
                  <a:pt x="2157" y="6195"/>
                  <a:pt x="1292" y="8456"/>
                  <a:pt x="1292" y="10800"/>
                </a:cubicBezTo>
                <a:cubicBezTo>
                  <a:pt x="1292" y="11069"/>
                  <a:pt x="1303" y="11337"/>
                  <a:pt x="1326" y="11606"/>
                </a:cubicBezTo>
                <a:lnTo>
                  <a:pt x="38" y="11715"/>
                </a:lnTo>
                <a:cubicBezTo>
                  <a:pt x="12" y="11411"/>
                  <a:pt x="0" y="11105"/>
                  <a:pt x="0" y="10800"/>
                </a:cubicBezTo>
                <a:cubicBezTo>
                  <a:pt x="0" y="8137"/>
                  <a:pt x="983" y="5569"/>
                  <a:pt x="2761" y="3587"/>
                </a:cubicBezTo>
                <a:lnTo>
                  <a:pt x="751" y="1784"/>
                </a:lnTo>
                <a:lnTo>
                  <a:pt x="5475" y="1528"/>
                </a:lnTo>
                <a:lnTo>
                  <a:pt x="5732" y="6253"/>
                </a:lnTo>
                <a:lnTo>
                  <a:pt x="3722" y="4450"/>
                </a:lnTo>
                <a:close/>
              </a:path>
            </a:pathLst>
          </a:custGeom>
          <a:solidFill>
            <a:srgbClr val="c68e4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wg_blurred_backgrounds_19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4280" y="2149560"/>
            <a:ext cx="7650360" cy="12888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492120" y="0"/>
            <a:ext cx="7421400" cy="6012000"/>
            <a:chOff x="492120" y="0"/>
            <a:chExt cx="7421400" cy="6012000"/>
          </a:xfrm>
        </p:grpSpPr>
        <p:sp>
          <p:nvSpPr>
            <p:cNvPr id="153" name="矩形 4"/>
            <p:cNvSpPr/>
            <p:nvPr/>
          </p:nvSpPr>
          <p:spPr>
            <a:xfrm>
              <a:off x="1030680" y="0"/>
              <a:ext cx="5930640" cy="6274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492120" y="1503000"/>
              <a:ext cx="7421400" cy="450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7"/>
            <p:cNvSpPr/>
            <p:nvPr/>
          </p:nvSpPr>
          <p:spPr>
            <a:xfrm rot="20926800">
              <a:off x="2163600" y="3123000"/>
              <a:ext cx="4091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a</cp:lastModifiedBy>
  <dcterms:modified xsi:type="dcterms:W3CDTF">2014-08-13T02:09:56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