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46E-F4C5-40E4-BF23-AE0E87EB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315-4D1A-4B86-988E-FDEB12C8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1FF55-3A14-4517-9B7F-AD71DCC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A228C-B0DB-4716-AC4B-3CA4B7B9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D8371-5657-430B-8FFA-F28E2686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FABC3-3EC4-4952-8482-9261BD9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ECB88-A6CA-4ECD-B2FA-CCB9B4FE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E4FE7-D276-478F-9B49-6B128CFF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29FD1-6125-486F-BA3E-200318E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41A64-2869-4CFA-A2B2-E642DB58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CA23F-38ED-4607-9B08-9D8E41EB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63D5A-B42F-452C-AC5C-63BC01A7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3AC-C5EF-45E5-8CEA-44F41176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68C64-D43E-45F5-B024-0A8F11B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86A97-E588-469A-B881-138C5E3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178BF-77E2-45A5-B602-138A687F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B3F2B-656D-4C45-99FB-DFF46443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29F50-2E76-4695-A616-BD3EB0D3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279D4-0961-46BB-8ABC-01D23E7E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E0FB0-1670-4FBE-BCFE-C768A43A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3BB3C-E758-4A44-B2FD-FD4BE24A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409A5-E11C-4FC0-A834-68F0574B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B75F0-6414-4902-B00A-FD77606F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FFB-0C21-4D70-BDF5-B391A3AF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27370-693B-4A90-9BA9-AE002C6E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26591-E861-4D9F-9512-2A5F8689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5657A-4E98-4387-8D19-078DB3F9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C96D2-C1E6-4043-BCE0-6C1F3B7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DA8D4-1307-46B0-9F7E-8313B2AC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C063A-3B2F-49A0-9FCD-1EE129B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2EA11-C140-4380-8161-5CC59C8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69D38-4707-4E91-8CF0-B7820F9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2E6BC-7CC3-4B5B-99A7-ED473713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5BA7A-80F4-4DCC-BA57-ABAA100E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9E81-8E37-47F3-8916-476AC05C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052E2-D79C-43D6-9EB2-A56C6960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4B398-484A-4EE7-96D4-737F5D99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AA431-0DB0-42E9-96C5-C40D1F1E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23A64-A1A6-4323-8711-75C140DF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638E5-E2DB-4A43-A013-A9895F3D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FBEB3-C55B-446F-9293-0F7BF830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2116F-039A-4BDC-B7EF-C76E2011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6D9B7-DD17-4D29-B694-0D697D10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C95C7-80F6-4BBF-BEC2-9EF1E8D9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6DDDC-D63E-4A62-8759-573B678E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41B3-14C6-4ADA-AB33-06671CE6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2AD28-6FDD-43C3-8EC7-AE43BDD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62745-B8E0-464C-9042-CCCA8C1D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B8932-124D-4E26-9EF3-21E7433C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2C8EF-2D50-450A-80CB-25D304C2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86B02-551C-4039-8FAF-429D3DFC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308FF-1EA3-4ADF-88B7-9324B345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74656-54EE-4F78-9B84-ADDF0AFC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F22DA-6BB2-47D7-A922-FE0D4584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C98C2-44C6-4AAC-B7C2-4E37F91C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F9BEF-9574-4941-9957-DE8B490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7883-5AC8-463C-84FF-2FF27365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BB57F-F864-41D4-B19D-0E7E7F93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6B91A-95DB-42DA-8E80-E4D6E92B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FC447-78D4-4F14-8A16-C7C7AFB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A7BFD-2697-402C-AB47-8AEC4748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C1589-EE46-4392-B418-8F3EC805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28B7D-F27E-450B-BDE1-B9611C2F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0F8F3-19B5-4994-B9E1-3361F1FC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F515D-7987-4457-9D62-3A034DDD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92E56-504C-4619-AE9E-FE416B9B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57E89-5963-4026-866D-CFD2DC04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8AF1-8871-440D-9E3C-26FF975A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D0A3C-3C9C-423D-99CF-3B9C54E7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E22F3-285E-40EF-8EB0-09858AF2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F15A1-879B-424D-9746-448D2BB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7F62C-07F1-4ED9-A195-A638DC1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CD971-F159-46CB-AF75-B1FECB2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73D29-D391-4AE8-A4A5-ED6A9D5D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3940D-486D-4161-96D6-4982B56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D3C95-58AC-4C8B-BB7A-CC9751FC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1B2CD-67EF-46B3-BA27-08CBF8D9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391A-662C-4AD6-8ECE-DD5575F1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7846-A559-4368-A463-D28D81CD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12E0-6B93-4F04-B2DE-EE10550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986-1F21-471C-BB40-3BDED521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B930-C8C5-4703-908E-6C0B380E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EBFF-ABB3-4F93-B5D0-6D3E6228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1CC6-3B0E-47D5-9B49-C3EAE51F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3627-8A3C-4F0A-A2AA-65A2D926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254C-9398-4D44-B2D3-16AD3491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68D4-FD72-4D84-823E-62BC4218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649F-A041-460B-840E-0C3AD2D0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4329-916E-4E4C-8C21-A69B78DD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244A4-6CDA-4CFA-A609-B8CBB537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B368-4728-4220-AC5F-4A45A7A3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9D1-F7DB-4145-979B-F14518C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18CC-0579-4F89-BB6C-7BD6E957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424A-BC50-4EB2-ACA8-524FF2F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2103F-FAA7-42F1-9640-FFFC1CB9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D50A-DBC6-42E7-955C-7AE46D4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A280-F50D-4756-BB65-22E7FF54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78BF-7D1E-4773-9635-87DF0BD5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C18C-58C9-4D84-A1E4-7F085B40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4F76-5E8B-4756-82FB-864560D9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BEA4-6482-424B-9399-3BBC0468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337E-AC66-4021-ACE1-57094A78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40D-FB70-4D50-A54E-FF7654D6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75A7-0EC0-42FD-80EB-6950354C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AB6B-975C-40F6-9FA1-971D1ABD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B841-54FF-4703-981E-5FE0729C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3DD9-7009-4DEF-BE3A-069969C0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8E2F-89AD-4BA9-84D4-F0C0A90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9A80-8E6D-4E59-AB3D-790B2E3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A454B-A937-4F1A-A423-AD842A11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83EC-168F-4A57-ABBA-8FD8B68E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1A64-ABAD-4287-8C11-F453E404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53DE-66C4-40BD-B577-ABFA9ECD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2A6-EE51-4751-BDAF-9D8F1B31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5C1A-7E85-407E-BE69-2C5935B4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8BEB6-4F59-4544-980D-938004C0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F7CB0-0ED1-4BBE-BAED-627F387A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8048-5B72-40AF-B0A4-C1534D5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12058-2A8B-497E-A398-618B31CA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3C4B9-2BA5-49C3-A5F7-6DA9581F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88B5-C605-4B7E-B354-D1770D1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6BDA0-6D8C-4232-95DD-65B8115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FC810-1D89-4537-8BDF-1B464766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60823-E92F-4533-9F0C-6BEB3695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E2C-ECD3-463D-98EB-E3DF0F09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8343C-88D0-4638-84E5-865E33BA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841A3-81B0-4FEA-B4DB-CDAD33CD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AA31E-3930-4FA9-93A9-AF3DB8F8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033A8-F236-49D2-BCC2-9426D6A7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9B4F1-C52B-489B-9423-160DFFDC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9069-E40D-4788-A95C-7376410C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F01C-B6B1-480F-AE39-B781E89E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6641-AD6E-4989-9A98-3A7CB8A4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3B1F-1B00-4BB4-B297-22182E55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087D4-D116-45C7-8A23-5211804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9CF-8747-4DB3-BD9F-F36B92E2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5FC0-128C-4DD8-BD4D-C5D454CA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AC3A4-AB92-4FCC-ADE3-483335DC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CE668-C1D6-45BE-BB07-C2544243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D083-F908-4DF9-B60E-7FF1F2A6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92CA4-8CB5-47C7-90BA-1CD19FA7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C351-FD17-4E91-9E09-0BDAABF0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F3E4-AC13-4A7B-855A-0D0148C7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BE6B-C321-40BD-A7D8-01023B27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8508C-95BE-4D86-82FD-7F42441E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2D41D-70EC-4596-99D9-6A675EE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C79-EA80-4B5A-8257-94B8186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E15FB-FFF9-4F98-9C77-2A22DE55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36E2F-C589-49CA-AF2B-076A30CC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730DC-E89E-4C21-9D54-387A2E69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FED57-0A26-4C8B-9519-12A694CF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0ED3B-7167-4F1D-A5F1-F96E6363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10825-412E-4B38-8324-4BDFDD45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63D28-A72F-438B-8E7F-D0538B16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8DBC7-3FEB-4028-B9B0-6923E71C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9250-5913-4BEF-B58E-250CCC30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DC1C3-973C-44CE-849D-A8E4696F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EF7-BC07-4CCC-942B-BB3AF9AD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A5BF6-5D52-489F-AAA6-169FDBA5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CA9AF-3830-402D-95FB-E9A69BBE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554CB-A51E-4E44-ADDC-1F9C4A8A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E9EAC-1375-4261-AC66-27119DE4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60DCD-5002-4120-9A3A-B33D8C09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9057-F604-4F7C-BCB7-CA0AB2CE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26AE8-EA3C-45C6-AB17-F9719386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8397B-E9C1-4FED-A0C9-440973FE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C4E1-712A-40E4-8B56-CE408890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C156E-7B3F-4D17-A9CB-B652FF4E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c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69D0-1671-4F03-BE3A-F408302B541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E653-5387-4CC5-94A0-FA12F1DF99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7DC1-E756-4B09-B789-649ADF26BE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7D3A-AE17-4F0D-90E6-474055AD5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9E0-9426-44AB-8F6F-0842708224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97AD-4339-46EE-AEEF-EC816938BD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47DE-657D-44E8-8F70-308B233CB8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CFA1-7C80-40EE-8071-DE9E57565B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1973-901B-477D-B61D-B2AA510F68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FE66-C19D-4A01-B674-16519555F9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16F0-21DB-4FDE-A0B2-0D3E3A2642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854C-1FFB-46F0-AB34-7484E7C9FF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c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7BA3-97E6-4422-B586-016AD345BF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226-6F53-4B75-B771-83F76B09C2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B9BC-BDED-4566-9670-7996E91A14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EC3C-223F-4EDB-AF92-31AF17A45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8221-3685-468A-98B9-B0415086AF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4FDF-3052-47F0-8F3B-19441ED5AF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A9CE-EF69-43B2-B6E2-41D0E39C0E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6EA8-3129-418F-9A73-1F5D07FF65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51E-A863-47CB-9B32-0E4670D336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E387-78AF-410D-B6D1-1ACC2C721D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99B-EDB7-4042-9FAF-3E80548AEF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87D9-9819-4B7E-BC01-D67E10A8B9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472-57B5-429B-AC2D-6104837F48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640C-1F0D-44E7-8D18-89AA52CFA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34F-E59D-4D31-9BB9-E20F09617F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B330-BBA9-46C5-A8F7-2FBDA8FBBE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组合 73"/>
          <p:cNvGrpSpPr/>
          <p:nvPr/>
        </p:nvGrpSpPr>
        <p:grpSpPr>
          <a:xfrm>
            <a:off x="-142200" y="3116160"/>
            <a:ext cx="12709800" cy="635400"/>
            <a:chOff x="-142200" y="3116160"/>
            <a:chExt cx="12709800" cy="635400"/>
          </a:xfrm>
        </p:grpSpPr>
        <p:sp>
          <p:nvSpPr>
            <p:cNvPr id="575" name="等腰三角形 9"/>
            <p:cNvSpPr/>
            <p:nvPr/>
          </p:nvSpPr>
          <p:spPr>
            <a:xfrm rot="1668000">
              <a:off x="-96840" y="3301920"/>
              <a:ext cx="369720" cy="2858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等腰三角形 10"/>
            <p:cNvSpPr/>
            <p:nvPr/>
          </p:nvSpPr>
          <p:spPr>
            <a:xfrm rot="20000400">
              <a:off x="5627520" y="33379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等腰三角形 11"/>
            <p:cNvSpPr/>
            <p:nvPr/>
          </p:nvSpPr>
          <p:spPr>
            <a:xfrm rot="2793000">
              <a:off x="183240" y="3319200"/>
              <a:ext cx="46224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等腰三角形 12"/>
            <p:cNvSpPr/>
            <p:nvPr/>
          </p:nvSpPr>
          <p:spPr>
            <a:xfrm rot="20373000">
              <a:off x="659880" y="33872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等腰三角形 13"/>
            <p:cNvSpPr/>
            <p:nvPr/>
          </p:nvSpPr>
          <p:spPr>
            <a:xfrm rot="1448400">
              <a:off x="1071000" y="33685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等腰三角形 14"/>
            <p:cNvSpPr/>
            <p:nvPr/>
          </p:nvSpPr>
          <p:spPr>
            <a:xfrm rot="1053000">
              <a:off x="8319600" y="32904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等腰三角形 15"/>
            <p:cNvSpPr/>
            <p:nvPr/>
          </p:nvSpPr>
          <p:spPr>
            <a:xfrm rot="19935000">
              <a:off x="2440800" y="340956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16"/>
            <p:cNvSpPr/>
            <p:nvPr/>
          </p:nvSpPr>
          <p:spPr>
            <a:xfrm rot="3619200">
              <a:off x="2874240" y="328968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等腰三角形 17"/>
            <p:cNvSpPr/>
            <p:nvPr/>
          </p:nvSpPr>
          <p:spPr>
            <a:xfrm rot="1591200">
              <a:off x="3210480" y="33872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等腰三角形 18"/>
            <p:cNvSpPr/>
            <p:nvPr/>
          </p:nvSpPr>
          <p:spPr>
            <a:xfrm rot="19588200">
              <a:off x="1400760" y="33872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等腰三角形 19"/>
            <p:cNvSpPr/>
            <p:nvPr/>
          </p:nvSpPr>
          <p:spPr>
            <a:xfrm rot="3052800">
              <a:off x="1883160" y="3360600"/>
              <a:ext cx="3096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等腰三角形 20"/>
            <p:cNvSpPr/>
            <p:nvPr/>
          </p:nvSpPr>
          <p:spPr>
            <a:xfrm rot="4714200">
              <a:off x="3540240" y="3242880"/>
              <a:ext cx="311400" cy="2412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等腰三角形 21"/>
            <p:cNvSpPr/>
            <p:nvPr/>
          </p:nvSpPr>
          <p:spPr>
            <a:xfrm rot="6513600">
              <a:off x="2235960" y="326736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等腰三角形 22"/>
            <p:cNvSpPr/>
            <p:nvPr/>
          </p:nvSpPr>
          <p:spPr>
            <a:xfrm rot="10123800">
              <a:off x="4979880" y="33494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等腰三角形 23"/>
            <p:cNvSpPr/>
            <p:nvPr/>
          </p:nvSpPr>
          <p:spPr>
            <a:xfrm rot="7090800">
              <a:off x="4700880" y="339156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等腰三角形 24"/>
            <p:cNvSpPr/>
            <p:nvPr/>
          </p:nvSpPr>
          <p:spPr>
            <a:xfrm rot="20440800">
              <a:off x="3900960" y="3444840"/>
              <a:ext cx="313920" cy="2001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等腰三角形 25"/>
            <p:cNvSpPr/>
            <p:nvPr/>
          </p:nvSpPr>
          <p:spPr>
            <a:xfrm rot="308400">
              <a:off x="4326480" y="32731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等腰三角形 27"/>
            <p:cNvSpPr/>
            <p:nvPr/>
          </p:nvSpPr>
          <p:spPr>
            <a:xfrm rot="2442600">
              <a:off x="6445080" y="32526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等腰三角形 28"/>
            <p:cNvSpPr/>
            <p:nvPr/>
          </p:nvSpPr>
          <p:spPr>
            <a:xfrm rot="308400">
              <a:off x="8965440" y="32940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等腰三角形 29"/>
            <p:cNvSpPr/>
            <p:nvPr/>
          </p:nvSpPr>
          <p:spPr>
            <a:xfrm rot="9409200">
              <a:off x="8693280" y="34189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等腰三角形 30"/>
            <p:cNvSpPr/>
            <p:nvPr/>
          </p:nvSpPr>
          <p:spPr>
            <a:xfrm rot="1674600">
              <a:off x="7738200" y="317484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等腰三角形 31"/>
            <p:cNvSpPr/>
            <p:nvPr/>
          </p:nvSpPr>
          <p:spPr>
            <a:xfrm rot="20452200">
              <a:off x="6066000" y="336528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等腰三角形 33"/>
            <p:cNvSpPr/>
            <p:nvPr/>
          </p:nvSpPr>
          <p:spPr>
            <a:xfrm rot="19447200">
              <a:off x="9959040" y="33714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等腰三角形 34"/>
            <p:cNvSpPr/>
            <p:nvPr/>
          </p:nvSpPr>
          <p:spPr>
            <a:xfrm rot="2805600">
              <a:off x="7086600" y="329004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等腰三角形 35"/>
            <p:cNvSpPr/>
            <p:nvPr/>
          </p:nvSpPr>
          <p:spPr>
            <a:xfrm rot="20263800">
              <a:off x="11016000" y="32774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等腰三角形 36"/>
            <p:cNvSpPr/>
            <p:nvPr/>
          </p:nvSpPr>
          <p:spPr>
            <a:xfrm rot="308400">
              <a:off x="11370240" y="33908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等腰三角形 37"/>
            <p:cNvSpPr/>
            <p:nvPr/>
          </p:nvSpPr>
          <p:spPr>
            <a:xfrm rot="17114400">
              <a:off x="11660760" y="326736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等腰三角形 38"/>
            <p:cNvSpPr/>
            <p:nvPr/>
          </p:nvSpPr>
          <p:spPr>
            <a:xfrm rot="1270200">
              <a:off x="12223440" y="332208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等腰三角形 39"/>
            <p:cNvSpPr/>
            <p:nvPr/>
          </p:nvSpPr>
          <p:spPr>
            <a:xfrm rot="7696800">
              <a:off x="9667800" y="3360600"/>
              <a:ext cx="3096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等腰三角形 40"/>
            <p:cNvSpPr/>
            <p:nvPr/>
          </p:nvSpPr>
          <p:spPr>
            <a:xfrm rot="844800">
              <a:off x="10433520" y="32000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等腰三角形 41"/>
            <p:cNvSpPr/>
            <p:nvPr/>
          </p:nvSpPr>
          <p:spPr>
            <a:xfrm rot="6873600">
              <a:off x="10749600" y="343908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等腰三角形 42"/>
            <p:cNvSpPr/>
            <p:nvPr/>
          </p:nvSpPr>
          <p:spPr>
            <a:xfrm rot="20488200">
              <a:off x="7417800" y="32749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44"/>
            <p:cNvSpPr/>
            <p:nvPr/>
          </p:nvSpPr>
          <p:spPr>
            <a:xfrm rot="19507200">
              <a:off x="9187920" y="332676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等腰三角形 47"/>
            <p:cNvSpPr/>
            <p:nvPr/>
          </p:nvSpPr>
          <p:spPr>
            <a:xfrm rot="19369800">
              <a:off x="6697440" y="33462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等腰三角形 52"/>
            <p:cNvSpPr/>
            <p:nvPr/>
          </p:nvSpPr>
          <p:spPr>
            <a:xfrm rot="3349800">
              <a:off x="5423040" y="333468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等腰三角形 56"/>
            <p:cNvSpPr/>
            <p:nvPr/>
          </p:nvSpPr>
          <p:spPr>
            <a:xfrm rot="8494200">
              <a:off x="8012880" y="344160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椭圆 63"/>
          <p:cNvSpPr/>
          <p:nvPr/>
        </p:nvSpPr>
        <p:spPr>
          <a:xfrm>
            <a:off x="4214880" y="1440000"/>
            <a:ext cx="3755880" cy="20332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2033280"/>
              <a:gd name="textAreaBottom" fmla="*/ 2033640 h 2033280"/>
            </a:gdLst>
            <a:ahLst/>
            <a:rect l="textAreaLeft" t="textAreaTop" r="textAreaRight" b="textAreaBottom"/>
            <a:pathLst>
              <a:path w="2817408" h="1524970">
                <a:moveTo>
                  <a:pt x="1408704" y="0"/>
                </a:moveTo>
                <a:cubicBezTo>
                  <a:pt x="2186710" y="0"/>
                  <a:pt x="2817408" y="644782"/>
                  <a:pt x="2817408" y="1440160"/>
                </a:cubicBezTo>
                <a:lnTo>
                  <a:pt x="2813219" y="1524970"/>
                </a:lnTo>
                <a:lnTo>
                  <a:pt x="4189" y="1524970"/>
                </a:lnTo>
                <a:cubicBezTo>
                  <a:pt x="810" y="1496976"/>
                  <a:pt x="0" y="1468665"/>
                  <a:pt x="0" y="1440160"/>
                </a:cubicBezTo>
                <a:cubicBezTo>
                  <a:pt x="0" y="644782"/>
                  <a:pt x="630698" y="0"/>
                  <a:pt x="1408704" y="0"/>
                </a:cubicBezTo>
                <a:close/>
              </a:path>
            </a:pathLst>
          </a:custGeom>
          <a:solidFill>
            <a:srgbClr val="7c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65"/>
          <p:cNvSpPr/>
          <p:nvPr/>
        </p:nvSpPr>
        <p:spPr>
          <a:xfrm>
            <a:off x="3957480" y="2419200"/>
            <a:ext cx="4270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简单</a:t>
            </a:r>
            <a:r>
              <a:rPr b="0" lang="en-US" sz="72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·</a:t>
            </a:r>
            <a:r>
              <a:rPr b="0" lang="zh-CN" sz="72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智慧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3" name="组合 74"/>
          <p:cNvGrpSpPr/>
          <p:nvPr/>
        </p:nvGrpSpPr>
        <p:grpSpPr>
          <a:xfrm>
            <a:off x="15840" y="3613320"/>
            <a:ext cx="13098600" cy="3288960"/>
            <a:chOff x="15840" y="3613320"/>
            <a:chExt cx="13098600" cy="3288960"/>
          </a:xfrm>
        </p:grpSpPr>
        <p:sp>
          <p:nvSpPr>
            <p:cNvPr id="614" name="等腰三角形 1"/>
            <p:cNvSpPr/>
            <p:nvPr/>
          </p:nvSpPr>
          <p:spPr>
            <a:xfrm>
              <a:off x="15840" y="4676760"/>
              <a:ext cx="1538280" cy="2180880"/>
            </a:xfrm>
            <a:prstGeom prst="triangle">
              <a:avLst>
                <a:gd name="adj" fmla="val 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等腰三角形 45"/>
            <p:cNvSpPr/>
            <p:nvPr/>
          </p:nvSpPr>
          <p:spPr>
            <a:xfrm>
              <a:off x="2500200" y="3876840"/>
              <a:ext cx="3162240" cy="298116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62"/>
            <p:cNvSpPr/>
            <p:nvPr/>
          </p:nvSpPr>
          <p:spPr>
            <a:xfrm>
              <a:off x="63000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等腰三角形 67"/>
            <p:cNvSpPr/>
            <p:nvPr/>
          </p:nvSpPr>
          <p:spPr>
            <a:xfrm>
              <a:off x="1555560" y="5367240"/>
              <a:ext cx="2584440" cy="149040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等腰三角形 68"/>
            <p:cNvSpPr/>
            <p:nvPr/>
          </p:nvSpPr>
          <p:spPr>
            <a:xfrm>
              <a:off x="5808600" y="4721400"/>
              <a:ext cx="2014560" cy="2180880"/>
            </a:xfrm>
            <a:prstGeom prst="triangle">
              <a:avLst>
                <a:gd name="adj" fmla="val 99741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等腰三角形 69"/>
            <p:cNvSpPr/>
            <p:nvPr/>
          </p:nvSpPr>
          <p:spPr>
            <a:xfrm>
              <a:off x="4676760" y="5021280"/>
              <a:ext cx="1881000" cy="183672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等腰三角形 70"/>
            <p:cNvSpPr/>
            <p:nvPr/>
          </p:nvSpPr>
          <p:spPr>
            <a:xfrm>
              <a:off x="9372600" y="4638600"/>
              <a:ext cx="1482480" cy="2219040"/>
            </a:xfrm>
            <a:prstGeom prst="triangle">
              <a:avLst>
                <a:gd name="adj" fmla="val 99435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等腰三角形 71"/>
            <p:cNvSpPr/>
            <p:nvPr/>
          </p:nvSpPr>
          <p:spPr>
            <a:xfrm>
              <a:off x="741204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等腰三角形 72"/>
            <p:cNvSpPr/>
            <p:nvPr/>
          </p:nvSpPr>
          <p:spPr>
            <a:xfrm>
              <a:off x="10311120" y="3613320"/>
              <a:ext cx="2803320" cy="3284280"/>
            </a:xfrm>
            <a:prstGeom prst="triangle">
              <a:avLst>
                <a:gd name="adj" fmla="val 49727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等腰三角形 64"/>
            <p:cNvSpPr/>
            <p:nvPr/>
          </p:nvSpPr>
          <p:spPr>
            <a:xfrm>
              <a:off x="6485040" y="5905440"/>
              <a:ext cx="2971800" cy="98712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矩形 75"/>
          <p:cNvSpPr/>
          <p:nvPr/>
        </p:nvSpPr>
        <p:spPr>
          <a:xfrm>
            <a:off x="0" y="0"/>
            <a:ext cx="12192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15840" y="3613320"/>
            <a:ext cx="13098600" cy="3288960"/>
            <a:chOff x="15840" y="3613320"/>
            <a:chExt cx="13098600" cy="3288960"/>
          </a:xfrm>
        </p:grpSpPr>
        <p:sp>
          <p:nvSpPr>
            <p:cNvPr id="626" name="等腰三角形 37"/>
            <p:cNvSpPr/>
            <p:nvPr/>
          </p:nvSpPr>
          <p:spPr>
            <a:xfrm>
              <a:off x="15840" y="4676760"/>
              <a:ext cx="1538280" cy="2180880"/>
            </a:xfrm>
            <a:prstGeom prst="triangle">
              <a:avLst>
                <a:gd name="adj" fmla="val 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等腰三角形 38"/>
            <p:cNvSpPr/>
            <p:nvPr/>
          </p:nvSpPr>
          <p:spPr>
            <a:xfrm>
              <a:off x="2500200" y="3876840"/>
              <a:ext cx="3162240" cy="298116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等腰三角形 39"/>
            <p:cNvSpPr/>
            <p:nvPr/>
          </p:nvSpPr>
          <p:spPr>
            <a:xfrm>
              <a:off x="63000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等腰三角形 40"/>
            <p:cNvSpPr/>
            <p:nvPr/>
          </p:nvSpPr>
          <p:spPr>
            <a:xfrm>
              <a:off x="1555560" y="5367240"/>
              <a:ext cx="2584440" cy="149040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等腰三角形 41"/>
            <p:cNvSpPr/>
            <p:nvPr/>
          </p:nvSpPr>
          <p:spPr>
            <a:xfrm>
              <a:off x="5808600" y="4721400"/>
              <a:ext cx="2014560" cy="2180880"/>
            </a:xfrm>
            <a:prstGeom prst="triangle">
              <a:avLst>
                <a:gd name="adj" fmla="val 99741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等腰三角形 42"/>
            <p:cNvSpPr/>
            <p:nvPr/>
          </p:nvSpPr>
          <p:spPr>
            <a:xfrm>
              <a:off x="4676760" y="5021280"/>
              <a:ext cx="1881000" cy="183672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等腰三角形 43"/>
            <p:cNvSpPr/>
            <p:nvPr/>
          </p:nvSpPr>
          <p:spPr>
            <a:xfrm>
              <a:off x="9372600" y="4638600"/>
              <a:ext cx="1482480" cy="2219040"/>
            </a:xfrm>
            <a:prstGeom prst="triangle">
              <a:avLst>
                <a:gd name="adj" fmla="val 99435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等腰三角形 44"/>
            <p:cNvSpPr/>
            <p:nvPr/>
          </p:nvSpPr>
          <p:spPr>
            <a:xfrm>
              <a:off x="741204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等腰三角形 45"/>
            <p:cNvSpPr/>
            <p:nvPr/>
          </p:nvSpPr>
          <p:spPr>
            <a:xfrm>
              <a:off x="10311120" y="3613320"/>
              <a:ext cx="2803320" cy="3284280"/>
            </a:xfrm>
            <a:prstGeom prst="triangle">
              <a:avLst>
                <a:gd name="adj" fmla="val 49727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等腰三角形 46"/>
            <p:cNvSpPr/>
            <p:nvPr/>
          </p:nvSpPr>
          <p:spPr>
            <a:xfrm>
              <a:off x="6485040" y="5905440"/>
              <a:ext cx="2971800" cy="98712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1637280" y="-270720"/>
            <a:ext cx="843120" cy="6949800"/>
            <a:chOff x="1637280" y="-270720"/>
            <a:chExt cx="843120" cy="6949800"/>
          </a:xfrm>
        </p:grpSpPr>
        <p:sp>
          <p:nvSpPr>
            <p:cNvPr id="637" name="等腰三角形 1"/>
            <p:cNvSpPr/>
            <p:nvPr/>
          </p:nvSpPr>
          <p:spPr>
            <a:xfrm rot="2793000">
              <a:off x="1783800" y="129960"/>
              <a:ext cx="46188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等腰三角形 2"/>
            <p:cNvSpPr/>
            <p:nvPr/>
          </p:nvSpPr>
          <p:spPr>
            <a:xfrm rot="2793000">
              <a:off x="1826640" y="3467880"/>
              <a:ext cx="46188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等腰三角形 3"/>
            <p:cNvSpPr/>
            <p:nvPr/>
          </p:nvSpPr>
          <p:spPr>
            <a:xfrm rot="6382800">
              <a:off x="1739520" y="664560"/>
              <a:ext cx="461880" cy="2109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等腰三角形 4"/>
            <p:cNvSpPr/>
            <p:nvPr/>
          </p:nvSpPr>
          <p:spPr>
            <a:xfrm rot="15268200">
              <a:off x="1717920" y="2457360"/>
              <a:ext cx="46332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等腰三角形 5"/>
            <p:cNvSpPr/>
            <p:nvPr/>
          </p:nvSpPr>
          <p:spPr>
            <a:xfrm rot="4273800">
              <a:off x="1838880" y="1432800"/>
              <a:ext cx="46188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等腰三角形 6"/>
            <p:cNvSpPr/>
            <p:nvPr/>
          </p:nvSpPr>
          <p:spPr>
            <a:xfrm rot="9088800">
              <a:off x="1983960" y="3110400"/>
              <a:ext cx="46188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等腰三角形 7"/>
            <p:cNvSpPr/>
            <p:nvPr/>
          </p:nvSpPr>
          <p:spPr>
            <a:xfrm rot="7147800">
              <a:off x="1947600" y="1088280"/>
              <a:ext cx="379080" cy="3096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等腰三角形 8"/>
            <p:cNvSpPr/>
            <p:nvPr/>
          </p:nvSpPr>
          <p:spPr>
            <a:xfrm rot="20333400">
              <a:off x="1775880" y="1940760"/>
              <a:ext cx="46188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等腰三角形 9"/>
            <p:cNvSpPr/>
            <p:nvPr/>
          </p:nvSpPr>
          <p:spPr>
            <a:xfrm rot="21137400">
              <a:off x="1924920" y="3975840"/>
              <a:ext cx="423720" cy="396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等腰三角形 10"/>
            <p:cNvSpPr/>
            <p:nvPr/>
          </p:nvSpPr>
          <p:spPr>
            <a:xfrm rot="17979000">
              <a:off x="1967400" y="4977720"/>
              <a:ext cx="46332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等腰三角形 11"/>
            <p:cNvSpPr/>
            <p:nvPr/>
          </p:nvSpPr>
          <p:spPr>
            <a:xfrm rot="4166400">
              <a:off x="1825920" y="4527000"/>
              <a:ext cx="46332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等腰三角形 12"/>
            <p:cNvSpPr/>
            <p:nvPr/>
          </p:nvSpPr>
          <p:spPr>
            <a:xfrm rot="17979000">
              <a:off x="1683360" y="2830320"/>
              <a:ext cx="379080" cy="3268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等腰三角形 13"/>
            <p:cNvSpPr/>
            <p:nvPr/>
          </p:nvSpPr>
          <p:spPr>
            <a:xfrm rot="15914400">
              <a:off x="1877040" y="6014160"/>
              <a:ext cx="46332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等腰三角形 14"/>
            <p:cNvSpPr/>
            <p:nvPr/>
          </p:nvSpPr>
          <p:spPr>
            <a:xfrm rot="14057400">
              <a:off x="1810080" y="5509080"/>
              <a:ext cx="461880" cy="2602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等腰三角形 15"/>
            <p:cNvSpPr/>
            <p:nvPr/>
          </p:nvSpPr>
          <p:spPr>
            <a:xfrm rot="17979000">
              <a:off x="1983240" y="-135360"/>
              <a:ext cx="46332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等腰三角形 16"/>
            <p:cNvSpPr/>
            <p:nvPr/>
          </p:nvSpPr>
          <p:spPr>
            <a:xfrm rot="553800">
              <a:off x="1776240" y="6382080"/>
              <a:ext cx="46188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3" name="椭圆 17"/>
          <p:cNvSpPr/>
          <p:nvPr/>
        </p:nvSpPr>
        <p:spPr>
          <a:xfrm>
            <a:off x="2195640" y="399960"/>
            <a:ext cx="1465200" cy="292896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2928960"/>
              <a:gd name="textAreaBottom" fmla="*/ 2929320 h 2928960"/>
            </a:gdLst>
            <a:ahLst/>
            <a:rect l="textAreaLeft" t="textAreaTop" r="textAreaRight" b="textAreaBottom"/>
            <a:pathLst>
              <a:path w="1098555" h="2197110">
                <a:moveTo>
                  <a:pt x="0" y="0"/>
                </a:moveTo>
                <a:cubicBezTo>
                  <a:pt x="606715" y="0"/>
                  <a:pt x="1098555" y="491840"/>
                  <a:pt x="1098555" y="1098555"/>
                </a:cubicBezTo>
                <a:cubicBezTo>
                  <a:pt x="1098555" y="1705270"/>
                  <a:pt x="606715" y="2197110"/>
                  <a:pt x="0" y="2197110"/>
                </a:cubicBezTo>
                <a:lnTo>
                  <a:pt x="0" y="0"/>
                </a:lnTo>
                <a:close/>
              </a:path>
            </a:pathLst>
          </a:custGeom>
          <a:solidFill>
            <a:srgbClr val="7c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19"/>
          <p:cNvSpPr/>
          <p:nvPr/>
        </p:nvSpPr>
        <p:spPr>
          <a:xfrm>
            <a:off x="2181240" y="776160"/>
            <a:ext cx="147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造字工房尚雅体演示版常规体"/>
                <a:ea typeface="造字工房尚雅体演示版常规体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25"/>
          <p:cNvSpPr/>
          <p:nvPr/>
        </p:nvSpPr>
        <p:spPr>
          <a:xfrm>
            <a:off x="7005600" y="3338640"/>
            <a:ext cx="34797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简化生活，去繁存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6"/>
          <p:cNvSpPr/>
          <p:nvPr/>
        </p:nvSpPr>
        <p:spPr>
          <a:xfrm>
            <a:off x="10861560" y="3009960"/>
            <a:ext cx="7686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1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27"/>
          <p:cNvSpPr/>
          <p:nvPr/>
        </p:nvSpPr>
        <p:spPr>
          <a:xfrm>
            <a:off x="10883880" y="3970440"/>
            <a:ext cx="7682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2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8"/>
          <p:cNvSpPr/>
          <p:nvPr/>
        </p:nvSpPr>
        <p:spPr>
          <a:xfrm>
            <a:off x="10883880" y="4924440"/>
            <a:ext cx="7682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3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29"/>
          <p:cNvSpPr/>
          <p:nvPr/>
        </p:nvSpPr>
        <p:spPr>
          <a:xfrm>
            <a:off x="10861560" y="5778360"/>
            <a:ext cx="7686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4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31"/>
          <p:cNvSpPr/>
          <p:nvPr/>
        </p:nvSpPr>
        <p:spPr>
          <a:xfrm>
            <a:off x="5656320" y="4254480"/>
            <a:ext cx="48942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智创未来，你我一同打造明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32"/>
          <p:cNvSpPr/>
          <p:nvPr/>
        </p:nvSpPr>
        <p:spPr>
          <a:xfrm>
            <a:off x="6032520" y="5191200"/>
            <a:ext cx="4518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用心说话，用诚意点亮生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33"/>
          <p:cNvSpPr/>
          <p:nvPr/>
        </p:nvSpPr>
        <p:spPr>
          <a:xfrm>
            <a:off x="7007400" y="6067440"/>
            <a:ext cx="34779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攀越高峰，遇见未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34"/>
          <p:cNvSpPr/>
          <p:nvPr/>
        </p:nvSpPr>
        <p:spPr>
          <a:xfrm>
            <a:off x="10550520" y="414360"/>
            <a:ext cx="1246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36"/>
          <p:cNvSpPr/>
          <p:nvPr/>
        </p:nvSpPr>
        <p:spPr>
          <a:xfrm>
            <a:off x="2428920" y="2914560"/>
            <a:ext cx="16509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造字工房尚雅体演示版常规体"/>
                <a:ea typeface="造字工房尚雅体演示版常规体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组合 47"/>
          <p:cNvGrpSpPr/>
          <p:nvPr/>
        </p:nvGrpSpPr>
        <p:grpSpPr>
          <a:xfrm>
            <a:off x="8600040" y="-140760"/>
            <a:ext cx="844920" cy="6950160"/>
            <a:chOff x="8600040" y="-140760"/>
            <a:chExt cx="844920" cy="6950160"/>
          </a:xfrm>
        </p:grpSpPr>
        <p:sp>
          <p:nvSpPr>
            <p:cNvPr id="666" name="等腰三角形 48"/>
            <p:cNvSpPr/>
            <p:nvPr/>
          </p:nvSpPr>
          <p:spPr>
            <a:xfrm rot="2793000">
              <a:off x="8748360" y="259560"/>
              <a:ext cx="461520" cy="2620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49"/>
            <p:cNvSpPr/>
            <p:nvPr/>
          </p:nvSpPr>
          <p:spPr>
            <a:xfrm rot="2793000">
              <a:off x="8791200" y="3597480"/>
              <a:ext cx="461520" cy="2620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50"/>
            <p:cNvSpPr/>
            <p:nvPr/>
          </p:nvSpPr>
          <p:spPr>
            <a:xfrm rot="6382800">
              <a:off x="8704080" y="794880"/>
              <a:ext cx="461520" cy="2109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等腰三角形 51"/>
            <p:cNvSpPr/>
            <p:nvPr/>
          </p:nvSpPr>
          <p:spPr>
            <a:xfrm rot="15268200">
              <a:off x="8680680" y="2586960"/>
              <a:ext cx="463320" cy="2620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等腰三角形 52"/>
            <p:cNvSpPr/>
            <p:nvPr/>
          </p:nvSpPr>
          <p:spPr>
            <a:xfrm rot="4273800">
              <a:off x="8804160" y="1563120"/>
              <a:ext cx="461520" cy="2620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等腰三角形 53"/>
            <p:cNvSpPr/>
            <p:nvPr/>
          </p:nvSpPr>
          <p:spPr>
            <a:xfrm rot="9088800">
              <a:off x="8946720" y="3240360"/>
              <a:ext cx="46368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等腰三角形 54"/>
            <p:cNvSpPr/>
            <p:nvPr/>
          </p:nvSpPr>
          <p:spPr>
            <a:xfrm rot="7147800">
              <a:off x="8911080" y="1217880"/>
              <a:ext cx="379080" cy="31104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等腰三角形 55"/>
            <p:cNvSpPr/>
            <p:nvPr/>
          </p:nvSpPr>
          <p:spPr>
            <a:xfrm rot="20333400">
              <a:off x="8738640" y="2071080"/>
              <a:ext cx="46224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等腰三角形 56"/>
            <p:cNvSpPr/>
            <p:nvPr/>
          </p:nvSpPr>
          <p:spPr>
            <a:xfrm rot="21137400">
              <a:off x="8888040" y="4105440"/>
              <a:ext cx="425520" cy="396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等腰三角形 57"/>
            <p:cNvSpPr/>
            <p:nvPr/>
          </p:nvSpPr>
          <p:spPr>
            <a:xfrm rot="17979000">
              <a:off x="8932320" y="5107680"/>
              <a:ext cx="463320" cy="2620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等腰三角形 58"/>
            <p:cNvSpPr/>
            <p:nvPr/>
          </p:nvSpPr>
          <p:spPr>
            <a:xfrm rot="4166400">
              <a:off x="8790480" y="4656960"/>
              <a:ext cx="463320" cy="2620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59"/>
            <p:cNvSpPr/>
            <p:nvPr/>
          </p:nvSpPr>
          <p:spPr>
            <a:xfrm rot="17979000">
              <a:off x="8646120" y="2960280"/>
              <a:ext cx="379080" cy="32724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等腰三角形 60"/>
            <p:cNvSpPr/>
            <p:nvPr/>
          </p:nvSpPr>
          <p:spPr>
            <a:xfrm rot="15914400">
              <a:off x="8840520" y="6143040"/>
              <a:ext cx="463320" cy="2635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等腰三角形 61"/>
            <p:cNvSpPr/>
            <p:nvPr/>
          </p:nvSpPr>
          <p:spPr>
            <a:xfrm rot="14057400">
              <a:off x="8774280" y="5638680"/>
              <a:ext cx="461520" cy="2620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等腰三角形 62"/>
            <p:cNvSpPr/>
            <p:nvPr/>
          </p:nvSpPr>
          <p:spPr>
            <a:xfrm rot="17979000">
              <a:off x="8948160" y="-5760"/>
              <a:ext cx="463320" cy="26208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等腰三角形 63"/>
            <p:cNvSpPr/>
            <p:nvPr/>
          </p:nvSpPr>
          <p:spPr>
            <a:xfrm rot="553800">
              <a:off x="8739000" y="6512040"/>
              <a:ext cx="46224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2" name="组合 37"/>
          <p:cNvGrpSpPr/>
          <p:nvPr/>
        </p:nvGrpSpPr>
        <p:grpSpPr>
          <a:xfrm>
            <a:off x="10609920" y="128160"/>
            <a:ext cx="551880" cy="510120"/>
            <a:chOff x="10609920" y="128160"/>
            <a:chExt cx="551880" cy="510120"/>
          </a:xfrm>
        </p:grpSpPr>
        <p:sp>
          <p:nvSpPr>
            <p:cNvPr id="683" name="直接连接符 30"/>
            <p:cNvSpPr/>
            <p:nvPr/>
          </p:nvSpPr>
          <p:spPr>
            <a:xfrm flipH="1">
              <a:off x="10609920" y="128160"/>
              <a:ext cx="36360" cy="286560"/>
            </a:xfrm>
            <a:prstGeom prst="line">
              <a:avLst/>
            </a:prstGeom>
            <a:ln w="66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32"/>
            <p:cNvSpPr/>
            <p:nvPr/>
          </p:nvSpPr>
          <p:spPr>
            <a:xfrm flipH="1">
              <a:off x="10761840" y="271440"/>
              <a:ext cx="252000" cy="221760"/>
            </a:xfrm>
            <a:prstGeom prst="line">
              <a:avLst/>
            </a:prstGeom>
            <a:ln w="66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直接连接符 34"/>
            <p:cNvSpPr/>
            <p:nvPr/>
          </p:nvSpPr>
          <p:spPr>
            <a:xfrm flipH="1">
              <a:off x="10848240" y="606960"/>
              <a:ext cx="313560" cy="31320"/>
            </a:xfrm>
            <a:prstGeom prst="line">
              <a:avLst/>
            </a:prstGeom>
            <a:ln w="66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组合 39"/>
          <p:cNvGrpSpPr/>
          <p:nvPr/>
        </p:nvGrpSpPr>
        <p:grpSpPr>
          <a:xfrm>
            <a:off x="10952280" y="1913400"/>
            <a:ext cx="402120" cy="659880"/>
            <a:chOff x="10952280" y="1913400"/>
            <a:chExt cx="402120" cy="659880"/>
          </a:xfrm>
        </p:grpSpPr>
        <p:sp>
          <p:nvSpPr>
            <p:cNvPr id="687" name="直接连接符 40"/>
            <p:cNvSpPr/>
            <p:nvPr/>
          </p:nvSpPr>
          <p:spPr>
            <a:xfrm flipH="1">
              <a:off x="11067120" y="1913400"/>
              <a:ext cx="278280" cy="76680"/>
            </a:xfrm>
            <a:prstGeom prst="line">
              <a:avLst/>
            </a:prstGeom>
            <a:ln w="66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1"/>
            <p:cNvSpPr/>
            <p:nvPr/>
          </p:nvSpPr>
          <p:spPr>
            <a:xfrm flipH="1" flipV="1">
              <a:off x="11052720" y="2160720"/>
              <a:ext cx="301680" cy="146880"/>
            </a:xfrm>
            <a:prstGeom prst="line">
              <a:avLst/>
            </a:prstGeom>
            <a:ln w="66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接连接符 42"/>
            <p:cNvSpPr/>
            <p:nvPr/>
          </p:nvSpPr>
          <p:spPr>
            <a:xfrm flipH="1" flipV="1">
              <a:off x="10952280" y="2296440"/>
              <a:ext cx="149040" cy="276840"/>
            </a:xfrm>
            <a:prstGeom prst="line">
              <a:avLst/>
            </a:prstGeom>
            <a:ln w="66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TextBox 45"/>
          <p:cNvSpPr/>
          <p:nvPr/>
        </p:nvSpPr>
        <p:spPr>
          <a:xfrm>
            <a:off x="9080640" y="-139680"/>
            <a:ext cx="96012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4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组合 2"/>
          <p:cNvGrpSpPr/>
          <p:nvPr/>
        </p:nvGrpSpPr>
        <p:grpSpPr>
          <a:xfrm>
            <a:off x="15840" y="3613320"/>
            <a:ext cx="13098600" cy="3288960"/>
            <a:chOff x="15840" y="3613320"/>
            <a:chExt cx="13098600" cy="3288960"/>
          </a:xfrm>
        </p:grpSpPr>
        <p:sp>
          <p:nvSpPr>
            <p:cNvPr id="692" name="等腰三角形 3"/>
            <p:cNvSpPr/>
            <p:nvPr/>
          </p:nvSpPr>
          <p:spPr>
            <a:xfrm>
              <a:off x="15840" y="4676760"/>
              <a:ext cx="1538280" cy="2180880"/>
            </a:xfrm>
            <a:prstGeom prst="triangle">
              <a:avLst>
                <a:gd name="adj" fmla="val 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等腰三角形 4"/>
            <p:cNvSpPr/>
            <p:nvPr/>
          </p:nvSpPr>
          <p:spPr>
            <a:xfrm>
              <a:off x="2500200" y="3876840"/>
              <a:ext cx="3162240" cy="298116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等腰三角形 5"/>
            <p:cNvSpPr/>
            <p:nvPr/>
          </p:nvSpPr>
          <p:spPr>
            <a:xfrm>
              <a:off x="63000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等腰三角形 6"/>
            <p:cNvSpPr/>
            <p:nvPr/>
          </p:nvSpPr>
          <p:spPr>
            <a:xfrm>
              <a:off x="1555560" y="5367240"/>
              <a:ext cx="2584440" cy="149040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等腰三角形 7"/>
            <p:cNvSpPr/>
            <p:nvPr/>
          </p:nvSpPr>
          <p:spPr>
            <a:xfrm>
              <a:off x="5808600" y="4721400"/>
              <a:ext cx="2014560" cy="2180880"/>
            </a:xfrm>
            <a:prstGeom prst="triangle">
              <a:avLst>
                <a:gd name="adj" fmla="val 99741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等腰三角形 8"/>
            <p:cNvSpPr/>
            <p:nvPr/>
          </p:nvSpPr>
          <p:spPr>
            <a:xfrm>
              <a:off x="4676760" y="5021280"/>
              <a:ext cx="1881000" cy="183672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等腰三角形 9"/>
            <p:cNvSpPr/>
            <p:nvPr/>
          </p:nvSpPr>
          <p:spPr>
            <a:xfrm>
              <a:off x="9372600" y="4638600"/>
              <a:ext cx="1482480" cy="2219040"/>
            </a:xfrm>
            <a:prstGeom prst="triangle">
              <a:avLst>
                <a:gd name="adj" fmla="val 99435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等腰三角形 10"/>
            <p:cNvSpPr/>
            <p:nvPr/>
          </p:nvSpPr>
          <p:spPr>
            <a:xfrm>
              <a:off x="741204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等腰三角形 11"/>
            <p:cNvSpPr/>
            <p:nvPr/>
          </p:nvSpPr>
          <p:spPr>
            <a:xfrm>
              <a:off x="10311120" y="3613320"/>
              <a:ext cx="2803320" cy="3284280"/>
            </a:xfrm>
            <a:prstGeom prst="triangle">
              <a:avLst>
                <a:gd name="adj" fmla="val 49727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12"/>
            <p:cNvSpPr/>
            <p:nvPr/>
          </p:nvSpPr>
          <p:spPr>
            <a:xfrm>
              <a:off x="6485040" y="5905440"/>
              <a:ext cx="2971800" cy="98712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TextBox 13"/>
          <p:cNvSpPr/>
          <p:nvPr/>
        </p:nvSpPr>
        <p:spPr>
          <a:xfrm>
            <a:off x="5481720" y="3297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Beyond ordin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26"/>
          <p:cNvSpPr/>
          <p:nvPr/>
        </p:nvSpPr>
        <p:spPr>
          <a:xfrm>
            <a:off x="3244680" y="2651040"/>
            <a:ext cx="44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造字工房尚雅体演示版常规体"/>
                <a:ea typeface="造字工房尚雅体演示版常规体"/>
              </a:rPr>
              <a:t>攀越高峰，遇见未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64"/>
          <p:cNvSpPr/>
          <p:nvPr/>
        </p:nvSpPr>
        <p:spPr>
          <a:xfrm>
            <a:off x="503280" y="476280"/>
            <a:ext cx="1247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75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31"/>
          <p:cNvGrpSpPr/>
          <p:nvPr/>
        </p:nvGrpSpPr>
        <p:grpSpPr>
          <a:xfrm>
            <a:off x="-264600" y="1546560"/>
            <a:ext cx="12710160" cy="635040"/>
            <a:chOff x="-264600" y="1546560"/>
            <a:chExt cx="12710160" cy="635040"/>
          </a:xfrm>
        </p:grpSpPr>
        <p:sp>
          <p:nvSpPr>
            <p:cNvPr id="706" name="等腰三角形 32"/>
            <p:cNvSpPr/>
            <p:nvPr/>
          </p:nvSpPr>
          <p:spPr>
            <a:xfrm rot="1668000">
              <a:off x="-219240" y="1731600"/>
              <a:ext cx="369720" cy="2858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等腰三角形 33"/>
            <p:cNvSpPr/>
            <p:nvPr/>
          </p:nvSpPr>
          <p:spPr>
            <a:xfrm rot="20000400">
              <a:off x="5504760" y="176796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等腰三角形 34"/>
            <p:cNvSpPr/>
            <p:nvPr/>
          </p:nvSpPr>
          <p:spPr>
            <a:xfrm rot="2793000">
              <a:off x="60840" y="1749240"/>
              <a:ext cx="46224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等腰三角形 35"/>
            <p:cNvSpPr/>
            <p:nvPr/>
          </p:nvSpPr>
          <p:spPr>
            <a:xfrm rot="20373000">
              <a:off x="537840" y="181728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等腰三角形 36"/>
            <p:cNvSpPr/>
            <p:nvPr/>
          </p:nvSpPr>
          <p:spPr>
            <a:xfrm rot="1448400">
              <a:off x="947160" y="17982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等腰三角形 37"/>
            <p:cNvSpPr/>
            <p:nvPr/>
          </p:nvSpPr>
          <p:spPr>
            <a:xfrm rot="1053000">
              <a:off x="8196840" y="172044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等腰三角形 38"/>
            <p:cNvSpPr/>
            <p:nvPr/>
          </p:nvSpPr>
          <p:spPr>
            <a:xfrm rot="19935000">
              <a:off x="2318760" y="18396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等腰三角形 39"/>
            <p:cNvSpPr/>
            <p:nvPr/>
          </p:nvSpPr>
          <p:spPr>
            <a:xfrm rot="3619200">
              <a:off x="2752200" y="171972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等腰三角形 40"/>
            <p:cNvSpPr/>
            <p:nvPr/>
          </p:nvSpPr>
          <p:spPr>
            <a:xfrm rot="1591200">
              <a:off x="3088800" y="181728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等腰三角形 41"/>
            <p:cNvSpPr/>
            <p:nvPr/>
          </p:nvSpPr>
          <p:spPr>
            <a:xfrm rot="19588200">
              <a:off x="1278720" y="181728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等腰三角形 42"/>
            <p:cNvSpPr/>
            <p:nvPr/>
          </p:nvSpPr>
          <p:spPr>
            <a:xfrm rot="3052800">
              <a:off x="1760760" y="1790640"/>
              <a:ext cx="3096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等腰三角形 43"/>
            <p:cNvSpPr/>
            <p:nvPr/>
          </p:nvSpPr>
          <p:spPr>
            <a:xfrm rot="4714200">
              <a:off x="3417480" y="167400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等腰三角形 44"/>
            <p:cNvSpPr/>
            <p:nvPr/>
          </p:nvSpPr>
          <p:spPr>
            <a:xfrm rot="6513600">
              <a:off x="2113920" y="169740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45"/>
            <p:cNvSpPr/>
            <p:nvPr/>
          </p:nvSpPr>
          <p:spPr>
            <a:xfrm rot="10123800">
              <a:off x="4858200" y="177948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46"/>
            <p:cNvSpPr/>
            <p:nvPr/>
          </p:nvSpPr>
          <p:spPr>
            <a:xfrm rot="7090800">
              <a:off x="4577760" y="182160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等腰三角形 47"/>
            <p:cNvSpPr/>
            <p:nvPr/>
          </p:nvSpPr>
          <p:spPr>
            <a:xfrm rot="20440800">
              <a:off x="3779280" y="1874520"/>
              <a:ext cx="314280" cy="2001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等腰三角形 48"/>
            <p:cNvSpPr/>
            <p:nvPr/>
          </p:nvSpPr>
          <p:spPr>
            <a:xfrm rot="308400">
              <a:off x="4203000" y="170316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等腰三角形 49"/>
            <p:cNvSpPr/>
            <p:nvPr/>
          </p:nvSpPr>
          <p:spPr>
            <a:xfrm rot="2442600">
              <a:off x="6323400" y="16826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等腰三角形 50"/>
            <p:cNvSpPr/>
            <p:nvPr/>
          </p:nvSpPr>
          <p:spPr>
            <a:xfrm rot="308400">
              <a:off x="8843040" y="172404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51"/>
            <p:cNvSpPr/>
            <p:nvPr/>
          </p:nvSpPr>
          <p:spPr>
            <a:xfrm rot="9409200">
              <a:off x="8570880" y="184896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等腰三角形 52"/>
            <p:cNvSpPr/>
            <p:nvPr/>
          </p:nvSpPr>
          <p:spPr>
            <a:xfrm rot="1674600">
              <a:off x="7617600" y="160488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等腰三角形 53"/>
            <p:cNvSpPr/>
            <p:nvPr/>
          </p:nvSpPr>
          <p:spPr>
            <a:xfrm rot="20452200">
              <a:off x="5944320" y="179496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等腰三角形 54"/>
            <p:cNvSpPr/>
            <p:nvPr/>
          </p:nvSpPr>
          <p:spPr>
            <a:xfrm rot="19447200">
              <a:off x="9836640" y="180144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等腰三角形 55"/>
            <p:cNvSpPr/>
            <p:nvPr/>
          </p:nvSpPr>
          <p:spPr>
            <a:xfrm rot="2805600">
              <a:off x="6963480" y="172008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等腰三角形 56"/>
            <p:cNvSpPr/>
            <p:nvPr/>
          </p:nvSpPr>
          <p:spPr>
            <a:xfrm rot="20263800">
              <a:off x="10893960" y="170748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等腰三角形 57"/>
            <p:cNvSpPr/>
            <p:nvPr/>
          </p:nvSpPr>
          <p:spPr>
            <a:xfrm rot="308400">
              <a:off x="11247840" y="182088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等腰三角形 58"/>
            <p:cNvSpPr/>
            <p:nvPr/>
          </p:nvSpPr>
          <p:spPr>
            <a:xfrm rot="17114400">
              <a:off x="11538360" y="169740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等腰三角形 59"/>
            <p:cNvSpPr/>
            <p:nvPr/>
          </p:nvSpPr>
          <p:spPr>
            <a:xfrm rot="1270200">
              <a:off x="12101400" y="175212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等腰三角形 60"/>
            <p:cNvSpPr/>
            <p:nvPr/>
          </p:nvSpPr>
          <p:spPr>
            <a:xfrm rot="7696800">
              <a:off x="9545400" y="1790640"/>
              <a:ext cx="3096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等腰三角形 61"/>
            <p:cNvSpPr/>
            <p:nvPr/>
          </p:nvSpPr>
          <p:spPr>
            <a:xfrm rot="844800">
              <a:off x="10311120" y="163008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等腰三角形 62"/>
            <p:cNvSpPr/>
            <p:nvPr/>
          </p:nvSpPr>
          <p:spPr>
            <a:xfrm rot="6873600">
              <a:off x="10627200" y="186912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等腰三角形 63"/>
            <p:cNvSpPr/>
            <p:nvPr/>
          </p:nvSpPr>
          <p:spPr>
            <a:xfrm rot="20488200">
              <a:off x="7295400" y="170496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等腰三角形 64"/>
            <p:cNvSpPr/>
            <p:nvPr/>
          </p:nvSpPr>
          <p:spPr>
            <a:xfrm rot="19507200">
              <a:off x="9064800" y="175716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等腰三角形 65"/>
            <p:cNvSpPr/>
            <p:nvPr/>
          </p:nvSpPr>
          <p:spPr>
            <a:xfrm rot="19369800">
              <a:off x="6575760" y="177588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等腰三角形 66"/>
            <p:cNvSpPr/>
            <p:nvPr/>
          </p:nvSpPr>
          <p:spPr>
            <a:xfrm rot="3349800">
              <a:off x="5301720" y="176472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等腰三角形 67"/>
            <p:cNvSpPr/>
            <p:nvPr/>
          </p:nvSpPr>
          <p:spPr>
            <a:xfrm rot="8494200">
              <a:off x="7890120" y="18716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29"/>
          <p:cNvSpPr/>
          <p:nvPr/>
        </p:nvSpPr>
        <p:spPr>
          <a:xfrm>
            <a:off x="1319040" y="146160"/>
            <a:ext cx="96048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4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椭圆 68"/>
          <p:cNvSpPr/>
          <p:nvPr/>
        </p:nvSpPr>
        <p:spPr>
          <a:xfrm>
            <a:off x="6392880" y="2071800"/>
            <a:ext cx="6237360" cy="6237000"/>
          </a:xfrm>
          <a:prstGeom prst="ellipse">
            <a:avLst/>
          </a:prstGeom>
          <a:solidFill>
            <a:srgbClr val="7c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8"/>
          <p:cNvGrpSpPr/>
          <p:nvPr/>
        </p:nvGrpSpPr>
        <p:grpSpPr>
          <a:xfrm>
            <a:off x="15840" y="3613320"/>
            <a:ext cx="13098600" cy="3288960"/>
            <a:chOff x="15840" y="3613320"/>
            <a:chExt cx="13098600" cy="3288960"/>
          </a:xfrm>
        </p:grpSpPr>
        <p:sp>
          <p:nvSpPr>
            <p:cNvPr id="745" name="等腰三角形 19"/>
            <p:cNvSpPr/>
            <p:nvPr/>
          </p:nvSpPr>
          <p:spPr>
            <a:xfrm>
              <a:off x="15840" y="4676760"/>
              <a:ext cx="1538280" cy="2180880"/>
            </a:xfrm>
            <a:prstGeom prst="triangle">
              <a:avLst>
                <a:gd name="adj" fmla="val 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20"/>
            <p:cNvSpPr/>
            <p:nvPr/>
          </p:nvSpPr>
          <p:spPr>
            <a:xfrm>
              <a:off x="2500200" y="3876840"/>
              <a:ext cx="3162240" cy="298116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等腰三角形 21"/>
            <p:cNvSpPr/>
            <p:nvPr/>
          </p:nvSpPr>
          <p:spPr>
            <a:xfrm>
              <a:off x="63000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等腰三角形 22"/>
            <p:cNvSpPr/>
            <p:nvPr/>
          </p:nvSpPr>
          <p:spPr>
            <a:xfrm>
              <a:off x="1555560" y="5367240"/>
              <a:ext cx="2584440" cy="149040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3"/>
            <p:cNvSpPr/>
            <p:nvPr/>
          </p:nvSpPr>
          <p:spPr>
            <a:xfrm>
              <a:off x="5808600" y="4721400"/>
              <a:ext cx="2014560" cy="2180880"/>
            </a:xfrm>
            <a:prstGeom prst="triangle">
              <a:avLst>
                <a:gd name="adj" fmla="val 99741"/>
              </a:avLst>
            </a:pr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等腰三角形 24"/>
            <p:cNvSpPr/>
            <p:nvPr/>
          </p:nvSpPr>
          <p:spPr>
            <a:xfrm>
              <a:off x="4676760" y="5021280"/>
              <a:ext cx="1881000" cy="183672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等腰三角形 25"/>
            <p:cNvSpPr/>
            <p:nvPr/>
          </p:nvSpPr>
          <p:spPr>
            <a:xfrm>
              <a:off x="9372600" y="4638600"/>
              <a:ext cx="1482480" cy="2219040"/>
            </a:xfrm>
            <a:prstGeom prst="triangle">
              <a:avLst>
                <a:gd name="adj" fmla="val 99435"/>
              </a:avLst>
            </a:prstGeom>
            <a:solidFill>
              <a:srgbClr val="ffc0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等腰三角形 26"/>
            <p:cNvSpPr/>
            <p:nvPr/>
          </p:nvSpPr>
          <p:spPr>
            <a:xfrm>
              <a:off x="741204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等腰三角形 27"/>
            <p:cNvSpPr/>
            <p:nvPr/>
          </p:nvSpPr>
          <p:spPr>
            <a:xfrm>
              <a:off x="10311120" y="3613320"/>
              <a:ext cx="2803320" cy="3284280"/>
            </a:xfrm>
            <a:prstGeom prst="triangle">
              <a:avLst>
                <a:gd name="adj" fmla="val 49727"/>
              </a:avLst>
            </a:pr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4" name="TextBox 2"/>
          <p:cNvSpPr/>
          <p:nvPr/>
        </p:nvSpPr>
        <p:spPr>
          <a:xfrm>
            <a:off x="4121280" y="309096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Beyond ordin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4"/>
          <p:cNvSpPr/>
          <p:nvPr/>
        </p:nvSpPr>
        <p:spPr>
          <a:xfrm>
            <a:off x="6170760" y="3949560"/>
            <a:ext cx="53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b05"/>
                </a:solidFill>
                <a:latin typeface="方正兰亭黑简体"/>
                <a:ea typeface="方正兰亭黑简体"/>
              </a:rPr>
              <a:t>     </a:t>
            </a:r>
            <a:r>
              <a:rPr b="0" lang="zh-CN" sz="2800" spc="-1" strike="noStrike">
                <a:solidFill>
                  <a:srgbClr val="ffc000"/>
                </a:solidFill>
                <a:latin typeface="方正风雅宋简体"/>
                <a:ea typeface="方正风雅宋简体"/>
              </a:rPr>
              <a:t>追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逐梦想，我从未停下脚步，从平凡中走来，我毫无畏惧。任谁也挡不住我创造不凡的脚步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9"/>
          <p:cNvSpPr/>
          <p:nvPr/>
        </p:nvSpPr>
        <p:spPr>
          <a:xfrm>
            <a:off x="2279520" y="2422440"/>
            <a:ext cx="44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造字工房尚雅体演示版常规体"/>
                <a:ea typeface="造字工房尚雅体演示版常规体"/>
              </a:rPr>
              <a:t>攀越高峰，遇见未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70"/>
          <p:cNvSpPr/>
          <p:nvPr/>
        </p:nvSpPr>
        <p:spPr>
          <a:xfrm>
            <a:off x="552600" y="5767560"/>
            <a:ext cx="1247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组合 1"/>
          <p:cNvGrpSpPr/>
          <p:nvPr/>
        </p:nvGrpSpPr>
        <p:grpSpPr>
          <a:xfrm>
            <a:off x="-142200" y="3116160"/>
            <a:ext cx="12709800" cy="635400"/>
            <a:chOff x="-142200" y="3116160"/>
            <a:chExt cx="12709800" cy="635400"/>
          </a:xfrm>
        </p:grpSpPr>
        <p:sp>
          <p:nvSpPr>
            <p:cNvPr id="759" name="等腰三角形 2"/>
            <p:cNvSpPr/>
            <p:nvPr/>
          </p:nvSpPr>
          <p:spPr>
            <a:xfrm rot="1668000">
              <a:off x="-96840" y="3301920"/>
              <a:ext cx="369720" cy="2858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等腰三角形 3"/>
            <p:cNvSpPr/>
            <p:nvPr/>
          </p:nvSpPr>
          <p:spPr>
            <a:xfrm rot="20000400">
              <a:off x="5627520" y="33379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等腰三角形 4"/>
            <p:cNvSpPr/>
            <p:nvPr/>
          </p:nvSpPr>
          <p:spPr>
            <a:xfrm rot="2793000">
              <a:off x="183240" y="3319200"/>
              <a:ext cx="462240" cy="26172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等腰三角形 5"/>
            <p:cNvSpPr/>
            <p:nvPr/>
          </p:nvSpPr>
          <p:spPr>
            <a:xfrm rot="20373000">
              <a:off x="659880" y="33872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等腰三角形 6"/>
            <p:cNvSpPr/>
            <p:nvPr/>
          </p:nvSpPr>
          <p:spPr>
            <a:xfrm rot="1448400">
              <a:off x="1071000" y="33685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等腰三角形 7"/>
            <p:cNvSpPr/>
            <p:nvPr/>
          </p:nvSpPr>
          <p:spPr>
            <a:xfrm rot="1053000">
              <a:off x="8319600" y="32904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8"/>
            <p:cNvSpPr/>
            <p:nvPr/>
          </p:nvSpPr>
          <p:spPr>
            <a:xfrm rot="19935000">
              <a:off x="2440800" y="340956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9"/>
            <p:cNvSpPr/>
            <p:nvPr/>
          </p:nvSpPr>
          <p:spPr>
            <a:xfrm rot="3619200">
              <a:off x="2874240" y="328968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等腰三角形 10"/>
            <p:cNvSpPr/>
            <p:nvPr/>
          </p:nvSpPr>
          <p:spPr>
            <a:xfrm rot="1591200">
              <a:off x="3210480" y="33872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等腰三角形 11"/>
            <p:cNvSpPr/>
            <p:nvPr/>
          </p:nvSpPr>
          <p:spPr>
            <a:xfrm rot="19588200">
              <a:off x="1400760" y="33872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等腰三角形 12"/>
            <p:cNvSpPr/>
            <p:nvPr/>
          </p:nvSpPr>
          <p:spPr>
            <a:xfrm rot="3052800">
              <a:off x="1883160" y="3360600"/>
              <a:ext cx="3096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13"/>
            <p:cNvSpPr/>
            <p:nvPr/>
          </p:nvSpPr>
          <p:spPr>
            <a:xfrm rot="4714200">
              <a:off x="3540240" y="3242880"/>
              <a:ext cx="311400" cy="2412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等腰三角形 14"/>
            <p:cNvSpPr/>
            <p:nvPr/>
          </p:nvSpPr>
          <p:spPr>
            <a:xfrm rot="6513600">
              <a:off x="2235960" y="326736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等腰三角形 15"/>
            <p:cNvSpPr/>
            <p:nvPr/>
          </p:nvSpPr>
          <p:spPr>
            <a:xfrm rot="10123800">
              <a:off x="4979880" y="33494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等腰三角形 16"/>
            <p:cNvSpPr/>
            <p:nvPr/>
          </p:nvSpPr>
          <p:spPr>
            <a:xfrm rot="7090800">
              <a:off x="4700880" y="339156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等腰三角形 17"/>
            <p:cNvSpPr/>
            <p:nvPr/>
          </p:nvSpPr>
          <p:spPr>
            <a:xfrm rot="20440800">
              <a:off x="3900960" y="3444840"/>
              <a:ext cx="313920" cy="2001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等腰三角形 18"/>
            <p:cNvSpPr/>
            <p:nvPr/>
          </p:nvSpPr>
          <p:spPr>
            <a:xfrm rot="308400">
              <a:off x="4326480" y="32731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等腰三角形 19"/>
            <p:cNvSpPr/>
            <p:nvPr/>
          </p:nvSpPr>
          <p:spPr>
            <a:xfrm rot="2442600">
              <a:off x="6445080" y="32526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等腰三角形 20"/>
            <p:cNvSpPr/>
            <p:nvPr/>
          </p:nvSpPr>
          <p:spPr>
            <a:xfrm rot="308400">
              <a:off x="8965440" y="32940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等腰三角形 21"/>
            <p:cNvSpPr/>
            <p:nvPr/>
          </p:nvSpPr>
          <p:spPr>
            <a:xfrm rot="9409200">
              <a:off x="8693280" y="34189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等腰三角形 22"/>
            <p:cNvSpPr/>
            <p:nvPr/>
          </p:nvSpPr>
          <p:spPr>
            <a:xfrm rot="1674600">
              <a:off x="7738200" y="317484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等腰三角形 23"/>
            <p:cNvSpPr/>
            <p:nvPr/>
          </p:nvSpPr>
          <p:spPr>
            <a:xfrm rot="20452200">
              <a:off x="6066000" y="336528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等腰三角形 24"/>
            <p:cNvSpPr/>
            <p:nvPr/>
          </p:nvSpPr>
          <p:spPr>
            <a:xfrm rot="19447200">
              <a:off x="9959040" y="33714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等腰三角形 25"/>
            <p:cNvSpPr/>
            <p:nvPr/>
          </p:nvSpPr>
          <p:spPr>
            <a:xfrm rot="2805600">
              <a:off x="7086600" y="329004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等腰三角形 26"/>
            <p:cNvSpPr/>
            <p:nvPr/>
          </p:nvSpPr>
          <p:spPr>
            <a:xfrm rot="20263800">
              <a:off x="11016000" y="32774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等腰三角形 27"/>
            <p:cNvSpPr/>
            <p:nvPr/>
          </p:nvSpPr>
          <p:spPr>
            <a:xfrm rot="308400">
              <a:off x="11370240" y="33908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等腰三角形 28"/>
            <p:cNvSpPr/>
            <p:nvPr/>
          </p:nvSpPr>
          <p:spPr>
            <a:xfrm rot="17114400">
              <a:off x="11660760" y="326736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等腰三角形 29"/>
            <p:cNvSpPr/>
            <p:nvPr/>
          </p:nvSpPr>
          <p:spPr>
            <a:xfrm rot="1270200">
              <a:off x="12223440" y="332208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等腰三角形 30"/>
            <p:cNvSpPr/>
            <p:nvPr/>
          </p:nvSpPr>
          <p:spPr>
            <a:xfrm rot="7696800">
              <a:off x="9667800" y="3360600"/>
              <a:ext cx="3096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等腰三角形 31"/>
            <p:cNvSpPr/>
            <p:nvPr/>
          </p:nvSpPr>
          <p:spPr>
            <a:xfrm rot="844800">
              <a:off x="10433520" y="320004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等腰三角形 32"/>
            <p:cNvSpPr/>
            <p:nvPr/>
          </p:nvSpPr>
          <p:spPr>
            <a:xfrm rot="6873600">
              <a:off x="10749600" y="343908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等腰三角形 33"/>
            <p:cNvSpPr/>
            <p:nvPr/>
          </p:nvSpPr>
          <p:spPr>
            <a:xfrm rot="20488200">
              <a:off x="7417800" y="327492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等腰三角形 34"/>
            <p:cNvSpPr/>
            <p:nvPr/>
          </p:nvSpPr>
          <p:spPr>
            <a:xfrm rot="19507200">
              <a:off x="9187920" y="332676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等腰三角形 35"/>
            <p:cNvSpPr/>
            <p:nvPr/>
          </p:nvSpPr>
          <p:spPr>
            <a:xfrm rot="19369800">
              <a:off x="6697440" y="3346200"/>
              <a:ext cx="3110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等腰三角形 36"/>
            <p:cNvSpPr/>
            <p:nvPr/>
          </p:nvSpPr>
          <p:spPr>
            <a:xfrm rot="3349800">
              <a:off x="5423040" y="3334680"/>
              <a:ext cx="311400" cy="23940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等腰三角形 37"/>
            <p:cNvSpPr/>
            <p:nvPr/>
          </p:nvSpPr>
          <p:spPr>
            <a:xfrm rot="8494200">
              <a:off x="8012880" y="3441600"/>
              <a:ext cx="309240" cy="239760"/>
            </a:xfrm>
            <a:prstGeom prst="triangle">
              <a:avLst>
                <a:gd name="adj" fmla="val 7486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5" name="矩形 38"/>
          <p:cNvSpPr/>
          <p:nvPr/>
        </p:nvSpPr>
        <p:spPr>
          <a:xfrm>
            <a:off x="0" y="0"/>
            <a:ext cx="12192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39"/>
          <p:cNvGrpSpPr/>
          <p:nvPr/>
        </p:nvGrpSpPr>
        <p:grpSpPr>
          <a:xfrm>
            <a:off x="15840" y="3613320"/>
            <a:ext cx="13098600" cy="3288960"/>
            <a:chOff x="15840" y="3613320"/>
            <a:chExt cx="13098600" cy="3288960"/>
          </a:xfrm>
        </p:grpSpPr>
        <p:sp>
          <p:nvSpPr>
            <p:cNvPr id="797" name="等腰三角形 40"/>
            <p:cNvSpPr/>
            <p:nvPr/>
          </p:nvSpPr>
          <p:spPr>
            <a:xfrm>
              <a:off x="15840" y="4676760"/>
              <a:ext cx="1538280" cy="2180880"/>
            </a:xfrm>
            <a:prstGeom prst="triangle">
              <a:avLst>
                <a:gd name="adj" fmla="val 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41"/>
            <p:cNvSpPr/>
            <p:nvPr/>
          </p:nvSpPr>
          <p:spPr>
            <a:xfrm>
              <a:off x="2500200" y="3876840"/>
              <a:ext cx="3162240" cy="298116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等腰三角形 42"/>
            <p:cNvSpPr/>
            <p:nvPr/>
          </p:nvSpPr>
          <p:spPr>
            <a:xfrm>
              <a:off x="63000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等腰三角形 43"/>
            <p:cNvSpPr/>
            <p:nvPr/>
          </p:nvSpPr>
          <p:spPr>
            <a:xfrm>
              <a:off x="1555560" y="5367240"/>
              <a:ext cx="2584440" cy="149040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等腰三角形 44"/>
            <p:cNvSpPr/>
            <p:nvPr/>
          </p:nvSpPr>
          <p:spPr>
            <a:xfrm>
              <a:off x="5808600" y="4721400"/>
              <a:ext cx="2014560" cy="2180880"/>
            </a:xfrm>
            <a:prstGeom prst="triangle">
              <a:avLst>
                <a:gd name="adj" fmla="val 99741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等腰三角形 45"/>
            <p:cNvSpPr/>
            <p:nvPr/>
          </p:nvSpPr>
          <p:spPr>
            <a:xfrm>
              <a:off x="4676760" y="5021280"/>
              <a:ext cx="1881000" cy="1836720"/>
            </a:xfrm>
            <a:prstGeom prst="triangle">
              <a:avLst>
                <a:gd name="adj" fmla="val 49139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等腰三角形 46"/>
            <p:cNvSpPr/>
            <p:nvPr/>
          </p:nvSpPr>
          <p:spPr>
            <a:xfrm>
              <a:off x="9372600" y="4638600"/>
              <a:ext cx="1482480" cy="2219040"/>
            </a:xfrm>
            <a:prstGeom prst="triangle">
              <a:avLst>
                <a:gd name="adj" fmla="val 99435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等腰三角形 47"/>
            <p:cNvSpPr/>
            <p:nvPr/>
          </p:nvSpPr>
          <p:spPr>
            <a:xfrm>
              <a:off x="7412040" y="4964040"/>
              <a:ext cx="2733480" cy="189360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等腰三角形 48"/>
            <p:cNvSpPr/>
            <p:nvPr/>
          </p:nvSpPr>
          <p:spPr>
            <a:xfrm>
              <a:off x="10311120" y="3613320"/>
              <a:ext cx="2803320" cy="3284280"/>
            </a:xfrm>
            <a:prstGeom prst="triangle">
              <a:avLst>
                <a:gd name="adj" fmla="val 49727"/>
              </a:avLst>
            </a:prstGeom>
            <a:solidFill>
              <a:srgbClr val="ffc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等腰三角形 49"/>
            <p:cNvSpPr/>
            <p:nvPr/>
          </p:nvSpPr>
          <p:spPr>
            <a:xfrm>
              <a:off x="6485040" y="5905440"/>
              <a:ext cx="2971800" cy="987120"/>
            </a:xfrm>
            <a:prstGeom prst="triangle">
              <a:avLst>
                <a:gd name="adj" fmla="val 50000"/>
              </a:avLst>
            </a:prstGeom>
            <a:solidFill>
              <a:srgbClr val="ffc000">
                <a:alpha val="9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椭圆 63"/>
          <p:cNvSpPr/>
          <p:nvPr/>
        </p:nvSpPr>
        <p:spPr>
          <a:xfrm rot="10800000">
            <a:off x="4221000" y="3506400"/>
            <a:ext cx="3756240" cy="2033640"/>
          </a:xfrm>
          <a:custGeom>
            <a:avLst/>
            <a:gdLst>
              <a:gd name="textAreaLeft" fmla="*/ 0 w 3756240"/>
              <a:gd name="textAreaRight" fmla="*/ 3756600 w 375624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2817408" h="1524970">
                <a:moveTo>
                  <a:pt x="1408704" y="0"/>
                </a:moveTo>
                <a:cubicBezTo>
                  <a:pt x="2186710" y="0"/>
                  <a:pt x="2817408" y="644782"/>
                  <a:pt x="2817408" y="1440160"/>
                </a:cubicBezTo>
                <a:lnTo>
                  <a:pt x="2813219" y="1524970"/>
                </a:lnTo>
                <a:lnTo>
                  <a:pt x="4189" y="1524970"/>
                </a:lnTo>
                <a:cubicBezTo>
                  <a:pt x="810" y="1496976"/>
                  <a:pt x="0" y="1468665"/>
                  <a:pt x="0" y="1440160"/>
                </a:cubicBezTo>
                <a:cubicBezTo>
                  <a:pt x="0" y="644782"/>
                  <a:pt x="630698" y="0"/>
                  <a:pt x="1408704" y="0"/>
                </a:cubicBezTo>
                <a:close/>
              </a:path>
            </a:pathLst>
          </a:custGeom>
          <a:solidFill>
            <a:srgbClr val="7c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52"/>
          <p:cNvSpPr/>
          <p:nvPr/>
        </p:nvSpPr>
        <p:spPr>
          <a:xfrm>
            <a:off x="3970440" y="3995640"/>
            <a:ext cx="41972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Thank you !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53"/>
          <p:cNvSpPr/>
          <p:nvPr/>
        </p:nvSpPr>
        <p:spPr>
          <a:xfrm>
            <a:off x="4572000" y="2525760"/>
            <a:ext cx="299412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造字工房尚雅体演示版常规体"/>
                <a:ea typeface="造字工房尚雅体演示版常规体"/>
              </a:rPr>
              <a:t>简单</a:t>
            </a:r>
            <a:r>
              <a:rPr b="0" lang="en-US" sz="4800" spc="-1" strike="noStrike">
                <a:solidFill>
                  <a:srgbClr val="000000"/>
                </a:solidFill>
                <a:latin typeface="造字工房尚雅体演示版常规体"/>
                <a:ea typeface="造字工房尚雅体演示版常规体"/>
              </a:rPr>
              <a:t>·</a:t>
            </a:r>
            <a:r>
              <a:rPr b="0" lang="zh-CN" sz="4800" spc="-1" strike="noStrike">
                <a:solidFill>
                  <a:srgbClr val="000000"/>
                </a:solidFill>
                <a:latin typeface="造字工房尚雅体演示版常规体"/>
                <a:ea typeface="造字工房尚雅体演示版常规体"/>
              </a:rPr>
              <a:t>智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81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00Z</dcterms:created>
  <dc:creator>Vemia</dc:creator>
  <dc:description/>
  <cp:keywords/>
  <dc:language>en-US</dc:language>
  <cp:lastModifiedBy>a</cp:lastModifiedBy>
  <dcterms:modified xsi:type="dcterms:W3CDTF">2014-08-13T02:12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