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FDF-8722-4519-B4F3-2253865C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64A-D35F-4B49-8006-418274D5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62E46-059F-49CF-9CD3-E05EF15C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886CC-EFCF-4592-98BE-625EADE6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D740D-4976-46E8-9285-BC1A4FF5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07A39-2173-42A2-8527-E6D1E5D8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99A79-08DC-43F7-A6B9-3E9482A2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72599-47AD-4BFA-A021-33213DE7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058E0-AD41-4F92-A245-39A6554C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4436F-1BAB-4E34-A092-2F6F61A4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00425-0CEA-4C03-9CB2-E7B63F28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C3316-360F-4DD9-B5E8-2CC0884A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A81-ADF1-4B04-A61F-730D75E3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73B23-FB0F-435B-B01B-D92F8505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F1AF7-FA26-4186-B1EC-B5E57C3B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7C030-A6FE-459E-AB14-6ACA4F10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D6C14-FA56-49E3-9282-29DB6B3D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0530E-33B5-4878-A59D-A1B932E2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AB453-E4CE-4CA7-9103-2ADE17C5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772F7-99AE-485B-B80C-BFF1E002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60DA2-CD05-49A7-A1BC-7EECEDFC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BEFBE-66D7-4E87-B631-63478170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E6671-A583-4979-B1A1-6E753438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606-4B1E-402A-89B2-14F8169E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AC56C-B71B-4393-B494-5F6D93F4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9DEC7-BDE0-4131-B822-51428B15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7BBE6-3251-4026-90A7-25059B85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51F28-D92F-4EB5-9F22-FC925155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B80EB-FCD3-48D2-99A0-0F35ABEB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74713-D17D-407C-8D26-8037050C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8E2A4-FE47-493E-963B-28061413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0E922-47E8-4E16-B536-1FCE8612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666FB-FB02-4896-833C-8AA318DA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FC383-3F2A-4977-8985-94386FCC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E397-D4D5-45B2-A0ED-4F08E23A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37A56-95E2-4A61-9204-165A7025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BF547-6BAD-4782-8950-7308A473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8F9EE-EE81-4A65-B83C-83E67F66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EA614-899A-4A0E-AC44-D1C4BEBE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B58AF-0A53-40DE-B696-DCB04BD1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01EB6-1F38-4265-84D4-A8221D8F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38468-2F05-40A4-AE3A-F0CC5CCC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02B98-6B61-425E-B874-3E406018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894A3-9082-48E4-90EE-B081FB07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B3075-9706-40A8-8FF7-901C7399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5BD2-1FCA-416C-942B-453A8FE4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67BA8-AA00-48A9-B2D7-C53F128F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786E7-0DA5-4913-AB89-5ECF1DFE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93BAE-00D8-4DD1-8699-FD379FA1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7B856-E683-4F90-BE65-D4C0F5DC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2FD4D-6BFC-4A5D-9719-61B2C888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939604-F575-43D9-8D3D-33C15B81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49A27-D8D8-47C8-9760-69A35B6A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15C00-720F-48D4-86DE-754ED1C3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698D1-8427-4FC1-9B46-70AFBEB2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78595-1EFC-4011-876E-0682B06D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626C-C2DD-49D3-866A-32E3B063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A5755-3A1C-4584-A108-7855BF57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FC699-DE6C-467B-8561-EBC7CA01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D6112-CC78-4274-BB20-26DD961A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2A2FDE-B9BB-4AF4-A39D-3450A511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AA87E1-59BF-447A-89C7-BC5E2E64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EC035-684D-4638-B3C7-D23ADC3A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AEAB9-4C7E-40EC-8FF9-BA13AFB8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2183-3159-431C-81BE-A7F8ABE5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5589-EB2B-4447-AD58-C2C86206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B858-3F29-4D31-93DA-F76C6152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A6AB-61C6-4045-A7E4-CD5CD5EF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7C1-D165-41EA-BFDB-C22E103F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BBEF-B0AA-4165-A3FE-191D9677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82F1-A52D-426E-9FC2-AD83FEEA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38C9-C160-4307-9B3B-37A603C9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76ED-4352-4F42-B62E-1C67130D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7F2D-A63A-45E8-A169-85267F06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A32C8-BB7A-4327-89F7-7DB1D377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8E8C8-9064-4A50-9558-80500EB8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AE5B4-7DC9-41D1-8D92-3A0104CC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75818-7AB1-4780-9D91-2BC9A6DA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B623F-EA72-4932-9F0B-5FA3071C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2A9-7ECC-4DD6-BFE8-F4A49D10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8DA87-6D0C-437F-9059-259BA4E6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DDE85-39E0-430B-8551-98C9268D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B90CB-34E2-4A32-A188-140C2698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0E018-02E9-46A3-ABC9-F24AD19B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1030B-630E-45E5-8EAB-997B32D6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6ED44-F52E-450D-A157-281F9884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CABDE-0605-4889-BBC9-63F3429E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680F0-7331-4467-9112-E6F8BEB5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07A9F-96F0-4956-8A74-E189A266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8C44C-2971-4F29-8330-43C19E20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1FA-0674-4E95-B24D-756FD4B0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30DAE-1746-4A9A-B28B-0D2D7534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58CB4-35D5-4685-BBC5-5FFDB231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5C1F7-19CF-47FC-B032-9780CB2C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AE3FF-0792-4262-B9DF-0956DE1C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793E3-02AB-4A2E-B3A7-46D7C25B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1CCBC-B140-4344-AFAB-8C06906F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550B5-833F-4317-8F6E-CC631414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C0230-B1CC-4E0D-8588-D1CE0605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E6347-23AC-4AE8-B5BA-598671A4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117B4-A11F-440F-AF19-E901F964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9A9-8070-42D7-9517-63DEB923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F5958-D3F1-48C8-88E0-1FD9C293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AF92A-6486-4CE9-9A06-8E7CC8D0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33070-0DEA-478C-9FA2-BD7E268E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7A6AE-1A7A-42C0-8194-14C3AEBE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C38AE-86AE-456E-9873-16C30928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1341D-A382-4304-937D-0D9A51D8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E0668-7C58-4065-BC93-3580E597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D59C6-6AAE-4381-9B75-13A3E6AF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A0FD3-1AFC-4519-8B49-FA3B92AF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FB1AB-C4A3-4671-936D-ACC528B6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7592-6068-478A-AC2D-9470E579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D1208-4ADF-4B05-8B1D-89A88091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27164-84C7-4E90-A258-DF2AABE5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03A4E-AE41-4353-BE32-A21AA7D9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5FDE0-1DF1-4E04-A4D6-3A142359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FE6DF-5867-4323-A57A-08F21780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D0944-C88F-4EDA-852E-C9F99361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44B41-069E-4CEC-BEDD-0803C608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5E5CA-1B14-494F-A42A-85AA93D0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31243-A78A-4E1D-BBC0-F67CF93C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C3AA2-91ED-4688-81DF-720CE63C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1C4-8412-4947-8C38-FB8F3414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BD852-ECA6-4D38-9261-5F1255F5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A8EA6-B3FE-4071-8073-D7D65C4C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C1835-74B0-4DE0-8EC8-507EE3EE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91E53-D902-4370-A021-71F5AE23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CB47E-744A-4F1B-8AD4-5BB56A4E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C8543-A4AB-403A-BFCB-ABB63838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DCD57-64BD-4B79-9C36-93E4AC3B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0AFEC-86B7-4EAB-8E71-162992D8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27B4B-F1CC-4374-98B8-F145C247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B1067-513C-4249-A3C5-E06D8414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93B-172E-4D65-9CAD-A8DDBA2D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5BEB0-25D6-4A98-ABDE-E7F0C4A5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848F4-C850-4AD2-8DCB-1E6A4573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B50A0-5C28-446E-B59F-EB17641E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B619B-0570-4A92-8E93-E38FE1D9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CAF2C-9CF8-4178-8C47-590D7FAE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47FFF-F9DF-4B9C-A0EA-07A79EEA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3B0EC-81DB-4FD5-9213-110F18A6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67847-F471-474D-90E4-2F7D51B6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B3656-253C-41F4-A948-8336B4E9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57014-CB71-4F4B-B4E8-66810241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FD4-63BF-4B90-8ED1-159072A0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58E9C-38C6-4C2E-8A8E-9B66CB8C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7AAA8-C5C4-43D2-B609-A61B7A1A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1D5DB-4B37-43BA-8D16-6F525728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C153B-E5D3-4CBF-8120-CB2757CA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DED6F-B90B-44EF-8E94-1BA0221D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6A7D9-77DA-464D-912F-C7B57E30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8A05F-9DED-43CF-A3A2-FE014FC0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DA207-537C-491C-A698-3E24214E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EA3CD-BBCD-47ED-B2B1-15902BA0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0875D-8072-4E21-BD21-C23A1557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C3FC-31B3-4E81-811C-8D46F44FDB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E8E4-2305-4E8E-8405-876C63BEC7F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72C8-D9CF-4D80-BF3D-DCC25D6C9D2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E13C-453C-424E-8EEB-5F80A95DDDB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A6C3-4F08-41CB-937E-72D95739C1D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7EDE-0740-4801-8E8E-936319DBDC5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E242-990C-4BCD-B70D-4A6464BF21B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F10E-9112-4D95-AFA8-9472FD4452D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1548-C098-463F-9497-D4CE6B0DEDD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37D2-682A-40EB-8CAF-60F0F6D3287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AB56-ED7C-4B7B-ABF0-B5545A172A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8427-06D7-4D8B-A2CE-327A536B990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DC18-006E-45AE-9FE9-FEC4F98BC08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FED3-9983-405B-B18A-9614C4B168F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A034-6913-4C97-AE9C-1AF242186E9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C8CC-D288-40BE-9F9D-42F2398C5EB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3C85-539A-47A7-88D2-999701F2789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5F73-A193-4916-BA39-9DE60DA0FDF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02A5-6E52-42AC-9D50-A38855C8948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ECEA-12E7-4E2C-A927-13C8DC27C41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3AB5-49D1-45E9-85C4-D518CA336F9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AEED-E525-4C19-8176-80C923DAD53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07A3-0CB3-4FFA-A105-D997649C8B6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C686-8824-4143-9129-2C10EC2BF4B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BFED-7810-4C5A-A669-D683B42B278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图片1"/>
          <p:cNvPicPr/>
          <p:nvPr/>
        </p:nvPicPr>
        <p:blipFill>
          <a:blip r:embed="rId1"/>
          <a:srcRect l="0" t="0" r="0" b="18434"/>
          <a:stretch/>
        </p:blipFill>
        <p:spPr>
          <a:xfrm>
            <a:off x="4633920" y="1547640"/>
            <a:ext cx="2238480" cy="193212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3"/>
          <p:cNvSpPr/>
          <p:nvPr/>
        </p:nvSpPr>
        <p:spPr>
          <a:xfrm rot="17931600">
            <a:off x="2708640" y="3378600"/>
            <a:ext cx="22860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AutoShape 4"/>
          <p:cNvSpPr/>
          <p:nvPr/>
        </p:nvSpPr>
        <p:spPr>
          <a:xfrm rot="15238200">
            <a:off x="2783160" y="3360960"/>
            <a:ext cx="228600" cy="712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AutoShape 5"/>
          <p:cNvSpPr/>
          <p:nvPr/>
        </p:nvSpPr>
        <p:spPr>
          <a:xfrm flipH="1" rot="16951200">
            <a:off x="2516040" y="2989080"/>
            <a:ext cx="1017720" cy="712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AutoShape 6"/>
          <p:cNvSpPr/>
          <p:nvPr/>
        </p:nvSpPr>
        <p:spPr>
          <a:xfrm flipH="1" rot="15908400">
            <a:off x="2673360" y="3003120"/>
            <a:ext cx="101772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AutoShape 7"/>
          <p:cNvSpPr/>
          <p:nvPr/>
        </p:nvSpPr>
        <p:spPr>
          <a:xfrm rot="17700000">
            <a:off x="3157920" y="3392640"/>
            <a:ext cx="22860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AutoShape 8"/>
          <p:cNvSpPr/>
          <p:nvPr/>
        </p:nvSpPr>
        <p:spPr>
          <a:xfrm flipH="1" rot="15238800">
            <a:off x="3018240" y="3661200"/>
            <a:ext cx="78408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AutoShape 9"/>
          <p:cNvSpPr/>
          <p:nvPr/>
        </p:nvSpPr>
        <p:spPr>
          <a:xfrm flipH="1" rot="16951200">
            <a:off x="3122280" y="3549600"/>
            <a:ext cx="1017720" cy="712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AutoShape 10"/>
          <p:cNvSpPr/>
          <p:nvPr/>
        </p:nvSpPr>
        <p:spPr>
          <a:xfrm flipH="1" rot="14958600">
            <a:off x="3553200" y="3304800"/>
            <a:ext cx="53496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AutoShape 11"/>
          <p:cNvSpPr/>
          <p:nvPr/>
        </p:nvSpPr>
        <p:spPr>
          <a:xfrm rot="17212200">
            <a:off x="3849840" y="3460320"/>
            <a:ext cx="19188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AutoShape 12"/>
          <p:cNvSpPr/>
          <p:nvPr/>
        </p:nvSpPr>
        <p:spPr>
          <a:xfrm>
            <a:off x="3946680" y="3403440"/>
            <a:ext cx="1077840" cy="71640"/>
          </a:xfrm>
          <a:prstGeom prst="roundRect">
            <a:avLst>
              <a:gd name="adj" fmla="val 50000"/>
            </a:avLst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AutoShape 13"/>
          <p:cNvSpPr/>
          <p:nvPr/>
        </p:nvSpPr>
        <p:spPr>
          <a:xfrm>
            <a:off x="-9360" y="3443400"/>
            <a:ext cx="2781000" cy="71280"/>
          </a:xfrm>
          <a:prstGeom prst="roundRect">
            <a:avLst>
              <a:gd name="adj" fmla="val 16667"/>
            </a:avLst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6566040" y="3405240"/>
            <a:ext cx="5626080" cy="71280"/>
          </a:xfrm>
          <a:prstGeom prst="roundRect">
            <a:avLst>
              <a:gd name="adj" fmla="val 16667"/>
            </a:avLst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WordArt 15"/>
          <p:cNvSpPr txBox="1"/>
          <p:nvPr/>
        </p:nvSpPr>
        <p:spPr>
          <a:xfrm>
            <a:off x="4076640" y="4102200"/>
            <a:ext cx="37083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bd292"/>
                  </a:solidFill>
                  <a:miter/>
                </a:ln>
                <a:solidFill>
                  <a:srgbClr val="fbd292"/>
                </a:solidFill>
                <a:latin typeface="Gulim"/>
              </a:rPr>
              <a:t>JIAN DAN SIMPLE</a:t>
            </a:r>
            <a:endParaRPr b="1" lang="en-US" sz="1800" spc="1" strike="noStrike">
              <a:ln w="12600">
                <a:solidFill>
                  <a:srgbClr val="fbd292"/>
                </a:solidFill>
                <a:miter/>
              </a:ln>
              <a:solidFill>
                <a:srgbClr val="fbd292"/>
              </a:solidFill>
              <a:latin typeface="Gulim"/>
              <a:ea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WordArt 2"/>
          <p:cNvSpPr txBox="1"/>
          <p:nvPr/>
        </p:nvSpPr>
        <p:spPr>
          <a:xfrm>
            <a:off x="1785960" y="2228760"/>
            <a:ext cx="1171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1c9"/>
                  </a:solidFill>
                  <a:miter/>
                </a:ln>
                <a:solidFill>
                  <a:srgbClr val="fbd292"/>
                </a:solidFill>
                <a:latin typeface="黑体"/>
              </a:rPr>
              <a:t>目 录</a:t>
            </a:r>
            <a:endParaRPr b="1" lang="en-US" sz="1800" spc="1" strike="noStrike">
              <a:ln w="9360">
                <a:solidFill>
                  <a:srgbClr val="fff1c9"/>
                </a:solidFill>
                <a:miter/>
              </a:ln>
              <a:solidFill>
                <a:srgbClr val="fbd292"/>
              </a:solidFill>
              <a:latin typeface="黑体"/>
              <a:ea typeface="黑体"/>
            </a:endParaRPr>
          </a:p>
        </p:txBody>
      </p:sp>
      <p:sp>
        <p:nvSpPr>
          <p:cNvPr id="548" name="Oval 3"/>
          <p:cNvSpPr/>
          <p:nvPr/>
        </p:nvSpPr>
        <p:spPr>
          <a:xfrm>
            <a:off x="3530520" y="3332160"/>
            <a:ext cx="152640" cy="165240"/>
          </a:xfrm>
          <a:prstGeom prst="ellipse">
            <a:avLst/>
          </a:prstGeom>
          <a:solidFill>
            <a:srgbClr val="fbd292"/>
          </a:solidFill>
          <a:ln w="9360">
            <a:solidFill>
              <a:srgbClr val="fff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Line 4"/>
          <p:cNvSpPr/>
          <p:nvPr/>
        </p:nvSpPr>
        <p:spPr>
          <a:xfrm>
            <a:off x="3530520" y="3560760"/>
            <a:ext cx="5105520" cy="0"/>
          </a:xfrm>
          <a:prstGeom prst="line">
            <a:avLst/>
          </a:prstGeom>
          <a:ln w="38160">
            <a:solidFill>
              <a:srgbClr val="fbd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Oval 5"/>
          <p:cNvSpPr/>
          <p:nvPr/>
        </p:nvSpPr>
        <p:spPr>
          <a:xfrm>
            <a:off x="3530520" y="4513320"/>
            <a:ext cx="152640" cy="164880"/>
          </a:xfrm>
          <a:prstGeom prst="ellipse">
            <a:avLst/>
          </a:prstGeom>
          <a:solidFill>
            <a:srgbClr val="fbd292"/>
          </a:solidFill>
          <a:ln w="9360">
            <a:solidFill>
              <a:srgbClr val="fff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ine 6"/>
          <p:cNvSpPr/>
          <p:nvPr/>
        </p:nvSpPr>
        <p:spPr>
          <a:xfrm>
            <a:off x="3530520" y="4741920"/>
            <a:ext cx="5105520" cy="0"/>
          </a:xfrm>
          <a:prstGeom prst="line">
            <a:avLst/>
          </a:prstGeom>
          <a:ln w="38160">
            <a:solidFill>
              <a:srgbClr val="fbd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Oval 7"/>
          <p:cNvSpPr/>
          <p:nvPr/>
        </p:nvSpPr>
        <p:spPr>
          <a:xfrm>
            <a:off x="3530520" y="5643720"/>
            <a:ext cx="152640" cy="164880"/>
          </a:xfrm>
          <a:prstGeom prst="ellipse">
            <a:avLst/>
          </a:prstGeom>
          <a:solidFill>
            <a:srgbClr val="fbd292"/>
          </a:solidFill>
          <a:ln w="9360">
            <a:solidFill>
              <a:srgbClr val="fff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3530520" y="5872320"/>
            <a:ext cx="5105520" cy="0"/>
          </a:xfrm>
          <a:prstGeom prst="line">
            <a:avLst/>
          </a:prstGeom>
          <a:ln w="38160">
            <a:solidFill>
              <a:srgbClr val="fbd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WordArt 9" descr=""/>
          <p:cNvPicPr/>
          <p:nvPr/>
        </p:nvPicPr>
        <p:blipFill>
          <a:blip r:embed="rId1"/>
          <a:stretch/>
        </p:blipFill>
        <p:spPr>
          <a:xfrm>
            <a:off x="4340160" y="4200480"/>
            <a:ext cx="3309840" cy="474840"/>
          </a:xfrm>
          <a:prstGeom prst="rect">
            <a:avLst/>
          </a:prstGeom>
          <a:ln w="0">
            <a:noFill/>
          </a:ln>
        </p:spPr>
      </p:pic>
      <p:pic>
        <p:nvPicPr>
          <p:cNvPr id="555" name="WordArt 10" descr=""/>
          <p:cNvPicPr/>
          <p:nvPr/>
        </p:nvPicPr>
        <p:blipFill>
          <a:blip r:embed="rId2"/>
          <a:stretch/>
        </p:blipFill>
        <p:spPr>
          <a:xfrm>
            <a:off x="4340160" y="3017880"/>
            <a:ext cx="3309840" cy="474480"/>
          </a:xfrm>
          <a:prstGeom prst="rect">
            <a:avLst/>
          </a:prstGeom>
          <a:ln w="0">
            <a:noFill/>
          </a:ln>
        </p:spPr>
      </p:pic>
      <p:pic>
        <p:nvPicPr>
          <p:cNvPr id="556" name="WordArt 11" descr=""/>
          <p:cNvPicPr/>
          <p:nvPr/>
        </p:nvPicPr>
        <p:blipFill>
          <a:blip r:embed="rId3"/>
          <a:stretch/>
        </p:blipFill>
        <p:spPr>
          <a:xfrm>
            <a:off x="4340160" y="5340240"/>
            <a:ext cx="3309840" cy="47484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12"/>
          <p:cNvSpPr/>
          <p:nvPr/>
        </p:nvSpPr>
        <p:spPr>
          <a:xfrm>
            <a:off x="1506600" y="798480"/>
            <a:ext cx="9221760" cy="42840"/>
          </a:xfrm>
          <a:prstGeom prst="rect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Rectangle 13"/>
          <p:cNvSpPr/>
          <p:nvPr/>
        </p:nvSpPr>
        <p:spPr>
          <a:xfrm>
            <a:off x="11410920" y="797040"/>
            <a:ext cx="781200" cy="42840"/>
          </a:xfrm>
          <a:prstGeom prst="rect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AutoShape 14"/>
          <p:cNvSpPr/>
          <p:nvPr/>
        </p:nvSpPr>
        <p:spPr>
          <a:xfrm rot="17931600">
            <a:off x="306720" y="792720"/>
            <a:ext cx="228600" cy="428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AutoShape 15"/>
          <p:cNvSpPr/>
          <p:nvPr/>
        </p:nvSpPr>
        <p:spPr>
          <a:xfrm rot="15238200">
            <a:off x="380160" y="811440"/>
            <a:ext cx="228600" cy="428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AutoShape 16"/>
          <p:cNvSpPr/>
          <p:nvPr/>
        </p:nvSpPr>
        <p:spPr>
          <a:xfrm flipH="1" rot="16951200">
            <a:off x="182520" y="500040"/>
            <a:ext cx="861840" cy="460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AutoShape 17"/>
          <p:cNvSpPr/>
          <p:nvPr/>
        </p:nvSpPr>
        <p:spPr>
          <a:xfrm rot="15908400">
            <a:off x="318960" y="510480"/>
            <a:ext cx="841320" cy="44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AutoShape 18"/>
          <p:cNvSpPr/>
          <p:nvPr/>
        </p:nvSpPr>
        <p:spPr>
          <a:xfrm rot="17700000">
            <a:off x="712080" y="817560"/>
            <a:ext cx="228600" cy="428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19"/>
          <p:cNvSpPr/>
          <p:nvPr/>
        </p:nvSpPr>
        <p:spPr>
          <a:xfrm flipH="1" rot="15238800">
            <a:off x="575640" y="1085040"/>
            <a:ext cx="784440" cy="428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20"/>
          <p:cNvSpPr/>
          <p:nvPr/>
        </p:nvSpPr>
        <p:spPr>
          <a:xfrm flipH="1" rot="16951200">
            <a:off x="666720" y="965160"/>
            <a:ext cx="1017720" cy="428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21"/>
          <p:cNvSpPr/>
          <p:nvPr/>
        </p:nvSpPr>
        <p:spPr>
          <a:xfrm flipH="1" rot="14958600">
            <a:off x="1110600" y="715680"/>
            <a:ext cx="534960" cy="428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22"/>
          <p:cNvSpPr/>
          <p:nvPr/>
        </p:nvSpPr>
        <p:spPr>
          <a:xfrm rot="17212200">
            <a:off x="1401480" y="862920"/>
            <a:ext cx="191880" cy="428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23"/>
          <p:cNvSpPr/>
          <p:nvPr/>
        </p:nvSpPr>
        <p:spPr>
          <a:xfrm>
            <a:off x="-7920" y="868320"/>
            <a:ext cx="393840" cy="42840"/>
          </a:xfrm>
          <a:prstGeom prst="rect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Picture 24" descr="图片1"/>
          <p:cNvPicPr/>
          <p:nvPr/>
        </p:nvPicPr>
        <p:blipFill>
          <a:blip r:embed="rId4"/>
          <a:srcRect l="0" t="0" r="0" b="18434"/>
          <a:stretch/>
        </p:blipFill>
        <p:spPr>
          <a:xfrm>
            <a:off x="10611000" y="38160"/>
            <a:ext cx="95544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WordArt 2" descr=""/>
          <p:cNvPicPr/>
          <p:nvPr/>
        </p:nvPicPr>
        <p:blipFill>
          <a:blip r:embed="rId1"/>
          <a:stretch/>
        </p:blipFill>
        <p:spPr>
          <a:xfrm>
            <a:off x="3670200" y="2597040"/>
            <a:ext cx="4114800" cy="84132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3"/>
          <p:cNvSpPr/>
          <p:nvPr/>
        </p:nvSpPr>
        <p:spPr>
          <a:xfrm>
            <a:off x="-9360" y="3543480"/>
            <a:ext cx="1465200" cy="71280"/>
          </a:xfrm>
          <a:prstGeom prst="rect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AutoShape 4"/>
          <p:cNvSpPr/>
          <p:nvPr/>
        </p:nvSpPr>
        <p:spPr>
          <a:xfrm rot="17931600">
            <a:off x="9860400" y="3468960"/>
            <a:ext cx="22860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AutoShape 5"/>
          <p:cNvSpPr/>
          <p:nvPr/>
        </p:nvSpPr>
        <p:spPr>
          <a:xfrm rot="15238200">
            <a:off x="9934920" y="3464280"/>
            <a:ext cx="228600" cy="712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AutoShape 6"/>
          <p:cNvSpPr/>
          <p:nvPr/>
        </p:nvSpPr>
        <p:spPr>
          <a:xfrm flipH="1" rot="16951200">
            <a:off x="9680400" y="3092400"/>
            <a:ext cx="1017720" cy="712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AutoShape 7"/>
          <p:cNvSpPr/>
          <p:nvPr/>
        </p:nvSpPr>
        <p:spPr>
          <a:xfrm flipH="1" rot="15908400">
            <a:off x="9839160" y="3106440"/>
            <a:ext cx="1017360" cy="712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AutoShape 8"/>
          <p:cNvSpPr/>
          <p:nvPr/>
        </p:nvSpPr>
        <p:spPr>
          <a:xfrm rot="17700000">
            <a:off x="10335240" y="3508560"/>
            <a:ext cx="228600" cy="712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AutoShape 9"/>
          <p:cNvSpPr/>
          <p:nvPr/>
        </p:nvSpPr>
        <p:spPr>
          <a:xfrm flipH="1" rot="15238800">
            <a:off x="10195200" y="3777120"/>
            <a:ext cx="78408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AutoShape 10"/>
          <p:cNvSpPr/>
          <p:nvPr/>
        </p:nvSpPr>
        <p:spPr>
          <a:xfrm flipH="1" rot="16951200">
            <a:off x="10286280" y="3652560"/>
            <a:ext cx="1017360" cy="7200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AutoShape 11"/>
          <p:cNvSpPr/>
          <p:nvPr/>
        </p:nvSpPr>
        <p:spPr>
          <a:xfrm flipH="1" rot="14958600">
            <a:off x="10717560" y="3395520"/>
            <a:ext cx="53496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AutoShape 12"/>
          <p:cNvSpPr/>
          <p:nvPr/>
        </p:nvSpPr>
        <p:spPr>
          <a:xfrm rot="17212200">
            <a:off x="11013840" y="3563640"/>
            <a:ext cx="19224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AutoShape 13"/>
          <p:cNvSpPr/>
          <p:nvPr/>
        </p:nvSpPr>
        <p:spPr>
          <a:xfrm>
            <a:off x="11122200" y="3505320"/>
            <a:ext cx="1077840" cy="71280"/>
          </a:xfrm>
          <a:prstGeom prst="roundRect">
            <a:avLst>
              <a:gd name="adj" fmla="val 50000"/>
            </a:avLst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AutoShape 14"/>
          <p:cNvSpPr/>
          <p:nvPr/>
        </p:nvSpPr>
        <p:spPr>
          <a:xfrm>
            <a:off x="2800440" y="3532320"/>
            <a:ext cx="7127640" cy="83880"/>
          </a:xfrm>
          <a:prstGeom prst="roundRect">
            <a:avLst>
              <a:gd name="adj" fmla="val 16667"/>
            </a:avLst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Picture 15" descr="图片1"/>
          <p:cNvPicPr/>
          <p:nvPr/>
        </p:nvPicPr>
        <p:blipFill>
          <a:blip r:embed="rId2"/>
          <a:srcRect l="0" t="0" r="0" b="18434"/>
          <a:stretch/>
        </p:blipFill>
        <p:spPr>
          <a:xfrm>
            <a:off x="1103400" y="1903320"/>
            <a:ext cx="20430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/>
          <p:cNvSpPr/>
          <p:nvPr/>
        </p:nvSpPr>
        <p:spPr>
          <a:xfrm rot="5400000">
            <a:off x="-2620080" y="3344040"/>
            <a:ext cx="5651280" cy="411120"/>
          </a:xfrm>
          <a:prstGeom prst="roundRect">
            <a:avLst>
              <a:gd name="adj" fmla="val 16667"/>
            </a:avLst>
          </a:prstGeom>
          <a:solidFill>
            <a:srgbClr val="f9c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Rectangle 3"/>
          <p:cNvSpPr/>
          <p:nvPr/>
        </p:nvSpPr>
        <p:spPr>
          <a:xfrm rot="5400000">
            <a:off x="-876960" y="3275640"/>
            <a:ext cx="2165400" cy="411120"/>
          </a:xfrm>
          <a:prstGeom prst="rect">
            <a:avLst/>
          </a:prstGeom>
          <a:solidFill>
            <a:srgbClr val="da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AutoShape 4"/>
          <p:cNvSpPr/>
          <p:nvPr/>
        </p:nvSpPr>
        <p:spPr>
          <a:xfrm rot="5400000">
            <a:off x="209160" y="3373200"/>
            <a:ext cx="690840" cy="316080"/>
          </a:xfrm>
          <a:prstGeom prst="triangle">
            <a:avLst>
              <a:gd name="adj" fmla="val 50000"/>
            </a:avLst>
          </a:prstGeom>
          <a:solidFill>
            <a:srgbClr val="da8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WordArt 5" descr=""/>
          <p:cNvPicPr/>
          <p:nvPr/>
        </p:nvPicPr>
        <p:blipFill>
          <a:blip r:embed="rId1"/>
          <a:stretch/>
        </p:blipFill>
        <p:spPr>
          <a:xfrm>
            <a:off x="49320" y="755640"/>
            <a:ext cx="274680" cy="1523880"/>
          </a:xfrm>
          <a:prstGeom prst="rect">
            <a:avLst/>
          </a:prstGeom>
          <a:ln w="0">
            <a:noFill/>
          </a:ln>
        </p:spPr>
      </p:pic>
      <p:pic>
        <p:nvPicPr>
          <p:cNvPr id="588" name="WordArt 6" descr=""/>
          <p:cNvPicPr/>
          <p:nvPr/>
        </p:nvPicPr>
        <p:blipFill>
          <a:blip r:embed="rId2"/>
          <a:stretch/>
        </p:blipFill>
        <p:spPr>
          <a:xfrm>
            <a:off x="49320" y="2743200"/>
            <a:ext cx="274680" cy="1523880"/>
          </a:xfrm>
          <a:prstGeom prst="rect">
            <a:avLst/>
          </a:prstGeom>
          <a:ln w="0">
            <a:noFill/>
          </a:ln>
        </p:spPr>
      </p:pic>
      <p:pic>
        <p:nvPicPr>
          <p:cNvPr id="589" name="WordArt 7" descr=""/>
          <p:cNvPicPr/>
          <p:nvPr/>
        </p:nvPicPr>
        <p:blipFill>
          <a:blip r:embed="rId3"/>
          <a:stretch/>
        </p:blipFill>
        <p:spPr>
          <a:xfrm>
            <a:off x="42840" y="4780080"/>
            <a:ext cx="268200" cy="1528560"/>
          </a:xfrm>
          <a:prstGeom prst="rect">
            <a:avLst/>
          </a:prstGeom>
          <a:ln w="0">
            <a:noFill/>
          </a:ln>
        </p:spPr>
      </p:pic>
      <p:pic>
        <p:nvPicPr>
          <p:cNvPr id="590" name="WordArt 8" descr=""/>
          <p:cNvPicPr/>
          <p:nvPr/>
        </p:nvPicPr>
        <p:blipFill>
          <a:blip r:embed="rId4"/>
          <a:stretch/>
        </p:blipFill>
        <p:spPr>
          <a:xfrm>
            <a:off x="1962000" y="1859040"/>
            <a:ext cx="1414440" cy="36036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696760" y="2701440"/>
            <a:ext cx="7069320" cy="246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bd292"/>
                </a:solidFill>
                <a:latin typeface="Calibri Light"/>
                <a:ea typeface="黑体"/>
              </a:rPr>
              <a:t>以简洁的表现形式来满足人们对环境的那种感性、本能的和理性的需求，这是当今国际社会流行的设计风格</a:t>
            </a:r>
            <a:r>
              <a:rPr b="1" lang="zh-CN" sz="2400" spc="-1" strike="noStrike">
                <a:solidFill>
                  <a:srgbClr val="fbd292"/>
                </a:solidFill>
                <a:latin typeface="Calibri Light"/>
                <a:ea typeface="黑体"/>
              </a:rPr>
              <a:t>----</a:t>
            </a:r>
            <a:r>
              <a:rPr b="1" lang="zh-CN" sz="2400" spc="-1" strike="noStrike">
                <a:solidFill>
                  <a:srgbClr val="fbd292"/>
                </a:solidFill>
                <a:latin typeface="Calibri Light"/>
                <a:ea typeface="黑体"/>
              </a:rPr>
              <a:t>简洁明快的简约风格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WordArt 2"/>
          <p:cNvSpPr txBox="1"/>
          <p:nvPr/>
        </p:nvSpPr>
        <p:spPr>
          <a:xfrm>
            <a:off x="4243320" y="2536920"/>
            <a:ext cx="332748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solidFill>
                  <a:srgbClr val="fbd292"/>
                </a:solidFill>
                <a:latin typeface="黑体"/>
              </a:rPr>
              <a:t>谢 谢！</a:t>
            </a:r>
            <a:endParaRPr b="1" lang="en-US" sz="7200" spc="1" strike="noStrike">
              <a:ln w="0">
                <a:noFill/>
              </a:ln>
              <a:solidFill>
                <a:srgbClr val="fbd292"/>
              </a:solidFill>
              <a:latin typeface="黑体"/>
              <a:ea typeface="黑体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-9360" y="3543480"/>
            <a:ext cx="1465200" cy="71280"/>
          </a:xfrm>
          <a:prstGeom prst="rect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AutoShape 4"/>
          <p:cNvSpPr/>
          <p:nvPr/>
        </p:nvSpPr>
        <p:spPr>
          <a:xfrm rot="17931600">
            <a:off x="9860400" y="3468960"/>
            <a:ext cx="22860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AutoShape 5"/>
          <p:cNvSpPr/>
          <p:nvPr/>
        </p:nvSpPr>
        <p:spPr>
          <a:xfrm rot="15238200">
            <a:off x="9934920" y="3464280"/>
            <a:ext cx="228600" cy="712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AutoShape 6"/>
          <p:cNvSpPr/>
          <p:nvPr/>
        </p:nvSpPr>
        <p:spPr>
          <a:xfrm flipH="1" rot="16951200">
            <a:off x="9680400" y="3092400"/>
            <a:ext cx="1017720" cy="712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AutoShape 7"/>
          <p:cNvSpPr/>
          <p:nvPr/>
        </p:nvSpPr>
        <p:spPr>
          <a:xfrm flipH="1" rot="15908400">
            <a:off x="9839160" y="3106440"/>
            <a:ext cx="1017360" cy="712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AutoShape 8"/>
          <p:cNvSpPr/>
          <p:nvPr/>
        </p:nvSpPr>
        <p:spPr>
          <a:xfrm rot="17700000">
            <a:off x="10335240" y="3508560"/>
            <a:ext cx="228600" cy="712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AutoShape 9"/>
          <p:cNvSpPr/>
          <p:nvPr/>
        </p:nvSpPr>
        <p:spPr>
          <a:xfrm flipH="1" rot="15238800">
            <a:off x="10195200" y="3777120"/>
            <a:ext cx="78408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AutoShape 10"/>
          <p:cNvSpPr/>
          <p:nvPr/>
        </p:nvSpPr>
        <p:spPr>
          <a:xfrm flipH="1" rot="16951200">
            <a:off x="10286280" y="3652560"/>
            <a:ext cx="1017360" cy="7200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AutoShape 11"/>
          <p:cNvSpPr/>
          <p:nvPr/>
        </p:nvSpPr>
        <p:spPr>
          <a:xfrm flipH="1" rot="14958600">
            <a:off x="10717560" y="3395520"/>
            <a:ext cx="53496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AutoShape 12"/>
          <p:cNvSpPr/>
          <p:nvPr/>
        </p:nvSpPr>
        <p:spPr>
          <a:xfrm rot="17212200">
            <a:off x="11013840" y="3563640"/>
            <a:ext cx="19224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AutoShape 13"/>
          <p:cNvSpPr/>
          <p:nvPr/>
        </p:nvSpPr>
        <p:spPr>
          <a:xfrm>
            <a:off x="11122200" y="3505320"/>
            <a:ext cx="1077840" cy="71280"/>
          </a:xfrm>
          <a:prstGeom prst="roundRect">
            <a:avLst>
              <a:gd name="adj" fmla="val 50000"/>
            </a:avLst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AutoShape 14"/>
          <p:cNvSpPr/>
          <p:nvPr/>
        </p:nvSpPr>
        <p:spPr>
          <a:xfrm>
            <a:off x="2800440" y="3532320"/>
            <a:ext cx="7127640" cy="83880"/>
          </a:xfrm>
          <a:prstGeom prst="roundRect">
            <a:avLst>
              <a:gd name="adj" fmla="val 16667"/>
            </a:avLst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Picture 15" descr="图片1"/>
          <p:cNvPicPr/>
          <p:nvPr/>
        </p:nvPicPr>
        <p:blipFill>
          <a:blip r:embed="rId1"/>
          <a:srcRect l="0" t="0" r="0" b="18434"/>
          <a:stretch/>
        </p:blipFill>
        <p:spPr>
          <a:xfrm>
            <a:off x="1103400" y="1903320"/>
            <a:ext cx="20430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607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04T02:35:02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