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6FB-694F-45FE-A60C-9F4B26B5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D07-3626-4035-86BB-91EEFA96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602-2F74-491C-87C8-A821E890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0A4-BF75-4BD0-B55E-6057E9A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812C-B0BB-4340-8F22-5AFD4BE4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694F-69E7-4841-B044-C6A16E3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E5F-FEF5-4562-8A25-7839B1F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8D1-9E72-4074-8F3D-40838EE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A228-C177-4152-8505-BACF1B9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836-2DA9-480E-96C3-F1DCA69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9CD-33BE-4D6B-84C5-EB2C469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190-0AC0-4351-9010-25B2E43A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E6F9-C8E0-41F7-B397-63BD68F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641F-CB83-4E35-8AAA-B50D7C4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6F0-C776-4DA1-B6E4-B600CAF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D570-C5E5-4E4B-9C51-E76D9435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59A5-3B2F-4E3F-9AF9-BC731F80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6BD2-2288-42B2-A5BD-23088C35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C282-D4BC-4EEE-8580-109F097E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5C32-DE7D-4CDF-BBBA-549F976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CC22-92A8-4992-A362-FDD0FF7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6CE2-660E-42A3-A915-2A1819D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402-A456-4151-BF5B-869BED5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40D3-3442-42AA-A2FB-4AA18D9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3953-AB0F-4693-B05A-A6ECAE9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84F0-2F41-492F-A464-0B734A4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214A-702A-4DD2-AE15-26B5071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F17D-1BBA-478D-B9F5-7F1906F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D1B0-29A0-4AA7-9C90-58391D85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D619-4DD1-4B0C-90D3-581EBD52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F05-812F-41F0-8EE8-F305F4A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522-AAF1-4D5C-A4A7-D9CE202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C68-F613-4A98-98ED-39EA39B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41E-AF47-47F6-9262-C72B18E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E67-F6BA-4377-BE4E-8AB3B1A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B14-3AB5-4619-82FC-463101B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B1AC-1036-4938-A530-6447EEE50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086-DDAE-4C22-A621-DD49328AAC0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3237-87CD-4F38-BF06-3292DED214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DFB-6D62-499D-B4CC-5A51646E5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hh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66800"/>
            <a:ext cx="64008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hhhh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92120" y="0"/>
            <a:ext cx="7554960" cy="6119280"/>
            <a:chOff x="492120" y="0"/>
            <a:chExt cx="7554960" cy="6119280"/>
          </a:xfrm>
        </p:grpSpPr>
        <p:sp>
          <p:nvSpPr>
            <p:cNvPr id="134" name="矩形 4"/>
            <p:cNvSpPr/>
            <p:nvPr/>
          </p:nvSpPr>
          <p:spPr>
            <a:xfrm>
              <a:off x="110052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29640"/>
              <a:ext cx="755496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2192040" y="3179160"/>
              <a:ext cx="416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6:04:41Z</dcterms:created>
  <dc:creator>Administrator</dc:creator>
  <dc:description/>
  <cp:keywords/>
  <dc:language>en-US</dc:language>
  <cp:lastModifiedBy>a</cp:lastModifiedBy>
  <dcterms:modified xsi:type="dcterms:W3CDTF">2014-05-31T02:13:45Z</dcterms:modified>
  <cp:revision>1</cp:revision>
  <dc:subject/>
  <dc:title>hhh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