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7A1-2F27-460E-875E-5DC42EAF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3A0-16DC-4C86-A8CC-8891997A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361-FB7F-4A8B-A353-442DA597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6C9-3C7D-483B-AE69-085C915D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6986-A0AB-43D9-9EB6-DC4A221F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E28-D1A0-4F87-87D6-AA8FB8D7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0A6E-7EC6-40E2-9F67-E37097E6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682F-AF80-4ABF-9636-98BDC40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6FFF-4190-49CE-8896-82D20E61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629B-37B4-418D-A383-760C2693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6172-6A7D-4B43-A765-6E87526C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BA9-BD92-4EF6-A10F-609B732F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13D-1F2F-4A2A-8904-2AA3339D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52ED-FBC4-4015-AAFB-C544C7C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6E0C-A6D1-47E2-A2D7-E1B1167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BB9A-2DC0-483B-BE0F-E8DD4CD1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6FB5-1FE2-4B6F-891C-F3156D1E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4D0-6211-49ED-8396-FF602E83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DB7-A739-4D0E-9A98-E68BF3F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670-E00E-4D3E-BC14-873DA72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22D-DE8C-4009-865B-D5B2F4F4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994-7C81-45C3-A1D3-AA94E9E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F4C-E1F3-46E6-9F25-DA5BC904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3F1-8C47-4F1E-B7F5-EBB9299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2C2C-C2B0-4F28-818E-B5D94CFA1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BA8E-2366-4D30-9249-41B3FA2DF6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0D0C-4D49-4D7D-AC32-5CC7A4982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1字体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 rot="20940000">
            <a:off x="319680" y="74088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Wr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 rot="660000">
            <a:off x="4252680" y="620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  <a:ea typeface="黑体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 rot="21420000">
            <a:off x="6135120" y="5493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spread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w_06"/>
          <p:cNvPicPr/>
          <p:nvPr/>
        </p:nvPicPr>
        <p:blipFill>
          <a:blip r:embed="rId2"/>
          <a:stretch/>
        </p:blipFill>
        <p:spPr>
          <a:xfrm rot="2100000">
            <a:off x="694800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1508040" y="2924280"/>
            <a:ext cx="341136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最适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中文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创作的先进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文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工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强大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图文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排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丰富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在线资源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让您的文档制作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专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轻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044720" y="836640"/>
            <a:ext cx="587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让办公更轻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款开放、高效、安全，与微软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度兼容并极具中文本地化优势的办公软件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版包含三大组件：文字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演示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esent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、表格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readshee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从功能上与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一对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巧体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下载安装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\Linux\Ma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平台支持，全面兼容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Offi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档格式，并提供营养丰富的海量文档资源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您带来轻松愉悦的办公体验，每天已有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在使用它，你还不快试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COMTON</dc:creator>
  <dc:description/>
  <cp:keywords/>
  <dc:language>en-US</dc:language>
  <cp:lastModifiedBy>a</cp:lastModifiedBy>
  <dcterms:modified xsi:type="dcterms:W3CDTF">2014-07-27T02:29:3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