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B89-88BD-4662-9FC1-B5199761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C0F6-91A9-4F7D-9F9B-4BF93F3C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B5ED-EA55-4AE2-8691-99AA8CD5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C48-7299-49F4-AB7B-03139CAF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DC54-D3DD-4D38-858D-995059BF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06B7-1A89-435F-AC4C-5E7F4EED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93FB-CC13-4AA2-96A3-1E2DF22D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67FC-1EC7-4CFB-A234-DE47AD77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D199-EAFA-457C-AA6C-83ADA08D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32FA-B121-4EF1-8008-7F11741A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E028-2878-4D83-A6CE-D90A3CD1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6F6-8673-49E4-8357-9AB62D95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1CA7-F9EF-4CEA-8B26-984D8E6E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6DBE-9C3C-4076-91C8-12241DAC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97CA-1385-45D4-95BA-A9A04B0C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46B1-7FA0-40C2-83D7-5482B38A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2483-8687-4D5E-AC5C-5A40C7A9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5439-1BC4-4334-B28A-2509D3C0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2C4-474D-4147-87CC-F24C7A50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603-9FB2-4503-8339-BEEFC87B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296-EF3E-429E-8B2A-99771969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FA37-2749-4280-A15A-D4C07908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11F2-DA66-42E9-869B-B20F467F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CF20-F612-474D-9B5F-828DB121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6445080" y="6597720"/>
            <a:ext cx="2521080" cy="142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A218-5C6D-48BB-8387-44395479B18F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CB0C-CC7E-49DE-A1A9-5044C41D626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A7B5-41CA-4158-AFED-164C7E8BBD5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宋体"/>
              </a:rPr>
              <a:t>金钱世界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6510240"/>
            <a:ext cx="9140760" cy="3319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s-E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a</cp:lastModifiedBy>
  <dcterms:modified xsi:type="dcterms:W3CDTF">2015-01-15T03:03:09Z</dcterms:modified>
  <cp:revision>37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