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3794F-E717-49C9-96C7-99611E924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2787C-C58A-4DDC-8A12-975A9C672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C67C-EDC5-47FA-92A0-CA7BFAF7B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742E7-A9AE-43C5-AEBA-59D7FD38F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C3F5A-21D4-4806-B386-AB089D3FC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7DA24-6BBF-41FA-96BA-EF8A73BC0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00ED8-2112-47C9-92FA-F1CAECBAB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A7E6-95CA-435B-ACEA-1EE5CE07E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DFA8-429E-4791-A213-D32C4F7D8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1C45C-111D-43E6-BB26-FFDCC6940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6BAB3-EFE6-4DC6-B9C5-9D0FC76D7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F5B94-F7F3-4FDE-970F-794A77F6C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gsd gdfg zk thzegz"/>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66ff"/>
                </a:solidFill>
                <a:latin typeface="Arial"/>
                <a:ea typeface="宋体"/>
              </a:rPr>
              <a:t>Page </a:t>
            </a:r>
            <a:fld id="{A69066A9-352D-4C22-A81D-BD04234BCC33}" type="slidenum">
              <a:rPr b="1" lang="fr-FR" sz="1800" spc="-1" strike="noStrike">
                <a:solidFill>
                  <a:srgbClr val="6666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38DF-4C13-4B51-8DC4-EDA1F9265E75}"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F760-4ED8-4D25-A011-910671B4FA3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gfdg fdgfd gdfjoi ziitzeitz"/>
          <p:cNvPicPr/>
          <p:nvPr/>
        </p:nvPicPr>
        <p:blipFill>
          <a:blip r:embed="rId1"/>
          <a:stretch/>
        </p:blipFill>
        <p:spPr>
          <a:xfrm>
            <a:off x="0" y="0"/>
            <a:ext cx="9144000" cy="6858000"/>
          </a:xfrm>
          <a:prstGeom prst="rect">
            <a:avLst/>
          </a:prstGeom>
          <a:ln w="0">
            <a:noFill/>
          </a:ln>
        </p:spPr>
      </p:pic>
      <p:sp>
        <p:nvSpPr>
          <p:cNvPr id="80" name="Text Box 3"/>
          <p:cNvSpPr/>
          <p:nvPr/>
        </p:nvSpPr>
        <p:spPr>
          <a:xfrm>
            <a:off x="468360" y="3402000"/>
            <a:ext cx="734544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6666ff"/>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92760" y="260280"/>
            <a:ext cx="21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66ff"/>
                </a:solidFill>
                <a:latin typeface="Verdana"/>
                <a:ea typeface="宋体"/>
              </a:rPr>
              <a:t>First Page</a:t>
            </a:r>
            <a:endParaRPr b="0" lang="en-US" sz="3200" spc="-1" strike="noStrike">
              <a:solidFill>
                <a:srgbClr val="000000"/>
              </a:solidFill>
              <a:latin typeface="Arial"/>
            </a:endParaRPr>
          </a:p>
        </p:txBody>
      </p:sp>
      <p:sp>
        <p:nvSpPr>
          <p:cNvPr id="82" name="Text Box 3"/>
          <p:cNvSpPr/>
          <p:nvPr/>
        </p:nvSpPr>
        <p:spPr>
          <a:xfrm>
            <a:off x="468360" y="1052640"/>
            <a:ext cx="6264360" cy="3744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66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32720" y="260280"/>
            <a:ext cx="273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66ff"/>
                </a:solidFill>
                <a:latin typeface="Verdana"/>
                <a:ea typeface="宋体"/>
              </a:rPr>
              <a:t>Second Page</a:t>
            </a:r>
            <a:endParaRPr b="0" lang="en-US" sz="3200" spc="-1" strike="noStrike">
              <a:solidFill>
                <a:srgbClr val="000000"/>
              </a:solidFill>
              <a:latin typeface="Arial"/>
            </a:endParaRPr>
          </a:p>
        </p:txBody>
      </p:sp>
      <p:sp>
        <p:nvSpPr>
          <p:cNvPr id="84" name="Text Box 3"/>
          <p:cNvSpPr/>
          <p:nvPr/>
        </p:nvSpPr>
        <p:spPr>
          <a:xfrm>
            <a:off x="468360" y="1052640"/>
            <a:ext cx="6264360" cy="3744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66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5T01:41:20Z</dcterms:modified>
  <cp:revision>2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