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F48A2-291C-4201-874C-AF09070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B22F6-EB4A-45BB-9E8F-C945DF79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E0112-1A4C-40CA-93FC-C98C4D65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2AF6A-5858-4CB5-BD22-BE0C876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102F-E8B6-46AD-B9CF-002D229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D5D45-A6AA-49BE-BF37-7C57394D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73DCB-56B1-45E8-9824-0EFF05C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BEA20-063D-412B-9485-F5D2632D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C8836-0812-420F-9A8B-51A38AA4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5B82C-D6BF-47CA-AB33-9CA9BC70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215DB-CA47-4350-971F-2A0871EF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55539-4E9C-439B-9A68-7959C536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-31680" y="6599160"/>
            <a:ext cx="73026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7"/>
          <p:cNvSpPr/>
          <p:nvPr/>
        </p:nvSpPr>
        <p:spPr>
          <a:xfrm flipV="1">
            <a:off x="7367760" y="616572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9"/>
          <p:cNvSpPr/>
          <p:nvPr/>
        </p:nvSpPr>
        <p:spPr>
          <a:xfrm flipV="1">
            <a:off x="7451640" y="630828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"/>
          <p:cNvSpPr/>
          <p:nvPr/>
        </p:nvSpPr>
        <p:spPr>
          <a:xfrm flipV="1">
            <a:off x="611280" y="-22320"/>
            <a:ext cx="0" cy="42696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1"/>
          <p:cNvSpPr/>
          <p:nvPr/>
        </p:nvSpPr>
        <p:spPr>
          <a:xfrm>
            <a:off x="768240" y="0"/>
            <a:ext cx="0" cy="28728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3E4-4365-49A1-8E30-B8BB397E38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7CEF-1B9C-4A67-AF6D-ACB20C46AF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558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约白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4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"/>
          <p:cNvSpPr/>
          <p:nvPr/>
        </p:nvSpPr>
        <p:spPr>
          <a:xfrm flipV="1">
            <a:off x="4572000" y="2378160"/>
            <a:ext cx="0" cy="433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7"/>
          <p:cNvSpPr/>
          <p:nvPr/>
        </p:nvSpPr>
        <p:spPr>
          <a:xfrm flipV="1">
            <a:off x="4656240" y="252216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51280" y="178092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恋物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Arial"/>
                <a:ea typeface="微软雅黑"/>
              </a:rPr>
              <a:t>• 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简综艺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3851280" y="2901960"/>
            <a:ext cx="51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一本关注中国年轻女性感受和创意生活的时尚杂志，内容涵盖时装、配饰、插画、摄影、艺术、创意生活方式。杂志风格通过细腻的女性视角关注潮流，搜集和介绍有趣的时尚内容和人物；杂志关注世界各地女性时尚创意生活，网罗世界各国女性插画师，造型师，设计师作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hotocdn.sohu.com/20070613/Img250544030.jpg"/>
          <p:cNvPicPr/>
          <p:nvPr/>
        </p:nvPicPr>
        <p:blipFill>
          <a:blip r:embed="rId1"/>
          <a:stretch/>
        </p:blipFill>
        <p:spPr>
          <a:xfrm>
            <a:off x="431640" y="1484280"/>
            <a:ext cx="3029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8080"/>
            <a:ext cx="351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5300640" y="1482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产品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7"/>
          <p:cNvSpPr/>
          <p:nvPr/>
        </p:nvSpPr>
        <p:spPr>
          <a:xfrm>
            <a:off x="4987800" y="1590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5300640" y="263520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4987800" y="274320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5292720" y="371484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销售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21"/>
          <p:cNvSpPr/>
          <p:nvPr/>
        </p:nvSpPr>
        <p:spPr>
          <a:xfrm>
            <a:off x="4979880" y="382284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5292720" y="4795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售后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23"/>
          <p:cNvSpPr/>
          <p:nvPr/>
        </p:nvSpPr>
        <p:spPr>
          <a:xfrm>
            <a:off x="4979880" y="4903920"/>
            <a:ext cx="62568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a2.att.hudong.com/34/71/01300000025823121694718113732.gif"/>
          <p:cNvPicPr/>
          <p:nvPr/>
        </p:nvPicPr>
        <p:blipFill>
          <a:blip r:embed="rId1"/>
          <a:stretch/>
        </p:blipFill>
        <p:spPr>
          <a:xfrm>
            <a:off x="900000" y="2324160"/>
            <a:ext cx="2857680" cy="3371760"/>
          </a:xfrm>
          <a:prstGeom prst="rect">
            <a:avLst/>
          </a:prstGeom>
          <a:ln w="0">
            <a:noFill/>
          </a:ln>
        </p:spPr>
      </p:pic>
      <p:sp>
        <p:nvSpPr>
          <p:cNvPr id="103" name="矩形 24"/>
          <p:cNvSpPr/>
          <p:nvPr/>
        </p:nvSpPr>
        <p:spPr>
          <a:xfrm>
            <a:off x="1842120" y="47772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圆角矩形 4"/>
          <p:cNvSpPr/>
          <p:nvPr/>
        </p:nvSpPr>
        <p:spPr>
          <a:xfrm>
            <a:off x="468360" y="2217600"/>
            <a:ext cx="8280360" cy="2651400"/>
          </a:xfrm>
          <a:prstGeom prst="roundRect">
            <a:avLst>
              <a:gd name="adj" fmla="val 2954"/>
            </a:avLst>
          </a:prstGeom>
          <a:solidFill>
            <a:srgbClr val="ffffff"/>
          </a:solidFill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84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3419640" y="2357280"/>
            <a:ext cx="230472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56360" y="2357280"/>
            <a:ext cx="23032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700200" y="3086280"/>
            <a:ext cx="23050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345600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6156360" y="3086280"/>
            <a:ext cx="2303280" cy="1579320"/>
          </a:xfrm>
          <a:prstGeom prst="roundRect">
            <a:avLst>
              <a:gd name="adj" fmla="val 3028"/>
            </a:avLst>
          </a:prstGeom>
          <a:solidFill>
            <a:srgbClr val="f2f2f2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录入详细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2"/>
          <p:cNvSpPr/>
          <p:nvPr/>
        </p:nvSpPr>
        <p:spPr>
          <a:xfrm>
            <a:off x="3203640" y="2217600"/>
            <a:ext cx="2736720" cy="2651400"/>
          </a:xfrm>
          <a:prstGeom prst="roundRect">
            <a:avLst>
              <a:gd name="adj" fmla="val 2954"/>
            </a:avLst>
          </a:prstGeom>
          <a:noFill/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50000"/>
              </a:lnSpc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731400" y="306864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948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此录入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表 2" descr=""/>
          <p:cNvPicPr/>
          <p:nvPr/>
        </p:nvPicPr>
        <p:blipFill>
          <a:blip r:embed="rId2"/>
          <a:stretch/>
        </p:blipFill>
        <p:spPr>
          <a:xfrm>
            <a:off x="522360" y="1252440"/>
            <a:ext cx="1944720" cy="1889280"/>
          </a:xfrm>
          <a:prstGeom prst="rect">
            <a:avLst/>
          </a:prstGeom>
          <a:ln w="0">
            <a:noFill/>
          </a:ln>
        </p:spPr>
      </p:pic>
      <p:pic>
        <p:nvPicPr>
          <p:cNvPr id="116" name="图表 3" descr=""/>
          <p:cNvPicPr/>
          <p:nvPr/>
        </p:nvPicPr>
        <p:blipFill>
          <a:blip r:embed="rId3"/>
          <a:stretch/>
        </p:blipFill>
        <p:spPr>
          <a:xfrm>
            <a:off x="2579760" y="1197000"/>
            <a:ext cx="6095880" cy="3887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858240" y="31417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消费额分布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表 16" descr=""/>
          <p:cNvPicPr/>
          <p:nvPr/>
        </p:nvPicPr>
        <p:blipFill>
          <a:blip r:embed="rId4"/>
          <a:stretch/>
        </p:blipFill>
        <p:spPr>
          <a:xfrm>
            <a:off x="528480" y="3645000"/>
            <a:ext cx="1943280" cy="14302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7"/>
          <p:cNvSpPr/>
          <p:nvPr/>
        </p:nvSpPr>
        <p:spPr>
          <a:xfrm>
            <a:off x="528480" y="539892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此录入上述图表的综合分析说明，在此录入上述图表的综合分析说明，在此录入上述图表的综合分析说明，在此录入上述图表的综合分析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接连接符 3"/>
          <p:cNvSpPr/>
          <p:nvPr/>
        </p:nvSpPr>
        <p:spPr>
          <a:xfrm>
            <a:off x="0" y="2813040"/>
            <a:ext cx="457200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4"/>
          <p:cNvSpPr/>
          <p:nvPr/>
        </p:nvSpPr>
        <p:spPr>
          <a:xfrm flipV="1">
            <a:off x="4632480" y="2349360"/>
            <a:ext cx="0" cy="4320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4894560" y="244332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EAD PP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6"/>
          <p:cNvSpPr/>
          <p:nvPr/>
        </p:nvSpPr>
        <p:spPr>
          <a:xfrm flipV="1">
            <a:off x="4716360" y="2491920"/>
            <a:ext cx="0" cy="2890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55:45Z</dcterms:created>
  <dc:creator>Sophie</dc:creator>
  <dc:description/>
  <dc:language>en-US</dc:language>
  <cp:lastModifiedBy>a</cp:lastModifiedBy>
  <dcterms:modified xsi:type="dcterms:W3CDTF">2015-01-15T04:38:21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