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A47B-DDC5-47FE-8933-9795F431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1064-C983-4FD4-B338-B469A9C2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B917-D31F-457C-B7AF-C0332E06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34AA-4A52-4123-A585-657ECF82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0420-A959-45EC-8DA5-D1C139DD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9650-09F1-4E1A-B0D4-C19A9840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86E1-78AE-40F3-A801-2578BD48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0507-1487-42D0-BB92-CBBF4696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4779-5400-46C8-8987-31038A98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828C-68B4-4209-8202-D6D30C3A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4BE5-FACF-4059-BDF4-404EAE83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4302-D7D8-4BB4-845A-AA8DB8A7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06B0-586D-4696-B936-814DA91E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CFCE-DA7E-409A-B101-A292C959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F168-2103-453A-8E8A-CFCF6611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8127-05FE-4EE9-9C34-9DB04663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0462-6109-48B3-9130-3F220A39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F5DC-314A-4977-8240-27BCFB6F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D809-354B-4C09-BCF3-2565B29F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B73-06E5-424F-8B52-007640C1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75C-4C82-470D-8B55-A3A3EEE4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EAF5-2629-4F8A-BC7A-AAB952F9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BCD7-A88A-4AA0-9E4B-6E22A345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8D6-3353-4D00-9C20-EE85964D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8461440" y="6372360"/>
            <a:ext cx="673200" cy="476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0ED5-56DE-4B79-B6D5-8EC0537E9113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1C43-CAD1-43D3-A286-5C2E2FDE1B5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EC08-A245-4113-A403-6D0F0B9F1FF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22560" y="2707920"/>
            <a:ext cx="4105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3600"/>
            </a:b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898560" y="4438800"/>
            <a:ext cx="3457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head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cp:keywords/>
  <dc:language>en-US</dc:language>
  <cp:lastModifiedBy>a</cp:lastModifiedBy>
  <dcterms:modified xsi:type="dcterms:W3CDTF">2014-05-30T04:50:02Z</dcterms:modified>
  <cp:revision>84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