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0C0-284F-427A-B25C-F7A529E1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523-CEE0-4687-B0D7-BB12EE7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22F-0EC4-458D-826C-48FF468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765-F7A7-4BAA-A4AB-CB93AB5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BA5-5221-479C-A8E9-5038CA1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6A2-EDFB-4F51-B867-84A12CE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216-178A-41FC-9B9B-77AFCD8B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184-7BD5-4D57-B466-1F855E5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104-62CF-4F70-9CDB-CA6B196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B08-9621-45D4-85FC-07EB890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DB2-2412-481C-B462-A11E5C7B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1FE-995C-4871-B445-84833FF9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AC4D-DF1A-4AE5-9546-14AAD1C352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BEF-9F55-4D06-8CA6-B6494A8A7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808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37:23Z</dcterms:created>
  <dc:creator>wostou</dc:creator>
  <dc:description/>
  <cp:keywords/>
  <dc:language>en-US</dc:language>
  <cp:lastModifiedBy>a</cp:lastModifiedBy>
  <dcterms:modified xsi:type="dcterms:W3CDTF">2014-07-20T06:32:03Z</dcterms:modified>
  <cp:revision>9</cp:revision>
  <dc:subject/>
  <dc:title>主题班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