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5400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B240-69DD-4D02-9CC8-539CA76B5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2120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4672-6CE7-407A-878B-436F34C19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9061-F3DC-4CBF-B1A9-60375531E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0349-AA90-4DAC-898D-01992F9B7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C0F8F-0976-4AB7-9027-BF9CB183B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6B3FF-7D22-484F-AE50-CFE3E5491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D3271-F9DF-4E9C-8F4E-BDE64F2EF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F9C15-76B9-452F-9749-21A9C9F3C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01079-DD0A-40C5-8367-A51047A1B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1600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F130D-6B69-49BA-A59F-4106F0ED0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3C2FA-9B22-403A-9DCE-9CA43CA32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C756-F440-4DD4-8DCB-671C79B49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9CE9D-B7F0-4B1D-B4AF-79BC24052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5DBA0-F22D-419B-B873-58CDCA168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2120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DC3FD-ADA4-4116-A60A-3C8DEC01E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3646E-D292-4377-9AFA-2FFBC7625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9AC1D-7D83-4332-8298-4FACC5991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CF16F-6175-4D1E-A79A-7E93081EE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D9107-AB81-4B45-BAAB-FCB15D4FF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8D162-1F80-4A0A-9983-EDE049ED3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CAD7C-0874-4E35-8A7C-A0458F24F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0D1BF-34A2-4426-87C1-F383F2DBC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CBD3-5624-4D93-8B27-6A79CBFB5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1600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DA3B4-BB9B-47A7-8D73-4A5DF1A8B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8A645-811E-46BA-AC75-02AB1B83F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25D16-80E4-485E-801F-F1425328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2B2DA-15D2-4393-AA76-CAE6854A0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12120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6711E-6CD3-4D9D-8B4F-A7CA62DBA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1068F-7094-4358-8160-944259505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B1D2F-790E-4984-B5B3-8C2593446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51A1-70E5-4AC6-B968-6E4185B95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8355-C8B1-4184-94D0-A5F50157E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1600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D939-47E8-4CB9-BE17-0D417B99E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95BD-F34C-45FA-B5C7-09008EA45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880B-93B2-4073-85A0-913EC9487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0D6E-8A06-4E38-9E7B-35FA37B87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916160"/>
            <a:ext cx="21337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916160"/>
            <a:ext cx="28958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916160"/>
            <a:ext cx="21337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202A8-7FBD-4880-92B8-2B1D9B02360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-2700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584280" indent="-2239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898560" indent="-1792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258920" indent="-17928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7928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7928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7928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916160"/>
            <a:ext cx="213372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A55C1-E3AF-4BDF-BBDE-BD63F8D3A384}" type="datetime"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916160"/>
            <a:ext cx="289584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916160"/>
            <a:ext cx="213372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958B2-E1A7-49C9-8BFC-6EB6F5B7A748}" type="slidenum"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4916160"/>
            <a:ext cx="21337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4916160"/>
            <a:ext cx="28958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4916160"/>
            <a:ext cx="21337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FBC31-9A2C-4D9F-8054-0AFD015A697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059280"/>
            <a:ext cx="6400800" cy="13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5003640"/>
            <a:ext cx="4824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9999"/>
                </a:solidFill>
                <a:latin typeface="楷体"/>
                <a:ea typeface="楷体"/>
              </a:rPr>
              <a:t>更多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楷体"/>
                <a:ea typeface="楷体"/>
                <a:hlinkClick r:id="rId2"/>
              </a:rPr>
              <a:t>免费PPT模板</a:t>
            </a:r>
            <a:r>
              <a:rPr b="1" lang="zh-CN" sz="1400" spc="-1" strike="noStrike">
                <a:solidFill>
                  <a:srgbClr val="009999"/>
                </a:solidFill>
                <a:latin typeface="楷体"/>
                <a:ea typeface="楷体"/>
              </a:rPr>
              <a:t>尽在</a:t>
            </a:r>
            <a:r>
              <a:rPr b="1" lang="zh-CN" sz="1400" spc="-1" strike="noStrike">
                <a:solidFill>
                  <a:srgbClr val="009999"/>
                </a:solidFill>
                <a:latin typeface="Arial"/>
              </a:rPr>
              <a:t>：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2"/>
          <p:cNvGrpSpPr/>
          <p:nvPr/>
        </p:nvGrpSpPr>
        <p:grpSpPr>
          <a:xfrm>
            <a:off x="973080" y="0"/>
            <a:ext cx="6664320" cy="5398920"/>
            <a:chOff x="973080" y="0"/>
            <a:chExt cx="6664320" cy="5398920"/>
          </a:xfrm>
        </p:grpSpPr>
        <p:sp>
          <p:nvSpPr>
            <p:cNvPr id="129" name="矩形 4"/>
            <p:cNvSpPr/>
            <p:nvPr/>
          </p:nvSpPr>
          <p:spPr>
            <a:xfrm>
              <a:off x="1504800" y="0"/>
              <a:ext cx="5261040" cy="56628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3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3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973080" y="1349640"/>
              <a:ext cx="6664320" cy="404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Box 7"/>
            <p:cNvSpPr/>
            <p:nvPr/>
          </p:nvSpPr>
          <p:spPr>
            <a:xfrm rot="20926800">
              <a:off x="2483280" y="2798280"/>
              <a:ext cx="3673800" cy="95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4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25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5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25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25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25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0T06:03:18Z</dcterms:created>
  <dc:creator>Administrator</dc:creator>
  <dc:description/>
  <dc:language>en-US</dc:language>
  <cp:lastModifiedBy>a</cp:lastModifiedBy>
  <dcterms:modified xsi:type="dcterms:W3CDTF">2015-01-15T02:41:48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