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5663-278E-4B41-A3B6-2D2AB3A0AA6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490A-746A-4AE3-8D40-FABEFAA7867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-148164480" y="0"/>
            <a:ext cx="296403480" cy="166728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8840" y="-360"/>
            <a:ext cx="360" cy="1949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大众法被废止？不是被修改了吗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3F7E-AE85-46EB-A5DA-D7CA0B2325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123F-E9FF-4050-99AC-94DDA814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C8F1-963C-4818-8EB0-4EC25BE1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E237-9EA1-46DF-B556-6ED5B03431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4D7BA-54F3-4F18-895D-CD9DE7DF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A5CC8-A5A6-4CFA-A3E7-378A9FF5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12250B-7311-49AE-97C8-AE15932F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11FCC-7FCD-4740-AD38-55E38DE7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2437C-EC79-4BE2-9CFB-BD5FDCBD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FB711-98EF-40A8-B1E9-2E6F684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DA7EB-14FE-4420-80A7-55F92DA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03B1-DA16-49FA-A18E-4A9749BC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A0F35-CEEC-4B94-AA0E-28E5112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2DBD9-4BD9-413E-9BF1-1D092382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CB4D4-49D9-41FF-9329-E9F54529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3A21B-7447-495C-A69F-A2372382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0DE70-D244-4811-9819-66A039B4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7814-BBBE-4E13-A916-B6A9D272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A879B-8126-46D5-9238-57DB7BD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8D1E6-20BF-4711-BD6B-BBCE28A3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7329-C0D5-4304-A3B2-CF2110D9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CE760-F235-4837-BCF3-02FD1E1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D6E9-10AB-458F-9286-021B0234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A9160-F3C9-43BF-8E81-26C7EE6D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0B00-BDF0-4BD9-B457-4D63630F56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6979-643B-40E5-847D-C91E50CD5C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6"/>
          <p:cNvSpPr/>
          <p:nvPr/>
        </p:nvSpPr>
        <p:spPr>
          <a:xfrm>
            <a:off x="2195640" y="30765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1"/>
          <p:cNvSpPr/>
          <p:nvPr/>
        </p:nvSpPr>
        <p:spPr>
          <a:xfrm>
            <a:off x="7524720" y="4587840"/>
            <a:ext cx="1619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2"/>
          <p:cNvSpPr/>
          <p:nvPr/>
        </p:nvSpPr>
        <p:spPr>
          <a:xfrm>
            <a:off x="1835280" y="12384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59EE-AE6F-4181-ACD2-08202C396C0D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E4C-6B17-4A1C-A1AD-93FBE902565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斜纹 11"/>
          <p:cNvSpPr/>
          <p:nvPr/>
        </p:nvSpPr>
        <p:spPr>
          <a:xfrm flipV="1" rot="16200000">
            <a:off x="3951720" y="-47160"/>
            <a:ext cx="1227240" cy="9153720"/>
          </a:xfrm>
          <a:custGeom>
            <a:avLst/>
            <a:gdLst>
              <a:gd name="textAreaLeft" fmla="*/ 0 w 1227240"/>
              <a:gd name="textAreaRight" fmla="*/ 1227600 w 122724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斜纹 11"/>
          <p:cNvSpPr/>
          <p:nvPr/>
        </p:nvSpPr>
        <p:spPr>
          <a:xfrm flipH="1" rot="16200000">
            <a:off x="3953160" y="-3979800"/>
            <a:ext cx="1222560" cy="9153720"/>
          </a:xfrm>
          <a:custGeom>
            <a:avLst/>
            <a:gdLst>
              <a:gd name="textAreaLeft" fmla="*/ 0 w 1222560"/>
              <a:gd name="textAreaRight" fmla="*/ 1222560 w 122256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081320" y="2768760"/>
            <a:ext cx="42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请输入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2627280" y="18637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斜纹 11"/>
          <p:cNvSpPr/>
          <p:nvPr/>
        </p:nvSpPr>
        <p:spPr>
          <a:xfrm flipH="1" rot="16200000">
            <a:off x="3951000" y="-3339000"/>
            <a:ext cx="1227240" cy="9153720"/>
          </a:xfrm>
          <a:custGeom>
            <a:avLst/>
            <a:gdLst>
              <a:gd name="textAreaLeft" fmla="*/ -360 w 1227240"/>
              <a:gd name="textAreaRight" fmla="*/ 1227240 w 122724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斜纹 11"/>
          <p:cNvSpPr/>
          <p:nvPr/>
        </p:nvSpPr>
        <p:spPr>
          <a:xfrm flipV="1" rot="16200000">
            <a:off x="3951000" y="-660960"/>
            <a:ext cx="1228680" cy="9153720"/>
          </a:xfrm>
          <a:custGeom>
            <a:avLst/>
            <a:gdLst>
              <a:gd name="textAreaLeft" fmla="*/ 0 w 1228680"/>
              <a:gd name="textAreaRight" fmla="*/ 1229040 w 122868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直接连接符 87"/>
          <p:cNvSpPr/>
          <p:nvPr/>
        </p:nvSpPr>
        <p:spPr>
          <a:xfrm>
            <a:off x="4211640" y="5578560"/>
            <a:ext cx="4613400" cy="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8"/>
          <p:cNvSpPr/>
          <p:nvPr/>
        </p:nvSpPr>
        <p:spPr>
          <a:xfrm>
            <a:off x="4211640" y="5635800"/>
            <a:ext cx="45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Calibri"/>
              </a:rPr>
              <a:t>Copyright 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Calibri"/>
              </a:rPr>
              <a:t>©  Fashion Brand. All rights re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277720" y="-91440"/>
            <a:ext cx="2252160" cy="5342760"/>
            <a:chOff x="2277720" y="-91440"/>
            <a:chExt cx="2252160" cy="5342760"/>
          </a:xfrm>
        </p:grpSpPr>
        <p:grpSp>
          <p:nvGrpSpPr>
            <p:cNvPr id="100" name="Group 5"/>
            <p:cNvGrpSpPr/>
            <p:nvPr/>
          </p:nvGrpSpPr>
          <p:grpSpPr>
            <a:xfrm>
              <a:off x="2277720" y="-91440"/>
              <a:ext cx="2252160" cy="5342760"/>
              <a:chOff x="2277720" y="-91440"/>
              <a:chExt cx="2252160" cy="5342760"/>
            </a:xfrm>
          </p:grpSpPr>
          <p:sp>
            <p:nvSpPr>
              <p:cNvPr id="101" name="圆角矩形 64"/>
              <p:cNvSpPr/>
              <p:nvPr/>
            </p:nvSpPr>
            <p:spPr>
              <a:xfrm rot="662400">
                <a:off x="2816640" y="-9360"/>
                <a:ext cx="122724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圆角矩形 65"/>
              <p:cNvSpPr/>
              <p:nvPr/>
            </p:nvSpPr>
            <p:spPr>
              <a:xfrm rot="662400">
                <a:off x="2757960" y="-21240"/>
                <a:ext cx="1227240" cy="5138640"/>
              </a:xfrm>
              <a:custGeom>
                <a:avLst/>
                <a:gdLst>
                  <a:gd name="textAreaLeft" fmla="*/ 0 w 1227240"/>
                  <a:gd name="textAreaRight" fmla="*/ 1227600 w 122724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76"/>
            <p:cNvSpPr/>
            <p:nvPr/>
          </p:nvSpPr>
          <p:spPr>
            <a:xfrm rot="662400">
              <a:off x="3181680" y="7920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3"/>
            <p:cNvSpPr/>
            <p:nvPr/>
          </p:nvSpPr>
          <p:spPr>
            <a:xfrm rot="662400">
              <a:off x="3432240" y="70560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32"/>
          <p:cNvSpPr/>
          <p:nvPr/>
        </p:nvSpPr>
        <p:spPr>
          <a:xfrm>
            <a:off x="71280" y="214200"/>
            <a:ext cx="26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e6787"/>
                </a:solidFill>
                <a:latin typeface="Showcard Gothic"/>
              </a:rPr>
              <a:t>lo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3908160" y="-89280"/>
            <a:ext cx="2213280" cy="5340600"/>
            <a:chOff x="3908160" y="-89280"/>
            <a:chExt cx="2213280" cy="5340600"/>
          </a:xfrm>
        </p:grpSpPr>
        <p:grpSp>
          <p:nvGrpSpPr>
            <p:cNvPr id="107" name="Group 12"/>
            <p:cNvGrpSpPr/>
            <p:nvPr/>
          </p:nvGrpSpPr>
          <p:grpSpPr>
            <a:xfrm>
              <a:off x="3908160" y="-89280"/>
              <a:ext cx="2213280" cy="5340600"/>
              <a:chOff x="3908160" y="-89280"/>
              <a:chExt cx="2213280" cy="5340600"/>
            </a:xfrm>
          </p:grpSpPr>
          <p:sp>
            <p:nvSpPr>
              <p:cNvPr id="108" name="圆角矩形 64"/>
              <p:cNvSpPr/>
              <p:nvPr/>
            </p:nvSpPr>
            <p:spPr>
              <a:xfrm rot="634200">
                <a:off x="4428000" y="-8280"/>
                <a:ext cx="122760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圆角矩形 65"/>
              <p:cNvSpPr/>
              <p:nvPr/>
            </p:nvSpPr>
            <p:spPr>
              <a:xfrm rot="634200">
                <a:off x="4368600" y="-20160"/>
                <a:ext cx="1227600" cy="5138640"/>
              </a:xfrm>
              <a:custGeom>
                <a:avLst/>
                <a:gdLst>
                  <a:gd name="textAreaLeft" fmla="*/ 0 w 1227600"/>
                  <a:gd name="textAreaRight" fmla="*/ 1227960 w 122760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Box 89"/>
            <p:cNvSpPr/>
            <p:nvPr/>
          </p:nvSpPr>
          <p:spPr>
            <a:xfrm rot="634200">
              <a:off x="5023080" y="70128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9"/>
            <p:cNvSpPr/>
            <p:nvPr/>
          </p:nvSpPr>
          <p:spPr>
            <a:xfrm rot="634200">
              <a:off x="4760280" y="7416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7194240" y="-85320"/>
            <a:ext cx="2170800" cy="5337720"/>
            <a:chOff x="7194240" y="-85320"/>
            <a:chExt cx="2170800" cy="5337720"/>
          </a:xfrm>
        </p:grpSpPr>
        <p:grpSp>
          <p:nvGrpSpPr>
            <p:cNvPr id="113" name="Group 18"/>
            <p:cNvGrpSpPr/>
            <p:nvPr/>
          </p:nvGrpSpPr>
          <p:grpSpPr>
            <a:xfrm>
              <a:off x="7194240" y="-85320"/>
              <a:ext cx="2170800" cy="5337720"/>
              <a:chOff x="7194240" y="-85320"/>
              <a:chExt cx="2170800" cy="5337720"/>
            </a:xfrm>
          </p:grpSpPr>
          <p:sp>
            <p:nvSpPr>
              <p:cNvPr id="114" name="圆角矩形 64"/>
              <p:cNvSpPr/>
              <p:nvPr/>
            </p:nvSpPr>
            <p:spPr>
              <a:xfrm rot="604200">
                <a:off x="7693560" y="-6120"/>
                <a:ext cx="122724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圆角矩形 65"/>
              <p:cNvSpPr/>
              <p:nvPr/>
            </p:nvSpPr>
            <p:spPr>
              <a:xfrm rot="604200">
                <a:off x="7633800" y="-17280"/>
                <a:ext cx="1227240" cy="5138640"/>
              </a:xfrm>
              <a:custGeom>
                <a:avLst/>
                <a:gdLst>
                  <a:gd name="textAreaLeft" fmla="*/ 0 w 1227240"/>
                  <a:gd name="textAreaRight" fmla="*/ 1227600 w 122724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91"/>
            <p:cNvSpPr/>
            <p:nvPr/>
          </p:nvSpPr>
          <p:spPr>
            <a:xfrm rot="604200">
              <a:off x="8311680" y="706320"/>
              <a:ext cx="7387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50"/>
            <p:cNvSpPr/>
            <p:nvPr/>
          </p:nvSpPr>
          <p:spPr>
            <a:xfrm rot="604200">
              <a:off x="7976520" y="68040"/>
              <a:ext cx="128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3"/>
          <p:cNvGrpSpPr/>
          <p:nvPr/>
        </p:nvGrpSpPr>
        <p:grpSpPr>
          <a:xfrm>
            <a:off x="5545800" y="-87120"/>
            <a:ext cx="2186640" cy="5338800"/>
            <a:chOff x="5545800" y="-87120"/>
            <a:chExt cx="2186640" cy="5338800"/>
          </a:xfrm>
        </p:grpSpPr>
        <p:grpSp>
          <p:nvGrpSpPr>
            <p:cNvPr id="119" name="Group 24"/>
            <p:cNvGrpSpPr/>
            <p:nvPr/>
          </p:nvGrpSpPr>
          <p:grpSpPr>
            <a:xfrm>
              <a:off x="5545800" y="-87120"/>
              <a:ext cx="2186640" cy="5338800"/>
              <a:chOff x="5545800" y="-87120"/>
              <a:chExt cx="2186640" cy="5338800"/>
            </a:xfrm>
          </p:grpSpPr>
          <p:sp>
            <p:nvSpPr>
              <p:cNvPr id="120" name="圆角矩形 64"/>
              <p:cNvSpPr/>
              <p:nvPr/>
            </p:nvSpPr>
            <p:spPr>
              <a:xfrm rot="616200">
                <a:off x="6053400" y="-6840"/>
                <a:ext cx="1226160" cy="5191200"/>
              </a:xfrm>
              <a:prstGeom prst="foldedCorner">
                <a:avLst>
                  <a:gd name="adj" fmla="val 48157"/>
                </a:avLst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圆角矩形 65"/>
              <p:cNvSpPr/>
              <p:nvPr/>
            </p:nvSpPr>
            <p:spPr>
              <a:xfrm rot="616200">
                <a:off x="5994000" y="-18720"/>
                <a:ext cx="1226160" cy="5138640"/>
              </a:xfrm>
              <a:custGeom>
                <a:avLst/>
                <a:gdLst>
                  <a:gd name="textAreaLeft" fmla="*/ 0 w 1226160"/>
                  <a:gd name="textAreaRight" fmla="*/ 1226520 w 1226160"/>
                  <a:gd name="textAreaTop" fmla="*/ 0 h 5138640"/>
                  <a:gd name="textAreaBottom" fmla="*/ 5139000 h 5138640"/>
                </a:gdLst>
                <a:ahLst/>
                <a:rect l="textAreaLeft" t="textAreaTop" r="textAreaRight" b="textAreaBottom"/>
                <a:pathLst>
                  <a:path w="1227148" h="5142958">
                    <a:moveTo>
                      <a:pt x="234637" y="4752528"/>
                    </a:moveTo>
                    <a:cubicBezTo>
                      <a:pt x="194868" y="4752528"/>
                      <a:pt x="162629" y="4784767"/>
                      <a:pt x="162629" y="4824536"/>
                    </a:cubicBezTo>
                    <a:cubicBezTo>
                      <a:pt x="162629" y="4864305"/>
                      <a:pt x="194868" y="4896544"/>
                      <a:pt x="234637" y="4896544"/>
                    </a:cubicBezTo>
                    <a:cubicBezTo>
                      <a:pt x="274406" y="4896544"/>
                      <a:pt x="306645" y="4864305"/>
                      <a:pt x="306645" y="4824536"/>
                    </a:cubicBezTo>
                    <a:cubicBezTo>
                      <a:pt x="306645" y="4784767"/>
                      <a:pt x="274406" y="4752528"/>
                      <a:pt x="234637" y="4752528"/>
                    </a:cubicBezTo>
                    <a:close/>
                    <a:moveTo>
                      <a:pt x="494346" y="4464972"/>
                    </a:moveTo>
                    <a:cubicBezTo>
                      <a:pt x="444915" y="4464972"/>
                      <a:pt x="404843" y="4505044"/>
                      <a:pt x="404843" y="4554475"/>
                    </a:cubicBezTo>
                    <a:cubicBezTo>
                      <a:pt x="404843" y="4603906"/>
                      <a:pt x="444915" y="4643978"/>
                      <a:pt x="494346" y="4643978"/>
                    </a:cubicBezTo>
                    <a:cubicBezTo>
                      <a:pt x="543777" y="4643978"/>
                      <a:pt x="583849" y="4603906"/>
                      <a:pt x="583849" y="4554475"/>
                    </a:cubicBezTo>
                    <a:cubicBezTo>
                      <a:pt x="583849" y="4505044"/>
                      <a:pt x="543777" y="4464972"/>
                      <a:pt x="494346" y="4464972"/>
                    </a:cubicBezTo>
                    <a:close/>
                    <a:moveTo>
                      <a:pt x="727864" y="3888432"/>
                    </a:moveTo>
                    <a:cubicBezTo>
                      <a:pt x="648326" y="3888432"/>
                      <a:pt x="583848" y="3952910"/>
                      <a:pt x="583848" y="4032448"/>
                    </a:cubicBezTo>
                    <a:cubicBezTo>
                      <a:pt x="583848" y="4111986"/>
                      <a:pt x="648326" y="4176464"/>
                      <a:pt x="727864" y="4176464"/>
                    </a:cubicBezTo>
                    <a:cubicBezTo>
                      <a:pt x="807402" y="4176464"/>
                      <a:pt x="871880" y="4111986"/>
                      <a:pt x="871880" y="4032448"/>
                    </a:cubicBezTo>
                    <a:cubicBezTo>
                      <a:pt x="871880" y="3952910"/>
                      <a:pt x="807402" y="3888432"/>
                      <a:pt x="727864" y="3888432"/>
                    </a:cubicBezTo>
                    <a:close/>
                    <a:moveTo>
                      <a:pt x="0" y="0"/>
                    </a:moveTo>
                    <a:lnTo>
                      <a:pt x="1227148" y="0"/>
                    </a:lnTo>
                    <a:lnTo>
                      <a:pt x="1227148" y="4574543"/>
                    </a:lnTo>
                    <a:lnTo>
                      <a:pt x="658733" y="5142958"/>
                    </a:lnTo>
                    <a:lnTo>
                      <a:pt x="0" y="51429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TextBox 90"/>
            <p:cNvSpPr/>
            <p:nvPr/>
          </p:nvSpPr>
          <p:spPr>
            <a:xfrm rot="616200">
              <a:off x="6641280" y="700560"/>
              <a:ext cx="738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文本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51"/>
            <p:cNvSpPr/>
            <p:nvPr/>
          </p:nvSpPr>
          <p:spPr>
            <a:xfrm rot="616200">
              <a:off x="6358680" y="70560"/>
              <a:ext cx="127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roadway"/>
                </a:rPr>
                <a:t>Part</a:t>
              </a:r>
              <a:r>
                <a:rPr b="0" lang="en-US" sz="1800" spc="-1" strike="noStrike">
                  <a:solidFill>
                    <a:srgbClr val="ffffff"/>
                  </a:solidFill>
                  <a:latin typeface="Broadway"/>
                </a:rPr>
                <a:t> </a:t>
              </a:r>
              <a:r>
                <a:rPr b="0" lang="en-US" sz="3600" spc="-1" strike="noStrike">
                  <a:solidFill>
                    <a:srgbClr val="ffffff"/>
                  </a:solidFill>
                  <a:latin typeface="Broadway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34920" y="20520"/>
            <a:ext cx="1219320" cy="1281240"/>
            <a:chOff x="34920" y="20520"/>
            <a:chExt cx="1219320" cy="1281240"/>
          </a:xfrm>
        </p:grpSpPr>
        <p:grpSp>
          <p:nvGrpSpPr>
            <p:cNvPr id="125" name="Group 3"/>
            <p:cNvGrpSpPr/>
            <p:nvPr/>
          </p:nvGrpSpPr>
          <p:grpSpPr>
            <a:xfrm>
              <a:off x="55800" y="20520"/>
              <a:ext cx="1198440" cy="1281240"/>
              <a:chOff x="55800" y="20520"/>
              <a:chExt cx="1198440" cy="1281240"/>
            </a:xfrm>
          </p:grpSpPr>
          <p:sp>
            <p:nvSpPr>
              <p:cNvPr id="126" name="圆角矩形 28"/>
              <p:cNvSpPr/>
              <p:nvPr/>
            </p:nvSpPr>
            <p:spPr>
              <a:xfrm>
                <a:off x="128880" y="50400"/>
                <a:ext cx="1125360" cy="125136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1360"/>
                  <a:gd name="textAreaBottom" fmla="*/ 1196640 h 1251360"/>
                </a:gdLst>
                <a:ahLst/>
                <a:rect l="textAreaLeft" t="textAreaTop" r="textAreaRight" b="textAreaBottom"/>
                <a:pathLst>
                  <a:path w="21600" h="24018">
                    <a:moveTo>
                      <a:pt x="3600" y="0"/>
                    </a:moveTo>
                    <a:arcTo wR="3600" hR="3600" stAng="16200000" swAng="-5400000"/>
                    <a:lnTo>
                      <a:pt x="0" y="20418"/>
                    </a:lnTo>
                    <a:arcTo wR="3600" hR="3600" stAng="10800000" swAng="-5400000"/>
                    <a:lnTo>
                      <a:pt x="18000" y="2401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圆角矩形 29"/>
              <p:cNvSpPr/>
              <p:nvPr/>
            </p:nvSpPr>
            <p:spPr>
              <a:xfrm>
                <a:off x="55800" y="20520"/>
                <a:ext cx="1144800" cy="1238400"/>
              </a:xfrm>
              <a:custGeom>
                <a:avLst/>
                <a:gdLst>
                  <a:gd name="textAreaLeft" fmla="*/ 55800 w 1144800"/>
                  <a:gd name="textAreaRight" fmla="*/ 1089000 w 1144800"/>
                  <a:gd name="textAreaTop" fmla="*/ 55800 h 1238400"/>
                  <a:gd name="textAreaBottom" fmla="*/ 1182600 h 1238400"/>
                </a:gdLst>
                <a:ahLst/>
                <a:rect l="textAreaLeft" t="textAreaTop" r="textAreaRight" b="textAreaBottom"/>
                <a:pathLst>
                  <a:path w="21600" h="23365">
                    <a:moveTo>
                      <a:pt x="3600" y="0"/>
                    </a:moveTo>
                    <a:arcTo wR="3600" hR="3600" stAng="16200000" swAng="-5400000"/>
                    <a:lnTo>
                      <a:pt x="0" y="19765"/>
                    </a:lnTo>
                    <a:arcTo wR="3600" hR="3600" stAng="10800000" swAng="-5400000"/>
                    <a:lnTo>
                      <a:pt x="18000" y="2336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352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TextBox 40"/>
            <p:cNvSpPr/>
            <p:nvPr/>
          </p:nvSpPr>
          <p:spPr>
            <a:xfrm>
              <a:off x="34920" y="53460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44"/>
            <p:cNvSpPr/>
            <p:nvPr/>
          </p:nvSpPr>
          <p:spPr>
            <a:xfrm>
              <a:off x="34920" y="76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8"/>
          <p:cNvGrpSpPr/>
          <p:nvPr/>
        </p:nvGrpSpPr>
        <p:grpSpPr>
          <a:xfrm>
            <a:off x="34920" y="1284120"/>
            <a:ext cx="1225440" cy="1278000"/>
            <a:chOff x="34920" y="1284120"/>
            <a:chExt cx="1225440" cy="1278000"/>
          </a:xfrm>
        </p:grpSpPr>
        <p:grpSp>
          <p:nvGrpSpPr>
            <p:cNvPr id="131" name="Group 9"/>
            <p:cNvGrpSpPr/>
            <p:nvPr/>
          </p:nvGrpSpPr>
          <p:grpSpPr>
            <a:xfrm>
              <a:off x="81360" y="1284120"/>
              <a:ext cx="1179000" cy="1278000"/>
              <a:chOff x="81360" y="1284120"/>
              <a:chExt cx="1179000" cy="1278000"/>
            </a:xfrm>
          </p:grpSpPr>
          <p:sp>
            <p:nvSpPr>
              <p:cNvPr id="132" name="圆角矩形 31"/>
              <p:cNvSpPr/>
              <p:nvPr/>
            </p:nvSpPr>
            <p:spPr>
              <a:xfrm>
                <a:off x="135000" y="1311480"/>
                <a:ext cx="1125360" cy="12506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50640"/>
                  <a:gd name="textAreaBottom" fmla="*/ 1195920 h 1250640"/>
                </a:gdLst>
                <a:ahLst/>
                <a:rect l="textAreaLeft" t="textAreaTop" r="textAreaRight" b="textAreaBottom"/>
                <a:pathLst>
                  <a:path w="21600" h="24004">
                    <a:moveTo>
                      <a:pt x="3600" y="0"/>
                    </a:moveTo>
                    <a:arcTo wR="3600" hR="3600" stAng="16200000" swAng="-5400000"/>
                    <a:lnTo>
                      <a:pt x="0" y="20404"/>
                    </a:lnTo>
                    <a:arcTo wR="3600" hR="3600" stAng="10800000" swAng="-5400000"/>
                    <a:lnTo>
                      <a:pt x="18000" y="2400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圆角矩形 32"/>
              <p:cNvSpPr/>
              <p:nvPr/>
            </p:nvSpPr>
            <p:spPr>
              <a:xfrm>
                <a:off x="81360" y="1284120"/>
                <a:ext cx="1125360" cy="1238040"/>
              </a:xfrm>
              <a:custGeom>
                <a:avLst/>
                <a:gdLst>
                  <a:gd name="textAreaLeft" fmla="*/ 54720 w 1125360"/>
                  <a:gd name="textAreaRight" fmla="*/ 1070640 w 1125360"/>
                  <a:gd name="textAreaTop" fmla="*/ 54720 h 1238040"/>
                  <a:gd name="textAreaBottom" fmla="*/ 1183320 h 1238040"/>
                </a:gdLst>
                <a:ahLst/>
                <a:rect l="textAreaLeft" t="textAreaTop" r="textAreaRight" b="textAreaBottom"/>
                <a:pathLst>
                  <a:path w="21600" h="23762">
                    <a:moveTo>
                      <a:pt x="3600" y="0"/>
                    </a:moveTo>
                    <a:arcTo wR="3600" hR="3600" stAng="16200000" swAng="-5400000"/>
                    <a:lnTo>
                      <a:pt x="0" y="20162"/>
                    </a:lnTo>
                    <a:arcTo wR="3600" hR="3600" stAng="10800000" swAng="-5400000"/>
                    <a:lnTo>
                      <a:pt x="18000" y="2376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1e6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41"/>
            <p:cNvSpPr/>
            <p:nvPr/>
          </p:nvSpPr>
          <p:spPr>
            <a:xfrm>
              <a:off x="71280" y="1806120"/>
              <a:ext cx="5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45"/>
            <p:cNvSpPr/>
            <p:nvPr/>
          </p:nvSpPr>
          <p:spPr>
            <a:xfrm>
              <a:off x="34920" y="2022840"/>
              <a:ext cx="112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34920" y="2585880"/>
            <a:ext cx="1204920" cy="1278000"/>
            <a:chOff x="34920" y="2585880"/>
            <a:chExt cx="1204920" cy="1278000"/>
          </a:xfrm>
        </p:grpSpPr>
        <p:grpSp>
          <p:nvGrpSpPr>
            <p:cNvPr id="137" name="Group 15"/>
            <p:cNvGrpSpPr/>
            <p:nvPr/>
          </p:nvGrpSpPr>
          <p:grpSpPr>
            <a:xfrm>
              <a:off x="61200" y="2585880"/>
              <a:ext cx="1178640" cy="1278000"/>
              <a:chOff x="61200" y="2585880"/>
              <a:chExt cx="1178640" cy="1278000"/>
            </a:xfrm>
          </p:grpSpPr>
          <p:sp>
            <p:nvSpPr>
              <p:cNvPr id="138" name="圆角矩形 34"/>
              <p:cNvSpPr/>
              <p:nvPr/>
            </p:nvSpPr>
            <p:spPr>
              <a:xfrm>
                <a:off x="114840" y="2612160"/>
                <a:ext cx="1125000" cy="125172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32">
                    <a:moveTo>
                      <a:pt x="3600" y="0"/>
                    </a:moveTo>
                    <a:arcTo wR="3600" hR="3600" stAng="16200000" swAng="-5400000"/>
                    <a:lnTo>
                      <a:pt x="0" y="20432"/>
                    </a:lnTo>
                    <a:arcTo wR="3600" hR="3600" stAng="10800000" swAng="-5400000"/>
                    <a:lnTo>
                      <a:pt x="18000" y="2403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圆角矩形 35"/>
              <p:cNvSpPr/>
              <p:nvPr/>
            </p:nvSpPr>
            <p:spPr>
              <a:xfrm>
                <a:off x="61200" y="2585880"/>
                <a:ext cx="1125000" cy="1238760"/>
              </a:xfrm>
              <a:custGeom>
                <a:avLst/>
                <a:gdLst>
                  <a:gd name="textAreaLeft" fmla="*/ 54720 w 1125000"/>
                  <a:gd name="textAreaRight" fmla="*/ 1070280 w 1125000"/>
                  <a:gd name="textAreaTop" fmla="*/ 54720 h 1238760"/>
                  <a:gd name="textAreaBottom" fmla="*/ 1184040 h 1238760"/>
                </a:gdLst>
                <a:ahLst/>
                <a:rect l="textAreaLeft" t="textAreaTop" r="textAreaRight" b="textAreaBottom"/>
                <a:pathLst>
                  <a:path w="21600" h="23783">
                    <a:moveTo>
                      <a:pt x="3600" y="0"/>
                    </a:moveTo>
                    <a:arcTo wR="3600" hR="3600" stAng="16200000" swAng="-5400000"/>
                    <a:lnTo>
                      <a:pt x="0" y="20183"/>
                    </a:lnTo>
                    <a:arcTo wR="3600" hR="3600" stAng="10800000" swAng="-5400000"/>
                    <a:lnTo>
                      <a:pt x="18000" y="237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2a8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Box 42"/>
            <p:cNvSpPr/>
            <p:nvPr/>
          </p:nvSpPr>
          <p:spPr>
            <a:xfrm>
              <a:off x="51120" y="3104640"/>
              <a:ext cx="5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46"/>
            <p:cNvSpPr/>
            <p:nvPr/>
          </p:nvSpPr>
          <p:spPr>
            <a:xfrm>
              <a:off x="34920" y="3321360"/>
              <a:ext cx="111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W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0"/>
          <p:cNvGrpSpPr/>
          <p:nvPr/>
        </p:nvGrpSpPr>
        <p:grpSpPr>
          <a:xfrm>
            <a:off x="34920" y="3886200"/>
            <a:ext cx="1171440" cy="1278000"/>
            <a:chOff x="34920" y="3886200"/>
            <a:chExt cx="1171440" cy="1278000"/>
          </a:xfrm>
        </p:grpSpPr>
        <p:grpSp>
          <p:nvGrpSpPr>
            <p:cNvPr id="143" name="Group 21"/>
            <p:cNvGrpSpPr/>
            <p:nvPr/>
          </p:nvGrpSpPr>
          <p:grpSpPr>
            <a:xfrm>
              <a:off x="34920" y="3886200"/>
              <a:ext cx="1171440" cy="1278000"/>
              <a:chOff x="34920" y="3886200"/>
              <a:chExt cx="1171440" cy="1278000"/>
            </a:xfrm>
          </p:grpSpPr>
          <p:sp>
            <p:nvSpPr>
              <p:cNvPr id="144" name="圆角矩形 37"/>
              <p:cNvSpPr/>
              <p:nvPr/>
            </p:nvSpPr>
            <p:spPr>
              <a:xfrm>
                <a:off x="82080" y="3912480"/>
                <a:ext cx="1124280" cy="12517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51720"/>
                  <a:gd name="textAreaBottom" fmla="*/ 1197000 h 1251720"/>
                </a:gdLst>
                <a:ahLst/>
                <a:rect l="textAreaLeft" t="textAreaTop" r="textAreaRight" b="textAreaBottom"/>
                <a:pathLst>
                  <a:path w="21600" h="24048">
                    <a:moveTo>
                      <a:pt x="3600" y="0"/>
                    </a:moveTo>
                    <a:arcTo wR="3600" hR="3600" stAng="16200000" swAng="-5400000"/>
                    <a:lnTo>
                      <a:pt x="0" y="20448"/>
                    </a:lnTo>
                    <a:arcTo wR="3600" hR="3600" stAng="10800000" swAng="-5400000"/>
                    <a:lnTo>
                      <a:pt x="18000" y="240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圆角矩形 38"/>
              <p:cNvSpPr/>
              <p:nvPr/>
            </p:nvSpPr>
            <p:spPr>
              <a:xfrm>
                <a:off x="34920" y="3886200"/>
                <a:ext cx="1124280" cy="1239120"/>
              </a:xfrm>
              <a:custGeom>
                <a:avLst/>
                <a:gdLst>
                  <a:gd name="textAreaLeft" fmla="*/ 54720 w 1124280"/>
                  <a:gd name="textAreaRight" fmla="*/ 1069560 w 1124280"/>
                  <a:gd name="textAreaTop" fmla="*/ 54720 h 1239120"/>
                  <a:gd name="textAreaBottom" fmla="*/ 1184400 h 1239120"/>
                </a:gdLst>
                <a:ahLst/>
                <a:rect l="textAreaLeft" t="textAreaTop" r="textAreaRight" b="textAreaBottom"/>
                <a:pathLst>
                  <a:path w="21600" h="23806">
                    <a:moveTo>
                      <a:pt x="3600" y="0"/>
                    </a:moveTo>
                    <a:arcTo wR="3600" hR="3600" stAng="16200000" swAng="-5400000"/>
                    <a:lnTo>
                      <a:pt x="0" y="20206"/>
                    </a:lnTo>
                    <a:arcTo wR="3600" hR="3600" stAng="10800000" swAng="-5400000"/>
                    <a:lnTo>
                      <a:pt x="18000" y="2380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448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TextBox 43"/>
            <p:cNvSpPr/>
            <p:nvPr/>
          </p:nvSpPr>
          <p:spPr>
            <a:xfrm>
              <a:off x="52200" y="4408920"/>
              <a:ext cx="5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47"/>
            <p:cNvSpPr/>
            <p:nvPr/>
          </p:nvSpPr>
          <p:spPr>
            <a:xfrm>
              <a:off x="58680" y="4614480"/>
              <a:ext cx="111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Gill Sans MT Condensed"/>
                  <a:ea typeface="Arial Unicode MS"/>
                </a:rPr>
                <a:t>H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椭圆 3"/>
          <p:cNvSpPr/>
          <p:nvPr/>
        </p:nvSpPr>
        <p:spPr>
          <a:xfrm>
            <a:off x="3511440" y="915840"/>
            <a:ext cx="3313080" cy="3311640"/>
          </a:xfrm>
          <a:prstGeom prst="ellipse">
            <a:avLst/>
          </a:prstGeom>
          <a:solidFill>
            <a:srgbClr val="31859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2"/>
          <p:cNvSpPr/>
          <p:nvPr/>
        </p:nvSpPr>
        <p:spPr>
          <a:xfrm>
            <a:off x="3921120" y="1324080"/>
            <a:ext cx="2494080" cy="2493720"/>
          </a:xfrm>
          <a:prstGeom prst="ellipse">
            <a:avLst/>
          </a:prstGeom>
          <a:solidFill>
            <a:srgbClr val="1e678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"/>
          <p:cNvSpPr/>
          <p:nvPr/>
        </p:nvSpPr>
        <p:spPr>
          <a:xfrm>
            <a:off x="4457880" y="1862280"/>
            <a:ext cx="1420560" cy="1419120"/>
          </a:xfrm>
          <a:prstGeom prst="ellipse">
            <a:avLst/>
          </a:prstGeom>
          <a:solidFill>
            <a:srgbClr val="43525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5"/>
          <p:cNvSpPr/>
          <p:nvPr/>
        </p:nvSpPr>
        <p:spPr>
          <a:xfrm>
            <a:off x="4970520" y="2373480"/>
            <a:ext cx="396720" cy="396720"/>
          </a:xfrm>
          <a:prstGeom prst="ellipse">
            <a:avLst/>
          </a:prstGeom>
          <a:solidFill>
            <a:srgbClr val="e4486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6"/>
          <p:cNvSpPr/>
          <p:nvPr/>
        </p:nvSpPr>
        <p:spPr>
          <a:xfrm>
            <a:off x="5670720" y="3073320"/>
            <a:ext cx="1153800" cy="1154160"/>
          </a:xfrm>
          <a:prstGeom prst="line">
            <a:avLst/>
          </a:prstGeom>
          <a:ln w="19080">
            <a:solidFill>
              <a:srgbClr val="435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2"/>
          <p:cNvSpPr/>
          <p:nvPr/>
        </p:nvSpPr>
        <p:spPr>
          <a:xfrm flipH="1">
            <a:off x="5308200" y="915840"/>
            <a:ext cx="1515960" cy="1516320"/>
          </a:xfrm>
          <a:prstGeom prst="line">
            <a:avLst/>
          </a:prstGeom>
          <a:ln w="19080">
            <a:solidFill>
              <a:srgbClr val="e4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27"/>
          <p:cNvSpPr/>
          <p:nvPr/>
        </p:nvSpPr>
        <p:spPr>
          <a:xfrm flipH="1">
            <a:off x="1568160" y="915840"/>
            <a:ext cx="1942920" cy="0"/>
          </a:xfrm>
          <a:prstGeom prst="line">
            <a:avLst/>
          </a:prstGeom>
          <a:ln w="19080">
            <a:solidFill>
              <a:srgbClr val="2a8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28"/>
          <p:cNvSpPr/>
          <p:nvPr/>
        </p:nvSpPr>
        <p:spPr>
          <a:xfrm flipH="1">
            <a:off x="1547280" y="4218120"/>
            <a:ext cx="1963800" cy="9360"/>
          </a:xfrm>
          <a:prstGeom prst="line">
            <a:avLst/>
          </a:prstGeom>
          <a:ln w="19080">
            <a:solidFill>
              <a:srgbClr val="1e6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29"/>
          <p:cNvSpPr/>
          <p:nvPr/>
        </p:nvSpPr>
        <p:spPr>
          <a:xfrm flipH="1">
            <a:off x="6824520" y="915840"/>
            <a:ext cx="2160720" cy="0"/>
          </a:xfrm>
          <a:prstGeom prst="line">
            <a:avLst/>
          </a:prstGeom>
          <a:ln w="19080">
            <a:solidFill>
              <a:srgbClr val="e44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30"/>
          <p:cNvSpPr/>
          <p:nvPr/>
        </p:nvSpPr>
        <p:spPr>
          <a:xfrm flipH="1">
            <a:off x="6824520" y="4218120"/>
            <a:ext cx="2160720" cy="9360"/>
          </a:xfrm>
          <a:prstGeom prst="line">
            <a:avLst/>
          </a:prstGeom>
          <a:ln w="19080">
            <a:solidFill>
              <a:srgbClr val="4352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31"/>
          <p:cNvSpPr/>
          <p:nvPr/>
        </p:nvSpPr>
        <p:spPr>
          <a:xfrm flipH="1">
            <a:off x="3511440" y="3452760"/>
            <a:ext cx="774720" cy="774720"/>
          </a:xfrm>
          <a:prstGeom prst="line">
            <a:avLst/>
          </a:prstGeom>
          <a:ln w="19080">
            <a:solidFill>
              <a:srgbClr val="1e67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34"/>
          <p:cNvSpPr/>
          <p:nvPr/>
        </p:nvSpPr>
        <p:spPr>
          <a:xfrm>
            <a:off x="3511440" y="915840"/>
            <a:ext cx="486000" cy="484200"/>
          </a:xfrm>
          <a:prstGeom prst="line">
            <a:avLst/>
          </a:prstGeom>
          <a:ln w="19080">
            <a:solidFill>
              <a:srgbClr val="2a8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6769080" y="977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4860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9"/>
          <p:cNvSpPr/>
          <p:nvPr/>
        </p:nvSpPr>
        <p:spPr>
          <a:xfrm>
            <a:off x="6804000" y="3825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1"/>
          <p:cNvSpPr/>
          <p:nvPr/>
        </p:nvSpPr>
        <p:spPr>
          <a:xfrm>
            <a:off x="1260360" y="379584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6787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2"/>
          <p:cNvSpPr/>
          <p:nvPr/>
        </p:nvSpPr>
        <p:spPr>
          <a:xfrm>
            <a:off x="1368360" y="9777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8fbd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6"/>
          <p:cNvSpPr/>
          <p:nvPr/>
        </p:nvSpPr>
        <p:spPr>
          <a:xfrm>
            <a:off x="1260360" y="430992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e6787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7"/>
          <p:cNvSpPr/>
          <p:nvPr/>
        </p:nvSpPr>
        <p:spPr>
          <a:xfrm>
            <a:off x="6661080" y="43099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5258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8"/>
          <p:cNvSpPr/>
          <p:nvPr/>
        </p:nvSpPr>
        <p:spPr>
          <a:xfrm>
            <a:off x="6661080" y="5302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4860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9"/>
          <p:cNvSpPr/>
          <p:nvPr/>
        </p:nvSpPr>
        <p:spPr>
          <a:xfrm>
            <a:off x="1260360" y="530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8fbd"/>
                </a:solidFill>
                <a:latin typeface="微软雅黑"/>
                <a:ea typeface="微软雅黑"/>
              </a:rPr>
              <a:t>请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A892-1204-4BFE-ADE2-5BEBCB3409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斜纹 11"/>
          <p:cNvSpPr/>
          <p:nvPr/>
        </p:nvSpPr>
        <p:spPr>
          <a:xfrm flipV="1" rot="16200000">
            <a:off x="3951720" y="-47160"/>
            <a:ext cx="1227240" cy="9153720"/>
          </a:xfrm>
          <a:custGeom>
            <a:avLst/>
            <a:gdLst>
              <a:gd name="textAreaLeft" fmla="*/ 0 w 1227240"/>
              <a:gd name="textAreaRight" fmla="*/ 1227600 w 122724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斜纹 11"/>
          <p:cNvSpPr/>
          <p:nvPr/>
        </p:nvSpPr>
        <p:spPr>
          <a:xfrm flipH="1" rot="16200000">
            <a:off x="3953160" y="-3979800"/>
            <a:ext cx="1222560" cy="9153720"/>
          </a:xfrm>
          <a:custGeom>
            <a:avLst/>
            <a:gdLst>
              <a:gd name="textAreaLeft" fmla="*/ 0 w 1222560"/>
              <a:gd name="textAreaRight" fmla="*/ 1222560 w 122256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2a8fbd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斜纹 11"/>
          <p:cNvSpPr/>
          <p:nvPr/>
        </p:nvSpPr>
        <p:spPr>
          <a:xfrm flipH="1" rot="16200000">
            <a:off x="3951000" y="-3339000"/>
            <a:ext cx="1227240" cy="9153720"/>
          </a:xfrm>
          <a:custGeom>
            <a:avLst/>
            <a:gdLst>
              <a:gd name="textAreaLeft" fmla="*/ -360 w 1227240"/>
              <a:gd name="textAreaRight" fmla="*/ 1227240 w 1227240"/>
              <a:gd name="textAreaTop" fmla="*/ 0 h 9153720"/>
              <a:gd name="textAreaBottom" fmla="*/ 915408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斜纹 11"/>
          <p:cNvSpPr/>
          <p:nvPr/>
        </p:nvSpPr>
        <p:spPr>
          <a:xfrm flipV="1" rot="16200000">
            <a:off x="3951000" y="-660960"/>
            <a:ext cx="1228680" cy="9153720"/>
          </a:xfrm>
          <a:custGeom>
            <a:avLst/>
            <a:gdLst>
              <a:gd name="textAreaLeft" fmla="*/ 0 w 1228680"/>
              <a:gd name="textAreaRight" fmla="*/ 1229040 w 1228680"/>
              <a:gd name="textAreaTop" fmla="*/ -360 h 9153720"/>
              <a:gd name="textAreaBottom" fmla="*/ 9153720 h 9153720"/>
            </a:gdLst>
            <a:ahLst/>
            <a:rect l="textAreaLeft" t="textAreaTop" r="textAreaRight" b="textAreaBottom"/>
            <a:pathLst>
              <a:path w="1227148" h="9158491">
                <a:moveTo>
                  <a:pt x="867109" y="556322"/>
                </a:moveTo>
                <a:cubicBezTo>
                  <a:pt x="867109" y="496669"/>
                  <a:pt x="915468" y="448310"/>
                  <a:pt x="975121" y="448310"/>
                </a:cubicBezTo>
                <a:cubicBezTo>
                  <a:pt x="1034774" y="448310"/>
                  <a:pt x="1083133" y="496669"/>
                  <a:pt x="1083133" y="556322"/>
                </a:cubicBezTo>
                <a:cubicBezTo>
                  <a:pt x="1083133" y="615975"/>
                  <a:pt x="1034774" y="664334"/>
                  <a:pt x="975121" y="664334"/>
                </a:cubicBezTo>
                <a:cubicBezTo>
                  <a:pt x="915468" y="664334"/>
                  <a:pt x="867109" y="615975"/>
                  <a:pt x="867109" y="556322"/>
                </a:cubicBezTo>
                <a:close/>
                <a:moveTo>
                  <a:pt x="723093" y="1708847"/>
                </a:moveTo>
                <a:cubicBezTo>
                  <a:pt x="723093" y="1649194"/>
                  <a:pt x="771452" y="1600835"/>
                  <a:pt x="831105" y="1600835"/>
                </a:cubicBezTo>
                <a:cubicBezTo>
                  <a:pt x="890758" y="1600835"/>
                  <a:pt x="939117" y="1649194"/>
                  <a:pt x="939117" y="1708847"/>
                </a:cubicBezTo>
                <a:cubicBezTo>
                  <a:pt x="939117" y="1768500"/>
                  <a:pt x="890758" y="1816859"/>
                  <a:pt x="831105" y="1816859"/>
                </a:cubicBezTo>
                <a:cubicBezTo>
                  <a:pt x="771452" y="1816859"/>
                  <a:pt x="723093" y="1768500"/>
                  <a:pt x="723093" y="1708847"/>
                </a:cubicBezTo>
                <a:close/>
                <a:moveTo>
                  <a:pt x="506428" y="1130767"/>
                </a:moveTo>
                <a:cubicBezTo>
                  <a:pt x="506428" y="1071114"/>
                  <a:pt x="554787" y="1022755"/>
                  <a:pt x="614440" y="1022755"/>
                </a:cubicBezTo>
                <a:cubicBezTo>
                  <a:pt x="674093" y="1022755"/>
                  <a:pt x="722452" y="1071114"/>
                  <a:pt x="722452" y="1130767"/>
                </a:cubicBezTo>
                <a:cubicBezTo>
                  <a:pt x="722452" y="1190420"/>
                  <a:pt x="674093" y="1238779"/>
                  <a:pt x="614440" y="1238779"/>
                </a:cubicBezTo>
                <a:cubicBezTo>
                  <a:pt x="554787" y="1238779"/>
                  <a:pt x="506428" y="1190420"/>
                  <a:pt x="506428" y="1130767"/>
                </a:cubicBezTo>
                <a:close/>
                <a:moveTo>
                  <a:pt x="363052" y="2285110"/>
                </a:moveTo>
                <a:cubicBezTo>
                  <a:pt x="363053" y="2225457"/>
                  <a:pt x="411412" y="2177098"/>
                  <a:pt x="471065" y="2177098"/>
                </a:cubicBezTo>
                <a:cubicBezTo>
                  <a:pt x="530718" y="2177098"/>
                  <a:pt x="579077" y="2225457"/>
                  <a:pt x="579077" y="2285110"/>
                </a:cubicBezTo>
                <a:cubicBezTo>
                  <a:pt x="579077" y="2344763"/>
                  <a:pt x="530718" y="2393122"/>
                  <a:pt x="471065" y="2393122"/>
                </a:cubicBezTo>
                <a:cubicBezTo>
                  <a:pt x="411412" y="2393122"/>
                  <a:pt x="363053" y="2344763"/>
                  <a:pt x="363052" y="2285110"/>
                </a:cubicBezTo>
                <a:close/>
                <a:moveTo>
                  <a:pt x="0" y="4579246"/>
                </a:moveTo>
                <a:lnTo>
                  <a:pt x="0" y="9158491"/>
                </a:lnTo>
                <a:lnTo>
                  <a:pt x="1227148" y="0"/>
                </a:lnTo>
                <a:lnTo>
                  <a:pt x="613574" y="0"/>
                </a:lnTo>
                <a:lnTo>
                  <a:pt x="0" y="4579246"/>
                </a:lnTo>
                <a:close/>
              </a:path>
            </a:pathLst>
          </a:custGeom>
          <a:solidFill>
            <a:srgbClr val="e448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2195640" y="1968480"/>
            <a:ext cx="54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35258"/>
                </a:solidFill>
                <a:latin typeface="Matura MT Script Capitals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175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06:54:00Z</dcterms:created>
  <dc:creator>Administrator</dc:creator>
  <dc:description/>
  <cp:keywords/>
  <dc:language>en-US</dc:language>
  <cp:lastModifiedBy>a</cp:lastModifiedBy>
  <dcterms:modified xsi:type="dcterms:W3CDTF">2014-08-02T02:26:42Z</dcterms:modified>
  <cp:revision>1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