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9D37-BA6A-463A-ACC6-EF9AEAF4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9ED-4F53-4A63-82FC-7D38D2C9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B40-6D91-4747-8868-90F951CC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BCC-6CB5-47CE-896A-9F6D195A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037-E7FC-42CB-BB2D-4FBFF3B1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C97-9AF8-4026-9C08-4B066B69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E3E-A040-4552-980C-1CC8F544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D17-1004-493A-9DC3-FDEF4B3A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8E9-74A7-4ECF-8EF2-460A4325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444-705D-4882-BE13-93EC4C77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6D5-59C3-48CC-AFCA-A6A72C5D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2DA-7647-4D40-98A1-E96038FD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8139-CCBC-48BD-B57A-19F2B80457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F0EF-687D-497F-BC46-9A52106429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274320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362320" y="39625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0954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1:19:48Z</dcterms:created>
  <dc:creator/>
  <dc:description/>
  <cp:keywords/>
  <dc:language>en-US</dc:language>
  <cp:lastModifiedBy>a</cp:lastModifiedBy>
  <dcterms:modified xsi:type="dcterms:W3CDTF">2014-07-15T02:28:4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ersion">
    <vt:r8>1</vt:r8>
  </property>
</Properties>
</file>