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BBB-729D-4697-AC3E-398DD8F3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2D9-1BF6-46DD-A366-6886AD22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884-225A-4983-8985-5FB2773B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BB2-7D29-4CD8-A986-3CC9740C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EAB2-831C-4E26-AC65-FA87DF7F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3E1E-7775-4305-BD23-3C1A9CCA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EFC3-AAD6-4B9A-89C1-D08FC007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1040-23E1-4612-9D40-09EE86A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C05F-B502-430E-AE56-8E3ED61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F678-88E9-48DD-93F1-00E6ABA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6810-2A04-496B-BD55-FBBD87A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D8C-C241-4834-8F13-C796988D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ECA1-A255-4150-B30D-E82E323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AB7E-3DAB-48E0-8F1F-4C2DCEE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E95-82FE-49EF-A3F1-F7AF1458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CCFA-65B0-4FB5-B6C3-B42805A2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EA75-FF3C-4555-8D1E-FD5F6D84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D51-5719-4E21-943F-878812E8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8BF-7F64-409A-8B97-3820DB1A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56A-5E6C-4629-8759-06E08EA6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C03-A5B8-4A62-884E-E6DE3247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A3F-9EA6-4139-9F4E-5A5876E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B45-5A1C-40FB-8095-ED09DD39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E56-F635-4285-AC66-4B4ED2C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66B9-C355-412D-8EEE-2CCC95746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DBF3-FA3B-46B9-BD15-7E6DB230EA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F2F-F7CB-4A0E-9B7E-F76D937EC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91186774 副本副本"/>
          <p:cNvPicPr/>
          <p:nvPr/>
        </p:nvPicPr>
        <p:blipFill>
          <a:blip r:embed="rId1"/>
          <a:stretch/>
        </p:blipFill>
        <p:spPr>
          <a:xfrm>
            <a:off x="1440" y="117360"/>
            <a:ext cx="914256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2:12:16Z</dcterms:created>
  <dc:creator>Administrator</dc:creator>
  <dc:description/>
  <cp:keywords/>
  <dc:language>en-US</dc:language>
  <cp:lastModifiedBy>a</cp:lastModifiedBy>
  <dcterms:modified xsi:type="dcterms:W3CDTF">2014-08-09T07:06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