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46F1A-B6B0-4AD0-905F-4B776D255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CDCF0-EC39-4B52-A81E-7C5E33DA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82465-DA04-40F1-B02E-F7896254D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F319E-ADA2-4614-88C2-2782559EF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F71D-F033-4D84-8AFC-46D55FB86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0511-8999-442D-A525-869AC073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F042-93CC-4761-8D4D-61DA6FB2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AE53-DD42-4488-930A-16FFB389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358D-BE48-4DD3-BAE5-23F686D0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3B58-9786-420D-B625-B2FCF10C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B75D-F2AA-436B-9AFD-D17EA319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EBD19-82F7-416A-BF69-DCBD295E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009E-802A-434A-91C1-0FBDD621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07D2-B987-4DEE-B5F8-B31A03F9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AF67-9AD4-420E-A62A-D9BDD30C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D785-9A90-4F91-83AD-B9092CA4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6440-2D4A-4E66-8C20-4742DD997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70E2A-CEAD-40AB-ADC8-FF4C9797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A57D8-BC49-489F-992F-E2008A97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3AED4-E535-4959-9904-939F3F21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2B630-8361-4935-B576-DD1BA18D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E4A85-A373-435F-AC23-6FBF68B5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97372-59B3-4BE4-8318-C1D9CC96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D02F3-5BBB-4884-907A-58043ED0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DB76-CEA8-4FCC-BD8C-E839A8D67A1A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36360" y="6651720"/>
            <a:ext cx="1084320" cy="2156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A938-4CF0-4299-8DFE-0FE5541034E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16E9-F633-4ECA-ACB3-2465A401709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8920" y="5229000"/>
            <a:ext cx="5327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cp:keywords/>
  <dc:language>en-US</dc:language>
  <cp:lastModifiedBy>a</cp:lastModifiedBy>
  <dcterms:modified xsi:type="dcterms:W3CDTF">2014-07-16T08:54:11Z</dcterms:modified>
  <cp:revision>599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