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D3A4-B33D-4F65-89C2-59DC31DF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97A-7A93-4F34-AAE3-74DB23B0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34B-E775-4182-81B1-7A494C60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3F2-A682-42D6-B558-EBE47CEF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6E7B-B5F6-4EA6-9C67-2A8C5949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8B8C-8658-42C8-9437-7CE1BB8A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865F-67AA-431D-BBA3-E829C401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FE9C-9403-4743-A5A6-83441253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189A-6F65-4D65-893F-7949F1D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9879-085B-4EEE-9ADA-03FBC7DB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F547-B57F-481B-898E-B480966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200-912F-4FFC-983F-C191876E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2E24-791C-485F-9268-D5B40BC7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6822-AC14-44C5-B1E6-A3B954E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51D4-1F94-44B4-88E0-B5A6C764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97D5-774B-44D1-9B12-57682DE6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D51A-BCA3-4478-B61B-F99E2013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68B-A60E-428D-89EA-E4237C27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04E-04AE-4BAD-BD61-4FF87A0D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BBA-3300-4933-B185-E9FDEAA5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79FD-F685-476D-8335-F531A80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36B-324F-4B5F-A25B-711FE43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50A-9855-435D-9710-83C20E2B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BEC-0604-4217-8076-530649FD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461440" y="6670800"/>
            <a:ext cx="677880" cy="18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586E-79FF-4BB4-9613-3692759D840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2A1-C1BE-4DF9-AC6D-8447CE74AA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FE36-B1B6-4825-B6D7-9A9D041106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119664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8286840" y="6541920"/>
            <a:ext cx="89208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17T06:10:54Z</dcterms:modified>
  <cp:revision>73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