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D1A-D051-412D-88B0-13D6E889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4F4-7F34-4FFA-A95C-F072A8A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CB1-47DD-4A2E-B790-7DD88C95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CC1-52F5-4C30-BB5F-3438E851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387E-6C95-4306-96B6-270F0DAF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FCCC-BC68-44F0-96B2-633B333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5BB-06E5-4826-8152-A26758EF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539-B1D0-464C-A16C-EDFF0CDE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A2D-8548-4A64-AF39-058BC791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7EF7-506B-4A89-AE57-E0972FE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055-B3A5-4EB2-8C60-84492A8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0CB-467C-45A7-9B03-DDFC1B18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3D46-39E8-4B36-B383-8134CE1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6896-3E3A-4A03-A748-A925C46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563E-737A-42E5-89B1-1C71B45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5B3-A9AF-4893-A053-2FD935BF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676E-E933-4F5D-9AE2-E04B42D9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FD3-924B-45DA-A348-EA1B5DF4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95A-33D0-4445-B72C-28AAC09B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D80-43D8-495D-BEF9-652C514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EF4-17C1-4C0A-9A97-F8A6536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E27-228F-4EAD-95F4-A959EB3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FE0-AB9D-4475-9477-31E34D2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18D-132C-49AC-B0D7-5A88050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783-01EF-4594-9FF6-8C216A1D48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6A72-36D4-403A-B7B6-538FF7ACC2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434-38CA-478C-941E-123D620593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407-B9EF-445E-A0A0-4E19237B8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1172" t="1428" r="0" b="0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21191400">
            <a:off x="2600280" y="2663640"/>
            <a:ext cx="5207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Insert the title of your presenta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21191400">
            <a:off x="2779200" y="3894840"/>
            <a:ext cx="5199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sert the subtitle of your presentatio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219-2B20-4D3A-9A86-8F07466AE1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320-240F-4296-8978-45C8EC5F9C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269-1801-4413-BB59-50E9B863A0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EA3-B6AC-4965-8746-C42B6B1F16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AAC2-173D-4661-A5C3-0B67338C82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F67-A523-48BF-971E-948B75BF9E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2260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7469280" y="5067360"/>
            <a:ext cx="1674720" cy="1790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 rot="21402600">
            <a:off x="1869840" y="571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Customize your headlin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>a</cp:lastModifiedBy>
  <dcterms:modified xsi:type="dcterms:W3CDTF">2014-07-30T05:03:14Z</dcterms:modified>
  <cp:revision>1</cp:revision>
  <dc:subject/>
  <dc:title>Insert the title of your presentatio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