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3D0BA-6519-4856-B161-40F0F708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378F8-2E04-48EE-9B5A-DD88D90E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00116-5727-46B1-9EBD-6B5D414F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A2DA-D730-4785-8630-58F01BC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91CDC-FB6B-42CF-B055-01EE629B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700DF-161A-4EF0-8A35-B9221899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0E62-F06E-47D3-BE8A-01BB4566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542DC-1B49-40A5-966C-796562B9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B3BD3-3FFC-4039-9F65-47D11A95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D76F1-8EA2-49AF-9175-E897457A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8111-13C9-4BC7-BB1A-DE159C13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BE7B-3192-4FFE-9D09-CB2CD304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50B8-6495-428B-8A2A-246A867A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6C2E4-DC81-424E-8DBB-0E8DF23B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1E857-1DA8-4E82-91FD-F1C82366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61869-B769-4E1F-9D6A-60314F47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A4151-2F10-48AD-8029-76DBC4D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E0896-9F39-408B-B06A-0FFEA19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703F7-38D5-4B2A-B807-8FDE762B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A7C8-F4CD-440E-8D85-8D4CE681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5B0CB-0309-4DEA-B034-95D218B4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B868B-A57E-4C00-BC51-7BB3EB53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7797F-2F22-4821-8B65-04655E46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85488-7B0F-4497-8150-4EA9C3B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A322B-FFE6-43A2-BD8B-1E8D26B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422C8-7D04-4A26-AA58-A11AA45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521BB-1AB5-40A6-9D70-53049E80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AFEC6-912B-4803-A866-B361973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EC63F-D113-4DAF-8F9D-0B4C1F54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577F1-FECC-4A25-A1BC-9A4E3A06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78F8-9B28-4DC3-A20C-88D23913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BEE26-24A8-4E86-ABA8-3B952B8A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AB84E-C152-4910-9E43-B3F2F760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9C2C5-0ED3-4BA0-B932-17CDD351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A3811-CAA2-4E4C-BFB4-491AEDBB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68107-7EC1-4CA3-9610-34932FA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6348F-51B7-4D38-9646-5C8F6C17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4C711-BA0C-418A-A3FD-4E558FF4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F745E-646C-4FD3-80C7-003BD79A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EF12E-C708-428F-9A99-8767674D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DC69F-35DC-4FE5-BD8D-1CF1555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FE3B8-4103-496A-A19D-89256E82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1171D-D768-4ADD-B157-B76FB310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1E867-20BF-4C41-B54F-31B8BB71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C10D6-5C19-4D79-ACF4-39B367FA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D8D07-9B35-4142-A313-5D153D61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49D1E-D462-4D74-AC58-7EA7A3AA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0B709-D5DB-4330-A59F-022E6D59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20437-9B45-4C89-A4BE-DE45A836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BEF69-543B-49AF-9573-EA02F9D0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AF1D-7994-4C38-9FA6-807B2F8E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CBC0C-04C4-431C-B52E-DEA3085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F1D54-C59B-462A-A55F-3AACB414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2ECF3-0266-46E6-A22A-B178D10E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68425-090E-4EA2-88BE-BB6E48FF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7AAD4-7AC2-4CC4-BD04-0D5B1F92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F2911-F914-4899-AFE1-6494FF6D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B0C64-1412-43B3-ADD6-FAAC3C70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4CB26-645A-4EA1-B762-92895D17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C1B18-8C4D-4602-B634-4944189A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E1379-F4C3-436D-B08C-55DCD1FB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020C6-46F4-4A63-BD0A-ED385B93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6020E-2557-4E36-A6BA-850AB045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F48B-3585-4C36-99D9-5A219BC0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C1380-F73C-43FE-A37A-7B782FF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F0196-A76A-4028-B6DB-4E658D2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7C03F-5CAE-4248-BDC0-89E4050C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3E727-6162-404E-B716-3D9082BD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841B0-4F9A-4164-BB0B-C8C96395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A82ED-C4D7-43FB-94C2-6C6889EB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9A2D9-5C6E-4234-8582-AC1BDE59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D97A8-F14E-4B7C-B307-9F951362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2C4CE-89CC-4B73-B016-FC0BD6BE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C4125-16FA-46EE-A88A-DB822DAF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AA101-F62D-4092-BFA9-0557E11E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8E7CD-DE72-4230-8936-7CA747F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771E0-BDD8-4E8E-B6E9-E4BFD6B2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BEFA4-3E86-4503-A827-E0F3D563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66CCF-6061-4906-9E01-B6F3EE64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235D2-9A71-4749-BEE9-47127395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6E19D-4258-4941-9D53-917FC8AB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571-2827-4283-B772-5FC35C9E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E98-C0F9-48ED-933E-22159866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C98-FE1B-44B1-9C06-E93D3D70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6F4-002B-46ED-855C-E021F9F1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BA5-AC00-44A3-B7DA-145FF14C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524-F1A6-4EE6-974F-6BCADC88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1C1-C4B9-48E6-ACF7-56A0DFA0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A88-3B68-40D6-A47B-5A086F2D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25D-B6D4-4F7A-A3C9-C68F545C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510-8303-493C-9E54-C42A6667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A62-A668-45E5-97B5-05E2D32F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C4B-05C3-4BE6-B91C-0CB9437B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F40F-3F49-4FE0-A69D-7B62E859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4DB2-B72C-4BEA-9246-CDB0C692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6490-5674-4701-8C74-8B379A56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C423-1610-4EB9-8D79-BD768FC5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23C3-068A-49C6-AB82-79B198F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5D8-E98D-4BD4-8DC0-066E8A5D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E6BC-EBF5-436F-B17B-7CE262D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8866-93B6-4556-862E-303CCB73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5E23-A3FD-4700-84E0-008DFD69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2929-26EF-4B3E-9D1E-36788FD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8AD9-17FC-4112-BF76-D48E6D54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A230-71A8-49A1-81AB-E377F396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56C9-91CD-4A3E-94BC-5C8009F8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DAA6-9807-4536-BE3E-D8970DA9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29A2-11ED-43E1-A269-8E8FDDDF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AAFC-762F-4060-953D-9A3F15D0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FB93-2391-4116-BDC9-4BB76A8E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C558-FE70-428E-A3DA-22149E7F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FD90-D87A-4085-B7BA-560613B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1997-CFF5-43AB-957F-A07F620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F754-EA50-424D-8FAF-A4B55EC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0866-6AEF-4629-A6AF-322F2C08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94B6-7657-48B1-9705-104AA626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CABF-6E56-4ED4-A059-8A6B8AB8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B358-6A09-4CD5-B757-D118BAFD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0ECC-3FA3-449A-A3B5-5C00C04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6DA7-3DA4-4B3E-86D9-AF02D7FA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20FD2-FE01-49E4-B1BA-5CFCF694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DCD9-D682-4BF7-927F-835DA54A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A99E-0B49-4B44-8F5F-879E80C8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403EA-27F4-4B20-89F6-38DDCBB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1D1A-AD24-429C-ADFE-8A874E5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25FD-C9AB-46A3-85EB-332FB4D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9AA1-30F4-4EF3-A2FF-ADE391DB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5C8E-57C3-40B8-88AB-EE160704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DE98-1963-4FC1-A3A7-89CADBF0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310EB-E1DF-4563-B62D-298B8C06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0620F-05B5-4D5C-A827-936E7504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97CAC-1E39-4749-8B18-1382A28A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3F4E1-BCE5-4DA8-A983-85BF8E97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A90E5-6492-4591-BE3F-B13EFD18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A65B-B43C-4608-9438-2CA035A1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9E8B9-B10F-4127-84A2-605A1D25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C797-489E-4424-B988-C275091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2DA0-F70D-42D9-A8A7-C5852649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6A2E7-177E-440D-8F96-534D62A9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50D33-2CF6-4AEE-97A8-202DDE98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95EA8-1FF3-4418-A7EE-77EC65B9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C9B98-800F-4D14-B5A7-0548895A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13888-7B33-4170-A249-2D5128FC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7B15-EB70-4122-8F97-2CCF48EC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3"/>
          <p:cNvPicPr/>
          <p:nvPr/>
        </p:nvPicPr>
        <p:blipFill>
          <a:blip r:embed="rId2"/>
          <a:stretch/>
        </p:blipFill>
        <p:spPr>
          <a:xfrm>
            <a:off x="0" y="0"/>
            <a:ext cx="9163080" cy="1219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nordri_02"/>
          <p:cNvPicPr/>
          <p:nvPr/>
        </p:nvPicPr>
        <p:blipFill>
          <a:blip r:embed="rId3"/>
          <a:stretch/>
        </p:blipFill>
        <p:spPr>
          <a:xfrm>
            <a:off x="0" y="1225440"/>
            <a:ext cx="9144000" cy="17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F1BB256-73DB-43E2-A082-BD7781E3572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使用规范说明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3C5F-8553-479E-8ABA-8EFAD31D33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BD91-1BE5-46E0-BBBF-E8A771AF85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2521-9D95-4B52-A628-FDC7CD87A3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52CE-A61C-428F-9E9C-9123DEFE00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C53C-C923-4568-AA2F-77A947B8BA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E6B9-62A2-41EF-8894-3FD01C2813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D274-2137-41B8-98F2-966517BBF7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4852-ED55-4853-8F7E-8D64D4FCB6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3A05-85E6-455F-8336-BB8CBB50BD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A753-9D9C-45D5-B508-9558CF6ABC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B20F-4255-468F-A65B-D3E3A0A6C9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5BE4-8C1F-4FAE-B34A-537A808C53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"/>
          <p:cNvPicPr/>
          <p:nvPr/>
        </p:nvPicPr>
        <p:blipFill>
          <a:blip r:embed="rId3"/>
          <a:stretch/>
        </p:blipFill>
        <p:spPr>
          <a:xfrm>
            <a:off x="0" y="3532320"/>
            <a:ext cx="9144000" cy="3325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"/>
          <p:cNvPicPr/>
          <p:nvPr/>
        </p:nvPicPr>
        <p:blipFill>
          <a:blip r:embed="rId4"/>
          <a:stretch/>
        </p:blipFill>
        <p:spPr>
          <a:xfrm>
            <a:off x="0" y="-19080"/>
            <a:ext cx="385128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32A6-EF96-4489-99FD-1815FEA2C93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D1D2-5956-45E4-8AF0-DE9F09A988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2"/>
          <p:cNvPicPr/>
          <p:nvPr/>
        </p:nvPicPr>
        <p:blipFill>
          <a:blip r:embed="rId3"/>
          <a:stretch/>
        </p:blipFill>
        <p:spPr>
          <a:xfrm>
            <a:off x="0" y="3532320"/>
            <a:ext cx="9144000" cy="3325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1"/>
          <p:cNvPicPr/>
          <p:nvPr/>
        </p:nvPicPr>
        <p:blipFill>
          <a:blip r:embed="rId4"/>
          <a:stretch/>
        </p:blipFill>
        <p:spPr>
          <a:xfrm>
            <a:off x="0" y="-19080"/>
            <a:ext cx="3851280" cy="6877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084B-82A0-4297-B103-3A4EEFFA21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2BAC-2F8D-48E1-B109-155C3E23C6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461C-C3EC-4B4F-A274-68EC23F010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4C52-8FB8-4B1C-9B39-39A9CF7462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78B0-665D-45EE-9697-CF67D5D048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9537-965A-4828-88F9-6E264E8029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7A4C-3F6D-4BCA-8711-E563C73704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2BA0-8B6F-4D1A-8204-47DDB64E04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79C1-20DE-4B52-A31F-E9D18E6D12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A051-DCB1-4F05-8DC8-9D25C4CF6C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613" name="Group 3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614" name="Rectangle 4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5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6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7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8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9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0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1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12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623" name="Rectangle 13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4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5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6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7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8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20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</cp:lastModifiedBy>
  <dcterms:modified xsi:type="dcterms:W3CDTF">2014-07-21T06:53:15Z</dcterms:modified>
  <cp:revision>3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