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E32C-A2F7-4D4A-BAA3-9F731C59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FCDBF-4965-4210-9670-0CAEF361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40A9-2AA2-4B17-BC58-942B3480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A1E3-375A-421C-A960-1F42D3C7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1218-53C4-4C2B-8097-8636A6A4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B40A-D047-4622-98E7-F3C593F8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5D1B-BA32-4B1A-A7FA-85E851C3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ADFB-7CEC-4BA8-BA99-877CF3BC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E5CE-7478-40EC-8F2C-DDA0DB1E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172E-D9F5-4CEC-A5FA-EFEF0C5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93B9-25BC-40CE-AB17-F5F79279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1597-9E18-45B7-A9DF-52A75773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C18A-3853-43DF-9F6D-E5626DC4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5BCC-21BF-4CCB-9A87-8365EC72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9D66-0466-4D48-8BD8-500527A6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5564-C147-4E1D-8471-BAE496ED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B196-0D52-4BF6-A743-AF5AB1F2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0877-14BB-4DF6-AC80-0C8E4120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B89A6-DD69-4F0B-AC5B-A5499960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B11F-9CFB-44C5-A323-90F25F4C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9E9E-C6BB-44A9-8A59-694056D6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C4E9-C6C0-40B9-A332-8D77EA4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A549-753E-4397-A7D7-49AD032A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5B20-336C-4621-9FC6-6459294A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8DEB-3687-42EB-8A61-3BFFD9500341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6360" y="6453360"/>
            <a:ext cx="2592720" cy="209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FE95-B668-4046-8C50-D59037E0148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9206-2EE4-48DE-941A-DEC949E904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3456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cp:keywords/>
  <dc:language>en-US</dc:language>
  <cp:lastModifiedBy>a</cp:lastModifiedBy>
  <dcterms:modified xsi:type="dcterms:W3CDTF">2014-07-15T02:31:23Z</dcterms:modified>
  <cp:revision>50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