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B6D-BEC8-4234-872D-17E976BB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A49-36A2-4E19-872A-3A91966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782-2667-4C34-AFDA-B252F792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999-B035-4250-AEFC-B85E0F54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B241-74D6-4F58-BDA1-5DBA7B44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5E1D-7CAB-4F38-BFE7-97B78390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D57-B229-41A9-94B7-46681B7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3368-B796-4A64-838B-86C347B0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7DA6-3BA3-4F58-B6B8-5D8D734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BAF6-4C76-4707-9E85-369E711C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A8DA-3FD5-4C6A-8033-C7CE4CF7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615-BFD7-4AC8-9784-0F9378D9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FBAA-67A8-4409-AA00-E950CC6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6AB4-B661-4D23-B2DA-298F741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16CD-7599-4F5D-A430-FA3FF6EF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22A5-3A28-433A-9B11-09F0DED3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FFCC-F69B-4908-998A-C21A81ED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FB0C-5EA3-4E07-B5B2-E801F617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BEE1-3EF5-4A25-8D42-1B1A6D9C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EA79-6EDF-4959-B353-C34D04CA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EAA0-CC4D-4EB0-9F43-A4D84D3B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1239-5CC2-4305-835D-25B7B53B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B3C-7B7B-4B5E-AC50-EB9CC005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B223-BCEA-4AAB-8017-1E6B1B9B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544D-6294-4C02-942F-16CF17E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C732-9A0C-4125-B9A9-DB49C6B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2C58E-AAFE-49FE-BB10-7D345CE7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02A6-D1AE-42B4-959B-E87E6936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AB61-6201-42CA-8403-C3B47F04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ECB6-0767-47D9-BF1A-DBEF6324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E77-2BC1-4AB1-B94F-AA18B2E3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E8D-E4D1-4189-9A00-123432E0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5D6-2C67-4B06-A0BA-8418C154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8D9-421C-4781-AE6A-E4F194C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B95-CEAC-453D-BBE3-BB8DFB87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0AC-FF86-458D-85BB-595A5B0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448D-A5CB-428C-B315-7D2497912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87C0-5A0A-4E76-B3A2-06A42470F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0E4B-6784-4BBA-B766-00CF1FD9DA7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E90F-413A-4B0A-B505-065D2719FB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The County of Agenth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8410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es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About Agenth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An island off the coast of Lokil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A Tropical Paradise in the Indian Oc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On The Verge of An Economic Overh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Investment Opportunities Gal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Proposed 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Contact In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opyright, Concept &amp; Creation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Geetesh Baj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cp:keywords/>
  <dc:language>en-US</dc:language>
  <cp:lastModifiedBy>a</cp:lastModifiedBy>
  <dcterms:modified xsi:type="dcterms:W3CDTF">2014-07-19T08:54:35Z</dcterms:modified>
  <cp:revision>38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