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E7E-9FD6-4DFD-9426-43C2D7E0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42D2-A65D-4244-84DE-AAD3B588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E64-E90D-4F65-8F80-722F0724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B787-8947-4655-B69D-801D0CA1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6BB2-7933-4A4B-B565-E136E861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42AC-8C8D-4F19-85FB-C4D75E3E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850C-B4DE-4CAA-8412-6A6DC4E9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1827-CCD0-4229-9C3D-C008138B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723D-F24F-4B0C-B529-9FC0585F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39E6-84C2-440C-B7AF-4116A97B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4F2E-E934-4CC1-A418-6117E6D0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7491-0240-4517-8305-8FC547E1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332E-7553-4A85-B6C1-D2B16D92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A796-945C-45BD-9AD4-02FB24AE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9E9E-FD7C-462D-94D2-EA7D9967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BA2F-2D5E-4348-A8BE-96E0B9D6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2BFB-0AA3-465F-8671-0AD00970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1B49E-720E-48C1-A033-0A884E97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4D358-ED35-4507-952C-A443563B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6E63F-5D1C-4D95-85EA-A7A3BF4F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58E3F-C86C-415B-9517-9ED8AC57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7CF3C-C8B9-448B-8905-69902847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9D55-B7B3-49B7-B8FE-7EE615C2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28F6D-2F88-4CC9-8A9C-A5BD994D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B442B-A0E9-4214-B421-DFA615FF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35324-E2F5-4C44-9589-10CF6321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9C90B-BED0-49DC-A5F4-73FA5390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6BC53-01AE-44EB-8A9A-2F93B293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A0BB3-2442-4FC2-B0F7-159851E2E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0A520-A450-498D-BECE-DA81CD5C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A600-F50B-4B70-BE78-52E94F64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50D-9344-4F5D-A808-C6DD6A7E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2853-0E4F-4391-A050-12FB22F9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F928-3ACA-4503-ACB3-FFE177D7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1E00-1154-46D4-95E3-134D6F0B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046B-1519-4BCF-83FC-EE0B4629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arming 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0680" y="944280"/>
            <a:ext cx="8702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2203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382840" y="638136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101080" y="6381360"/>
            <a:ext cx="822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C40F-1AA6-43A3-833D-60630F5A127E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752120" y="14436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FF1E-CE0E-4B20-A52E-95ECD281937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C705-E236-431F-9922-51D11BE12AD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arming 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220680" y="944280"/>
            <a:ext cx="8702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752120" y="14436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2203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2382840" y="638136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101080" y="6381360"/>
            <a:ext cx="822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1ECB-6266-44DC-B0E1-9C7732E63978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371628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08000" y="836640"/>
            <a:ext cx="8928000" cy="525636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692360" y="108000"/>
            <a:ext cx="7505640" cy="57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26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120" y="14436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0680" y="944280"/>
            <a:ext cx="8702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1:20:06Z</dcterms:created>
  <dc:creator>yang</dc:creator>
  <dc:description/>
  <cp:keywords/>
  <dc:language>en-US</dc:language>
  <cp:lastModifiedBy>a</cp:lastModifiedBy>
  <dcterms:modified xsi:type="dcterms:W3CDTF">2014-05-31T02:18:32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