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6A4D-CDEE-44A6-97D9-8A15E15134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本模板来源于网络，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网整理发布，免费分享给大家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网是国内最专业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分享网站，所有模板均经严格测试，保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载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精彩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更多精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，敬请访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www.17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用时删除此备注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914-0FB8-4FE1-9E17-E7C2F175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156-DA3E-448C-B4BE-6BA32EA5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F34-14D6-4E93-A50D-07BA7C47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764-D475-4DBF-8DAD-E23E2B5A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6DAE-9592-430F-8D36-433D2312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B1B-670C-4FF8-A5B4-0307A71D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60C6-E339-40E3-9CC4-F911AB78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6DA8-5AEA-4A08-8F5B-107CC3CB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609A-A1A4-42FA-B54B-44171F6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80F-79A8-42B2-B72E-407ACB9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6B0-2E98-4BFF-AB4B-7E436DA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B93-3BA1-456E-BCBE-6925B12E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3CF-B703-4B7A-B59A-BFD9C569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FA2F-0388-4883-89D5-BE810D45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3EA1-ACD1-4978-ABFD-F7677D2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4997-6F9F-4D42-907F-8D46ED48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390-ED85-4074-A120-B3DD8BA2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47BF-F772-45C4-87C9-0C31DC65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56C7-9679-41CD-9C4B-81805EC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3EE0-1F0D-42C2-A8FE-7E8827E0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655E-44DF-4225-BB0C-9CBBB36B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F9A9-2118-4BF6-BBEC-2A9EDC50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B1F-BCB1-443B-9AA5-F2E7FF3D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F581-0A68-4156-B48F-6BC52B1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B93A-FCEE-4179-ADDD-5416EC9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C856-A520-46E3-AC7A-81F9008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118E-3344-462E-8774-45BD2AC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B6BF-D2AF-40A7-A854-4024F120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7CE2-C90E-40E0-BDFE-AE74EDA8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A45C-A7A3-4CA1-B33F-41D6445F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32E-7124-48C4-B15C-C24D5F1A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01C-EB87-4D0B-BA6D-985AAA0D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C4F-634B-4EF2-8C16-15E4A5EE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4ED-9618-4261-B51B-FE233DF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8C2-2B57-40B1-9CDE-F90EB34C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3B4-DC04-41A4-9D84-DFA2EF2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7159-D055-418E-80D4-C70464098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5238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00EB-3E1D-4B35-95B7-F059491EB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C57C-96D0-4F4F-8D01-B15A4CD7DE8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7C3A-E9F2-4DD8-A9C1-276076E64C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85800" y="128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幻灯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1371600" y="288612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添加副标题或公司署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a</cp:lastModifiedBy>
  <dcterms:modified xsi:type="dcterms:W3CDTF">2014-07-20T08:03:20Z</dcterms:modified>
  <cp:revision>46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