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D51-9E27-49EF-8433-F6195565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3CD-FCFE-41A6-87E9-8E1457BE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1A2-D4F6-4318-BE24-9DF4DECE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6E2-9304-4E70-9308-FDD35E88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3E39-B58F-4D83-BB3B-74B24FBB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C470-C4E5-42A7-953F-91DECF8A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4500-61D3-411B-AC22-ADC63E0B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E5E-7892-4DDB-97CE-4CFB7749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AE15-EE03-4B9E-BA39-0E19DCD3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F7F4-7CA5-4D5C-81C6-12BC685E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15DD-849B-479F-9DFC-CD1B4B9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601-225F-469B-883B-DCB3D0B9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D584-C5E8-40D5-A985-EF4F1072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3D1C-A2E7-41A9-9172-B11C559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7A2D-4C42-4AF9-97B2-B37F31A3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D313-DDF6-460A-A032-1336BD07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F3CF-6688-4B12-9506-D6FA4D6E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9D05-63E0-48E9-A596-6CE978B2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3DA4-61D2-43C7-8D37-A412D7E6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A2DD-7AF9-4715-9F4F-FF264AED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E154-8EED-41CF-BDA2-CEF0D8E2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36E6-4E25-4043-8A87-8193700F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447-3EB0-463B-8A93-59F3321C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5D33-7CEF-49B9-B6BD-C53FB448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8F84-FCF7-4712-9B93-F7B73A5B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AC69-9365-4B3A-A754-5180F049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5F19-FE47-4ED0-9422-66574AF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74F7-CE5E-4515-A480-87CCCA5C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6C80-342D-41C3-84AE-1F697A09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5F69-93D1-4A2B-8BD5-D03E6712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A8F-0F0C-4AF5-A38F-B86C9CB6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7BD-09E7-49F2-A145-70FCCDD9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5A5-CBE7-410B-9627-FE7A71D9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C91-27D7-4888-94DB-402AE336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FE8-1EFB-42BF-9D15-4863ED91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22C-42D8-472E-AE74-99655A02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D3DD-6CF5-40E9-A756-A32941C466B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86DA-BC68-4255-B2C9-E9187FE176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073F-AB52-4CEA-83E7-BDD27C82A7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1BCA-221F-4430-B9C2-15210A022E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enu"/>
          <p:cNvPicPr/>
          <p:nvPr/>
        </p:nvPicPr>
        <p:blipFill>
          <a:blip r:embed="rId1"/>
          <a:stretch/>
        </p:blipFill>
        <p:spPr>
          <a:xfrm>
            <a:off x="15840" y="3024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F:/Z-杂货集/WPS-ppt大赛/1.png1"/>
          <p:cNvPicPr/>
          <p:nvPr/>
        </p:nvPicPr>
        <p:blipFill>
          <a:blip r:embed="rId1"/>
          <a:stretch/>
        </p:blipFill>
        <p:spPr>
          <a:xfrm>
            <a:off x="15840" y="3024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:/Z-杂货集/WPS-ppt大赛/2.png2"/>
          <p:cNvPicPr/>
          <p:nvPr/>
        </p:nvPicPr>
        <p:blipFill>
          <a:blip r:embed="rId1"/>
          <a:stretch/>
        </p:blipFill>
        <p:spPr>
          <a:xfrm>
            <a:off x="0" y="28440"/>
            <a:ext cx="91044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F:/Z-杂货集/WPS-ppt大赛/over.pngover"/>
          <p:cNvPicPr/>
          <p:nvPr/>
        </p:nvPicPr>
        <p:blipFill>
          <a:blip r:embed="rId1"/>
          <a:stretch/>
        </p:blipFill>
        <p:spPr>
          <a:xfrm>
            <a:off x="0" y="28440"/>
            <a:ext cx="9104400" cy="6829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F:/Z-杂货集/WPS-ppt大赛/over2.pngover2"/>
          <p:cNvPicPr/>
          <p:nvPr/>
        </p:nvPicPr>
        <p:blipFill>
          <a:blip r:embed="rId2"/>
          <a:stretch/>
        </p:blipFill>
        <p:spPr>
          <a:xfrm>
            <a:off x="0" y="28440"/>
            <a:ext cx="91044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F:/Z-杂货集/WPS-ppt大赛/个性.jpg个性"/>
          <p:cNvPicPr/>
          <p:nvPr/>
        </p:nvPicPr>
        <p:blipFill>
          <a:blip r:embed="rId1"/>
          <a:stretch/>
        </p:blipFill>
        <p:spPr>
          <a:xfrm>
            <a:off x="0" y="2844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4T02:33:37Z</dcterms:modified>
  <cp:revision>1</cp:revision>
  <dc:subject/>
  <dc:title>PowerPoint 演示文稿</dc:title>
</cp:coreProperties>
</file>