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09E-659D-4ADF-A6EE-0CE46FE6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F29-B761-4C98-A69E-BF3C814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0FD-F323-44A5-B5EF-58C57683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571-1E8A-497B-8056-503CCCA0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6BC-3343-4FE5-B509-68431BB1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A3E-C06B-4E18-8C13-5FC0B96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77D0-3B03-42A0-A6A8-3C413B4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065C-B7FE-46C2-BA6E-0D9C7EC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3E1-81E1-4133-8317-F4428F6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7B63-780E-4771-997D-85537D3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952-6D85-4DAC-BE7E-BC0024F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3B0-CEB9-4EAC-B07B-5966356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961-93E8-4A1D-BE04-FB5A52A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211-CCCC-4017-8976-6D19712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738-54C5-4F6F-9055-6CD3D6A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56A1-3C67-4D2D-9470-AA584DBE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3ABF-E857-46A5-9E0B-B271CB23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763-4149-430E-B7D1-218735C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777-09DB-4875-AF42-7199BCD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B17-2C96-4B15-9F7B-0624E182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31E-DFE3-4E50-B1DB-2B674FD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A80-A69B-4804-88AE-A941998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171-B1A3-4F27-BC94-6B0D8FE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9C5-F654-4DCB-973A-18A7EDD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039-9241-4C98-B26A-9147C0C8E9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AF36-0876-4B09-B9F9-731C039681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3B89-53D0-4AC1-9141-83855B23A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cc00"/>
                </a:solidFill>
                <a:latin typeface="Impact"/>
                <a:ea typeface="微软雅黑"/>
              </a:rPr>
              <a:t>DO</a:t>
            </a:r>
            <a:r>
              <a:rPr b="0" lang="zh-CN" sz="11700" spc="-1" strike="noStrike">
                <a:solidFill>
                  <a:srgbClr val="000000"/>
                </a:solidFill>
                <a:latin typeface="Impact"/>
                <a:ea typeface="微软雅黑"/>
              </a:rPr>
              <a:t> </a:t>
            </a:r>
            <a:r>
              <a:rPr b="0" lang="zh-CN" sz="6000" spc="-1" strike="noStrike">
                <a:solidFill>
                  <a:srgbClr val="99cc00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68720" y="38718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full of vig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9"/>
          <p:cNvSpPr/>
          <p:nvPr/>
        </p:nvSpPr>
        <p:spPr>
          <a:xfrm>
            <a:off x="733320" y="124920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vig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89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92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95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76720" y="145080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mprobable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convincing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076720" y="909720"/>
            <a:ext cx="343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0:04Z</dcterms:created>
  <dc:creator>yellownancy</dc:creator>
  <dc:description/>
  <dc:language>en-US</dc:language>
  <cp:lastModifiedBy>a</cp:lastModifiedBy>
  <dcterms:modified xsi:type="dcterms:W3CDTF">2015-01-14T17:21:2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