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EED6-4CC0-42BC-8AF3-A0069F67B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C3BF3-F55B-496D-804E-F2BBDB293B2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0C5294-407A-4AC8-B7A3-E0476D8F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418D05-7B0E-4081-87AA-0C706768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55769E-1F41-4BDE-983B-E4C4F7B6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EDE8D1-0326-443A-ACD1-C177CE7A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C461B8-6A94-497E-AF92-93BF63C7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9D408B-65E4-4624-A7F9-5CF0423B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8C68B8-FEE1-41B9-AB36-52B24080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7D5DA3-17CF-40FF-9267-4B48D7EF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97B598-CF1F-4D4E-BD35-73642246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8280B-CAB7-4CF2-B18A-BF6CDD1E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D80D-17B4-43F5-AA33-06C479F5686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D4C55C-4159-46CA-8FF9-4E2AF8B2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7B09E-6570-4D08-9932-A90FBA56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F50C5B-83DA-484C-B260-9440FD4F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34584-0154-4607-AD18-E534D14B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D1EDF-5A83-491D-9685-50269BCB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BF26A-844C-43F0-9E08-23DB4568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9063B-97CD-4449-816B-E79F193A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56E4A0-F5D8-4043-8305-B0293599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A189F-8EA8-40E8-A059-E547D586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660B8-3622-411D-BB07-4747ED35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783D-8D52-48C1-B96C-036D38E5F89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83B90-D2F8-4F7D-87C8-CF27195D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FE49F9-A8F7-46F8-8C25-CD4B5B97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B71F71-4596-4C71-B08D-5614042A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D8131-B0D8-4AE6-B44A-2FE8C627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4B6A7-9519-4AB9-9A5C-0BA9255B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89CE66-C44B-4825-9468-544F5E40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D0048-256C-4091-B300-FEC06A62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D3282-1AE2-4305-90D4-D0F4D600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F5E80A-5E09-4909-A2C4-8C08C9F8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D1A41-8AC8-403B-818B-A31863E6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7C542-DFA5-40B1-998F-3B781F79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9FD38-7A2C-4F0E-9C97-21C9BBA9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2A81E-35AD-4CB7-A22B-3DB29ECE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F503EB-C139-40E6-A503-44F1295D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F30A35-E68C-4FBD-8FE3-76085C90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B78D47-C3F5-445E-A72D-97E85ACE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778DDB-D0B5-4BCE-B394-95DFFB94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8621D1-2FC2-4BF2-B0F5-55272139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687278-9571-4823-90F8-02553E35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4D85AA-D293-4E0F-A5E2-24DCD8EA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A5E0E5-8619-4454-AA49-5C5D0B12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36CF9B-BE93-4096-B511-4E99F5F6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3EA23C-440C-4443-9D48-BDA8A4F3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0471BC-4336-4488-9680-6D1E292A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2B6422-D9FC-4498-BF26-3D5B95F4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2A4D9-32CD-4E9F-81BA-D692D710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AFDBD-2048-40A0-8E54-1483E447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56013-B412-47C6-803F-DF6DE2DB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D2F42-A224-4F1F-A5EC-410932FF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8A1F99-A3A7-49E6-90BD-6D9A4263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4BD76-27FA-41B3-949B-D13D35B8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026F3-ED99-4A16-8A09-29A56397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14C04-1DF3-4CEB-A0D5-E277633D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4B20CD-4C56-4363-9DE1-739EA7BD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0D30B-8AE7-428A-8993-5C64A49B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8C492D-4FAC-4012-A859-8B05A6F9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1D82F-8359-419C-8EAF-D49EF38B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5904BA-55DB-49F4-873E-2EB4CAF1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458C20-662E-4A9F-883C-61F57327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D4B245-B913-416F-87D4-96BB82FA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F2A136-D271-4DEC-AB99-0B968486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1635954-5BB2-4281-9C5D-7D1B5B61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FCBA1F-AEB4-4602-B62F-D316666F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DBE9B3-74C3-499D-91D2-FEB4EC86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5FB4E1-291D-40D5-AB03-61C1750C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BAB0D6-7F3A-4264-88B1-1059E45C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CDF6BB-94AC-4798-95AE-815B8372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45A8FD-500E-4ADC-AB4C-6B07E0AF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E1B394-FB05-4844-9623-20611D73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6E63-DB6E-4670-B4A6-22DAC1B32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DBC0F-606D-4896-A4A7-B7478AD1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0DFC0-885B-427F-B77D-A343D5A4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115C3-946D-4B74-A0D7-3380CB19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FDA30-6EA3-459E-A29C-CA033843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F8D66-762B-4024-AEF7-CEB40A22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30C9-B4D7-46C0-AA53-463A1B4913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8778F-B65B-4C0C-A85D-6FF51361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3A465-2953-4818-97BC-A375B4CF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25244-169A-4E3D-88F4-5D9E4797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71533-470E-4CB9-ACDC-543C446F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0D7F5-FC5B-4DB0-800E-805366E7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CAEC5-5702-4B40-8060-5AAE2075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7C7F9-0013-4EFA-8299-B6F0BAB2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572C69-752F-4663-AC1D-1861F214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165F8-EBED-40BA-9781-ED011641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5B532E-A67F-485E-8165-E0952A01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AEB0-0723-4439-A396-51731E0C2A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B08229-D857-47E3-8BCA-5D89592A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C5236-F585-4448-814C-D0AAAB82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AA490F-6214-48E4-B4AA-03BABE2A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C42B2-7A35-44F8-A78D-C915782F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D19982-2472-47F6-8C74-6C637382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7DED2-93AD-4EC2-9DEC-E628A2FA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D81D76-4D60-4684-A52A-0F01AFF5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2503AE-4DA8-4F29-867D-6CB558A1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3049D-E51B-4987-A2B2-45E5638A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66506-42B2-49F5-9A34-B8C7D07B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A63F-8F8C-4091-9CE8-821B1FBBA8A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CC24FF-FD9F-498E-9F08-7DC325A5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C04E54-AB4B-43B1-8A93-6DCAB61F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E75F05-9B89-4B5B-B645-6CD1EA37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D8BBE8-0784-4148-BEB6-0A61387A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2E0844-D7A1-42F3-8952-43A41DB4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3B9774-2D58-4870-BA20-E942508C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E03ED-206F-4D6B-BE6A-701917E7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B9B210-A3AE-40FB-941C-CF4B9440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AA7C1F-9CB8-4E32-AAB7-AB67A7FA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7478CB-2C26-484A-9D81-D8986130C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25AC8-A1DF-4B2A-A1D3-338AFDC4C54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BED44-C032-43EF-9A48-0CB7CE6C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BE4148-45CB-44CF-8CD0-99F00D9E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BED399-DD68-4614-BC8E-379FE570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D3FC80-0FBF-4A33-A2BE-A2824446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6F88EF-F3D1-4EFE-9CEB-A7FF1D09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25ECA9-CFE6-41A6-8F00-D170A077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402486-DFBC-4E85-ABB3-516EF88B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12130E-578B-41B5-89AE-E8E02942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B914C5-03F7-4F7C-8378-7B2603CF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134575-2512-460D-BF96-4209895E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0F4E-8F89-4E65-A532-DCDC6AB0D6F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555DB4-5EE2-4367-B68F-00C94413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E21459-4EB6-400C-996A-0215B05D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8583C2-5155-4DA4-93F0-EBBC4ADE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69D7C0-43D6-4A00-94F3-301FE369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5CD67E-F53B-41F6-A926-3EF89CD1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8E0890-7546-4578-8E28-68E033E2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F9DEAF-7D32-44C7-AD85-FA424F61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0924ED-5430-46C8-BB7A-AD7F15B1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7F3F20-A0E3-4D08-A0F5-5F1EC0AF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C3DEEC-D105-4674-ADE2-94570890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ACB8-9112-4013-A8D9-0EEB79AF09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475FCA-4EC0-4532-B4CE-491B12D5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CF6014-8C1E-47E0-85A1-EB97935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A8A05C-D05E-4081-9D77-7234DE54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E92429-B20C-4EFC-8117-249176C4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BEB395-D626-4063-AA98-250B8230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3A8CDE-01F1-41A8-A8B1-DD14FF7F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47C9FE-08C6-4CF3-986C-831BC77E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CD46EE-AD58-4C71-99DA-F63D628D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06AA44-9544-4539-A6E0-7F5CB074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A53DB5-F9CE-420E-A0FC-F02ED424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402F-D63A-4DBE-AF07-1B8E9963974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DEF5F5-5960-4C71-B4ED-158B57D6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EDC44-0438-4B74-9DFE-C4931564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DBD597-792B-4A92-BEA0-933010D6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F90611-31AB-49FB-9518-94DFEBF0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E16527-A2C2-43F2-8CEF-C8EC2DF9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A00AA3-C968-433A-B248-594F8FD7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AD93A3-AE1B-428C-B062-27E55394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848DEF-8379-4A13-9AAB-64E8B298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0837D0-1956-4904-A80B-4BA93B36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D5D173-E821-4CC5-B644-4124BA94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2" descr="bg2"/>
          <p:cNvPicPr/>
          <p:nvPr/>
        </p:nvPicPr>
        <p:blipFill>
          <a:blip r:embed="rId2"/>
          <a:stretch/>
        </p:blipFill>
        <p:spPr>
          <a:xfrm>
            <a:off x="-31680" y="-22320"/>
            <a:ext cx="9175680" cy="68803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36000" y="630864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3813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DC3704D-4E02-4DF1-8A4A-8AE6D73E94D0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284292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10A5-CF37-4788-91B9-F7B8468B716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9C18-784A-4B80-B4CE-D50A527A58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5E6D-4C02-4ABD-A9DC-B599F90196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137A-30F8-4B4A-8526-FAAAE8A4D6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5DEC-B224-4E67-841B-A95456CA3B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AEC8-0B7C-4B41-9A8A-5623278C54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BC1E-A589-40E7-B7E5-09E1562D0CD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DFF7-89D0-45DE-886A-6966B397D9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0F9E-34A0-48DB-9BD3-CB4E7BE80C0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F0A4-5CF4-4A01-8775-63E8CC3CC1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5" descr="bg1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84292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77C3-D692-4BF9-A2FD-1C70C6DE8F9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CF9D-C0EE-4293-B8B4-559AE09366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F7FD-4577-44A4-85C9-CE23AEA922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11A6-336F-4863-ADC1-E6E1E40532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D1CE-EFBF-4719-B916-3284BA962F6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A541-7ED7-4033-8A14-79053B27AB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1024-1225-4170-A6C1-7EBD8CC958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17A4-4418-4262-ABFE-42B9FE4E6A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0BED-3325-4955-A6F7-CB3E48A9B3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767D-2748-4B1A-B4A9-99E75DB4FF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F1DA-DFFB-4DE5-BD47-F9D783A685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3749-5005-46FF-A125-AE87EADADD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AEFA-1FBB-4400-AB26-931075A8FF1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E40B-B956-4F20-8239-FC0E482F85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WordArt 11"/>
          <p:cNvSpPr txBox="1"/>
          <p:nvPr/>
        </p:nvSpPr>
        <p:spPr>
          <a:xfrm>
            <a:off x="3780000" y="5205240"/>
            <a:ext cx="4667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单击此处添加标题文字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0"/>
          <p:cNvSpPr/>
          <p:nvPr/>
        </p:nvSpPr>
        <p:spPr>
          <a:xfrm>
            <a:off x="468360" y="63817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C186B4A-4C08-49BD-94D3-6D0F28EF4DF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842920" y="316080"/>
            <a:ext cx="58323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yellownancy</dc:creator>
  <dc:description/>
  <cp:keywords/>
  <dc:language>en-US</dc:language>
  <cp:lastModifiedBy>a</cp:lastModifiedBy>
  <dcterms:modified xsi:type="dcterms:W3CDTF">2014-07-23T08:11:37Z</dcterms:modified>
  <cp:revision>22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