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082-D8AB-4264-AD30-32406F25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0AD-0D51-41EB-BA86-7FA552AD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507-C53C-4FD9-B0DB-E953D7BD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5C6-F262-47E0-BFC8-E92061FE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E5E-ED02-4F2E-9503-5EE5DF88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506-D14A-45BF-82C2-0009CA7D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55F-DA2E-45D4-B6B3-B3680D13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13F-6818-4FB5-B318-89E87F99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7A3-5EAF-4270-9D0D-D29B2BF3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954-477C-4CA0-946D-76082C01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CC5-CBF0-4759-BBC7-12439D96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7AD-3C13-4F03-B02B-1C8C04DF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149040"/>
            <a:ext cx="8223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981000"/>
            <a:ext cx="8223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eea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7eea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7eea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7eea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7eea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0" y="785880"/>
            <a:ext cx="9144000" cy="50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6845400" y="785880"/>
            <a:ext cx="1847880" cy="50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"/>
          <p:cNvSpPr/>
          <p:nvPr/>
        </p:nvSpPr>
        <p:spPr>
          <a:xfrm>
            <a:off x="5783400" y="785880"/>
            <a:ext cx="1846080" cy="50760"/>
          </a:xfrm>
          <a:prstGeom prst="rect">
            <a:avLst/>
          </a:prstGeom>
          <a:solidFill>
            <a:srgbClr val="005e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5265720" y="785880"/>
            <a:ext cx="1049400" cy="50760"/>
          </a:xfrm>
          <a:prstGeom prst="rect">
            <a:avLst/>
          </a:prstGeom>
          <a:solidFill>
            <a:srgbClr val="007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7123-7251-4418-BB99-4BADDD8897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3F43-9713-41B6-89A8-D273365555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720" y="147240"/>
            <a:ext cx="82425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图示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11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0720" y="1123920"/>
          <a:ext cx="8242560" cy="4727520"/>
        </p:xfrm>
        <a:graphic>
          <a:graphicData uri="http://schemas.openxmlformats.org/drawingml/2006/table">
            <a:tbl>
              <a:tblPr/>
              <a:tblGrid>
                <a:gridCol w="1148040"/>
                <a:gridCol w="885600"/>
                <a:gridCol w="887400"/>
                <a:gridCol w="885960"/>
                <a:gridCol w="888840"/>
                <a:gridCol w="885960"/>
                <a:gridCol w="887400"/>
                <a:gridCol w="887400"/>
                <a:gridCol w="885960"/>
              </a:tblGrid>
              <a:tr h="561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5" name="AutoShape 165"/>
          <p:cNvSpPr/>
          <p:nvPr/>
        </p:nvSpPr>
        <p:spPr>
          <a:xfrm>
            <a:off x="2046240" y="2019240"/>
            <a:ext cx="2293920" cy="374760"/>
          </a:xfrm>
          <a:custGeom>
            <a:avLst/>
            <a:gdLst>
              <a:gd name="textAreaLeft" fmla="*/ 0 w 2293920"/>
              <a:gd name="textAreaRight" fmla="*/ 2294280 w 22939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5e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8"/>
          <p:cNvSpPr/>
          <p:nvPr/>
        </p:nvSpPr>
        <p:spPr>
          <a:xfrm>
            <a:off x="4240080" y="2759040"/>
            <a:ext cx="1792440" cy="388800"/>
          </a:xfrm>
          <a:custGeom>
            <a:avLst/>
            <a:gdLst>
              <a:gd name="textAreaLeft" fmla="*/ 0 w 1792440"/>
              <a:gd name="textAreaRight" fmla="*/ 1792800 w 17924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5"/>
          <p:cNvSpPr/>
          <p:nvPr/>
        </p:nvSpPr>
        <p:spPr>
          <a:xfrm>
            <a:off x="3386160" y="4265640"/>
            <a:ext cx="4403880" cy="376200"/>
          </a:xfrm>
          <a:custGeom>
            <a:avLst/>
            <a:gdLst>
              <a:gd name="textAreaLeft" fmla="*/ 0 w 4403880"/>
              <a:gd name="textAreaRight" fmla="*/ 4404240 w 440388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8"/>
          <p:cNvSpPr/>
          <p:nvPr/>
        </p:nvSpPr>
        <p:spPr>
          <a:xfrm>
            <a:off x="6032520" y="3511440"/>
            <a:ext cx="1774800" cy="39060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8"/>
          <p:cNvSpPr/>
          <p:nvPr/>
        </p:nvSpPr>
        <p:spPr>
          <a:xfrm>
            <a:off x="5587920" y="5006880"/>
            <a:ext cx="3054600" cy="389160"/>
          </a:xfrm>
          <a:custGeom>
            <a:avLst/>
            <a:gdLst>
              <a:gd name="textAreaLeft" fmla="*/ 0 w 3054600"/>
              <a:gd name="textAreaRight" fmla="*/ 3054960 w 305460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1:55:57Z</dcterms:created>
  <dc:creator>Administrator</dc:creator>
  <dc:description/>
  <cp:keywords/>
  <dc:language>en-US</dc:language>
  <cp:lastModifiedBy>a</cp:lastModifiedBy>
  <dcterms:modified xsi:type="dcterms:W3CDTF">2014-07-16T08:58:19Z</dcterms:modified>
  <cp:revision>1</cp:revision>
  <dc:subject/>
  <dc:title>图示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