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5D6-E0B9-43C8-B93F-CC1B21B6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802-D2C0-4977-81AD-DF93EA85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D84-BF90-4E41-A602-B90434D4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59D-9155-4F56-89DF-96798073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E8AC-8F75-40F5-8A54-DD013EF2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D040-ED71-4658-A029-0CAE948A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5218-629F-4B47-85A2-6F19183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4476-23CB-4B8F-8DF2-D84876B8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13D8-5520-41A4-932A-54966195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1946-5056-44A7-93F4-E788B112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1EB6-9C07-4B18-B8B9-3B06CCE1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7C7-AAB0-4CFF-BFA4-CEDC3673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24E6-F407-4EAF-8F20-156FBF1A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AB4E-159F-4C86-BDE7-8880F79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88D1-A53F-4CC8-A4DF-EDF073ED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C05A-2DE4-4A37-A092-EF4D7AFF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04BA-BA79-4429-ADB8-78A64C30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F2AE-EA2A-4D36-A2FB-6CA01505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B841-F0D6-430D-94ED-6C9603D3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6AC4-9A92-4809-9CD4-9E897310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194CA-3847-4580-9D41-7989D36B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29A3E-B2C2-4B10-80C0-DF7ADF19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E6B-E662-4202-8C38-878689AF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6EA5-F617-4628-BE5A-2F6EA950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85E76-687B-41D3-B84B-EAD254E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8F8B2-AA54-4AE2-878D-3184B8C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3889-BEF5-492C-B852-8D634C24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94493-2B0E-4D60-BCD9-DBD863D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47D4-E2AF-4EC7-85D8-DCC4DBA3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B7D0-F22B-4D11-A8AD-8470974F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B12-4B75-468A-92C2-80395345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A21-235A-4250-8D8D-6BA52ABC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0C3-755B-4A45-8EDA-FA628A68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378-67AA-4E4C-BBE9-18F37FEB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41E-AB98-4DD4-AA75-2BB9F58A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107-D3E3-40BD-975A-DE70B969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E14D-0CB7-4E15-9E4A-9078F92931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0520" y="6453360"/>
            <a:ext cx="9175680" cy="40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5625234_021223833100_2"/>
          <p:cNvPicPr/>
          <p:nvPr/>
        </p:nvPicPr>
        <p:blipFill>
          <a:blip r:embed="rId2"/>
          <a:stretch/>
        </p:blipFill>
        <p:spPr>
          <a:xfrm>
            <a:off x="8167680" y="5878440"/>
            <a:ext cx="843120" cy="8431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5625234_021223833100_2"/>
          <p:cNvPicPr/>
          <p:nvPr/>
        </p:nvPicPr>
        <p:blipFill>
          <a:blip r:embed="rId3"/>
          <a:stretch/>
        </p:blipFill>
        <p:spPr>
          <a:xfrm>
            <a:off x="7745400" y="5610240"/>
            <a:ext cx="844560" cy="8431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5625234_021223833100_2"/>
          <p:cNvPicPr/>
          <p:nvPr/>
        </p:nvPicPr>
        <p:blipFill>
          <a:blip r:embed="rId4"/>
          <a:stretch/>
        </p:blipFill>
        <p:spPr>
          <a:xfrm>
            <a:off x="7745400" y="6014880"/>
            <a:ext cx="844560" cy="84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76E0-37B6-47CD-8467-7ACFD9E556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F85F-B899-4A55-A235-7FB12A1BA0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0D90-4CA8-4C44-BB9A-A3FF6B3BE6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5625234_021223833100_2"/>
          <p:cNvPicPr/>
          <p:nvPr/>
        </p:nvPicPr>
        <p:blipFill>
          <a:blip r:embed="rId1"/>
          <a:stretch/>
        </p:blipFill>
        <p:spPr>
          <a:xfrm>
            <a:off x="1538280" y="404640"/>
            <a:ext cx="5805360" cy="5805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2556000" y="2644920"/>
            <a:ext cx="39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f1524"/>
                </a:solidFill>
                <a:latin typeface="Arial"/>
                <a:ea typeface="微软雅黑"/>
              </a:rPr>
              <a:t>圈圈点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1836720" y="1701720"/>
            <a:ext cx="5986440" cy="3292560"/>
            <a:chOff x="1836720" y="1701720"/>
            <a:chExt cx="5986440" cy="3292560"/>
          </a:xfrm>
        </p:grpSpPr>
        <p:sp>
          <p:nvSpPr>
            <p:cNvPr id="130" name="AutoShape 3"/>
            <p:cNvSpPr/>
            <p:nvPr/>
          </p:nvSpPr>
          <p:spPr>
            <a:xfrm rot="10800000">
              <a:off x="2453400" y="1701360"/>
              <a:ext cx="5369760" cy="915120"/>
            </a:xfrm>
            <a:custGeom>
              <a:avLst/>
              <a:gdLst>
                <a:gd name="textAreaLeft" fmla="*/ 0 w 5369760"/>
                <a:gd name="textAreaRight" fmla="*/ 5370120 w 536976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>
              <a:off x="2761920" y="1701720"/>
              <a:ext cx="506124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0" rIns="391320" tIns="209520" bIns="209520" anchor="ctr">
              <a:noAutofit/>
            </a:bodyPr>
            <a:p>
              <a:pPr algn="ctr">
                <a:lnSpc>
                  <a:spcPct val="90000"/>
                </a:lnSpc>
                <a:spcAft>
                  <a:spcPts val="2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"/>
            <p:cNvSpPr/>
            <p:nvPr/>
          </p:nvSpPr>
          <p:spPr>
            <a:xfrm>
              <a:off x="1836720" y="1701720"/>
              <a:ext cx="1233360" cy="915120"/>
            </a:xfrm>
            <a:prstGeom prst="ellipse">
              <a:avLst/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6"/>
            <p:cNvSpPr/>
            <p:nvPr/>
          </p:nvSpPr>
          <p:spPr>
            <a:xfrm rot="10800000">
              <a:off x="2453400" y="2890080"/>
              <a:ext cx="5369760" cy="915120"/>
            </a:xfrm>
            <a:custGeom>
              <a:avLst/>
              <a:gdLst>
                <a:gd name="textAreaLeft" fmla="*/ 0 w 5369760"/>
                <a:gd name="textAreaRight" fmla="*/ 5370120 w 536976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761920" y="2890440"/>
              <a:ext cx="506124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0" rIns="391320" tIns="209520" bIns="209520" anchor="ctr">
              <a:noAutofit/>
            </a:bodyPr>
            <a:p>
              <a:pPr algn="ctr">
                <a:lnSpc>
                  <a:spcPct val="90000"/>
                </a:lnSpc>
                <a:spcAft>
                  <a:spcPts val="2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"/>
            <p:cNvSpPr/>
            <p:nvPr/>
          </p:nvSpPr>
          <p:spPr>
            <a:xfrm>
              <a:off x="1836720" y="2890440"/>
              <a:ext cx="1233360" cy="915120"/>
            </a:xfrm>
            <a:prstGeom prst="ellipse">
              <a:avLst/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9"/>
            <p:cNvSpPr/>
            <p:nvPr/>
          </p:nvSpPr>
          <p:spPr>
            <a:xfrm rot="10800000">
              <a:off x="2453400" y="4079160"/>
              <a:ext cx="5369760" cy="915120"/>
            </a:xfrm>
            <a:custGeom>
              <a:avLst/>
              <a:gdLst>
                <a:gd name="textAreaLeft" fmla="*/ 0 w 5369760"/>
                <a:gd name="textAreaRight" fmla="*/ 5370120 w 536976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2761920" y="4079160"/>
              <a:ext cx="506124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0" rIns="391320" tIns="209520" bIns="209520" anchor="ctr">
              <a:noAutofit/>
            </a:bodyPr>
            <a:p>
              <a:pPr algn="ctr">
                <a:lnSpc>
                  <a:spcPct val="90000"/>
                </a:lnSpc>
                <a:spcAft>
                  <a:spcPts val="2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1"/>
            <p:cNvSpPr/>
            <p:nvPr/>
          </p:nvSpPr>
          <p:spPr>
            <a:xfrm>
              <a:off x="1836720" y="4079160"/>
              <a:ext cx="1233360" cy="915120"/>
            </a:xfrm>
            <a:prstGeom prst="ellipse">
              <a:avLst/>
            </a:prstGeom>
            <a:solidFill>
              <a:srgbClr val="c1cce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6453360"/>
            <a:ext cx="9180360" cy="40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2771640" y="1270080"/>
            <a:ext cx="3384720" cy="3311280"/>
          </a:xfrm>
          <a:prstGeom prst="diamond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5625234_021223833100_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0680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2"/>
          <p:cNvSpPr/>
          <p:nvPr/>
        </p:nvSpPr>
        <p:spPr>
          <a:xfrm>
            <a:off x="3348000" y="1557360"/>
            <a:ext cx="0" cy="2376360"/>
          </a:xfrm>
          <a:prstGeom prst="line">
            <a:avLst/>
          </a:prstGeom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5292720" y="1557360"/>
            <a:ext cx="0" cy="2376360"/>
          </a:xfrm>
          <a:prstGeom prst="line">
            <a:avLst/>
          </a:prstGeom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43720" y="1773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Estrangelo Edessa"/>
                <a:ea typeface="微软雅黑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843720" y="27255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Estrangelo Edessa"/>
                <a:ea typeface="微软雅黑"/>
              </a:rPr>
              <a:t>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9:12:12Z</dcterms:created>
  <dc:creator>yellownancy</dc:creator>
  <dc:description/>
  <cp:keywords/>
  <dc:language>en-US</dc:language>
  <cp:lastModifiedBy>a</cp:lastModifiedBy>
  <dcterms:modified xsi:type="dcterms:W3CDTF">2014-08-12T01:58:3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