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C6427-DE38-4FAF-AB63-540AEA906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9C3D-49B7-4609-9BFE-62141786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D2626-12E1-45E4-B388-5AD2E32C80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A9327-FEED-4482-909E-75DD705BC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78508-F5CD-4A58-B275-68744AB4F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A181C-7CDB-4BA7-BB09-8BB662AA4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F7E0E-7F98-4FD5-9BF7-C8634E71D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25EE3-A0C1-4A50-95A7-3D3901B5E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3C3A20-4717-4072-95A4-D1864E5AE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E3257-285E-4772-9BD7-D957BF66D0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7CB54F-F3B6-4AE5-98D0-885665DD36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9446E7-26EB-4F86-9864-29CAB8D8FC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605E2-940C-42D6-B28D-808DEE8D5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780B1F-A509-4EF2-831F-46185D1D93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4343D6-EA8D-4C81-8AFD-8926CFF7DC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930986-13AF-4E18-AEAD-C4AA7CF3CE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6AB6F0-C929-45C5-920F-847C838493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1F9C4F-6C1A-4506-804A-B2C720838A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86DD9B-3ECB-43B0-84D4-1DD0501388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3E593D-2F25-49BF-9C2B-29F0568554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08D05-0F4C-43A3-961C-1E11D59D6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57CEF5-7F68-48DD-9378-CFA211D061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FF3B32-137A-4706-B4A1-F63CED7B53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4C1D-F3BE-41BF-B573-046BCD96E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CFA2D1C-DC51-4906-838C-DC93F49618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16913A-2380-4758-AA07-26A47B4B63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1DA5C2-A0EA-43FA-9C74-991A29C27E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AFE510-F147-4E2E-B006-5191C8FF51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040756-E7C9-4B83-BF91-1A7AC91DF2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5786DA-0FB4-495D-A540-69A5EA2953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26D0A8-08E8-4E59-BD03-4B0593519C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E29C8A-7D1E-4015-BF11-FB3162D3BB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D84F0A-D389-46B3-B3A4-3F0CBFFF67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2D682-6918-4878-9A2A-FCA3D344C1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D592E-29BD-4535-8158-45E0BDD5D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B2AC15-7710-4E49-AA32-6629107E52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DC85D9-3BA5-4BE9-96F5-C995CEA2E5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371624-6B19-4EE8-851A-1ACA433C8C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954D46-937F-40DA-889A-A63A48ECBD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982F79-CEE7-400E-AD29-81228A6ABC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0D1A9D-2D5A-4EAA-8325-A1C2D18300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C473B0-6390-4DDA-888F-A5EE55D576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E0F0CA-516C-4D0B-AE10-740A77D1A3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869F56-AF78-4564-8A7A-A513765C00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5D9047-7CD8-4CAA-8A01-C017F2818E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E561-81D6-4AF4-B78C-67A947765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EF8C51-E4A6-48A5-A2B9-715C660F09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53DC15-8F49-42D3-A06E-DA958D6FCC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13DE45-9159-4D8F-BAB3-5A8F0E459F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55A1BF-57EB-4F60-84EC-86E18E6A82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FEF2D6-693B-4F90-A8B1-5D202494BD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3A39E54-18F2-4B97-9621-500ED21654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99FFEA-AD23-49AC-98E6-F284A5D73F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E45A53-6FA6-4207-948F-7DA31DDCCE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339D83-FA84-435F-9620-69F47415AE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12DBBB-7DD8-49CE-A23B-C7A0C69C7E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7E4EC-DAF0-469F-9A6C-4899A713E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FD9F72-E57D-4071-9625-D2B1AAF360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1B0E7B-1F2F-4A4F-A648-807758F32E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50B751-7FA2-4456-BBCB-62279E45B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00DC6E-28E3-412D-9447-3CC78FA29F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B42BD8-D361-48C1-8287-CDE38C33EC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4C6ABA-2D77-4DC7-B0D9-24417E09F2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88541C-662F-4F90-8A1E-94D38B030D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0048C65-6038-4929-8D2A-478C249D66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8E3C83-EEFA-4C61-885E-73F215048B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C7AD8F-E5AA-4877-B3AB-ADC4CA4399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04D4A-F61F-4371-BEF5-A9CFA9C7E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274BB8-DCD0-4CF1-8419-E5D68C0099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E086AB-BA79-4E0D-937A-AEE7D9805B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AF4B50-9ADD-4D29-8FFF-D68E9AFF48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E387E3-BD16-4720-B958-7E94A230A9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ACAD72-1549-41B7-A5EC-DBA13E6BEB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9FBAFC-922E-4506-A9A2-A79843DB5C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F7705F-A70C-4351-8A18-39BBB923C0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502B327-72FC-4239-A9B2-4060F4C806B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6162FF-B539-49D4-B10C-AB382581D2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ADE3D-95B3-49B3-946A-1A0D1A4DD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04EA9-AD7B-4AB8-B55B-077822EA1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8AD51-6B8F-441B-AB28-442E33677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40AA-F510-4244-AFD9-68929777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9F675-1656-430E-BA8B-41C88D2E9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A1C5-FCDF-42FA-AD25-91B315BBA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15A0-EEE1-4F1A-81D5-A114FF345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8B521-4E2C-4727-A52D-B7C7B0D59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C9E6D-6757-4EA1-9065-9A61A6365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98B6B-5439-4018-991D-3D99FD65E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2BC31-3E79-4689-87F1-37C72F7E9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0D95A-1E04-4623-B67B-B184F60CF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3200D-D241-44B5-8EC7-204094D6B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4FB4E-2E2A-44E3-AAC2-A5FF13B57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EA925-09A8-4A8C-B4C2-1BE41495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299EB-2DF3-4C34-AEB0-35F6135BB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DD78A-745B-4237-A9CB-13772929D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DA108-12E8-45F4-8FBB-D3314E8DB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63A52-E9F3-4F3D-93BC-3F49E1AD6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5EA5B-B200-4873-ABA4-0357C21AA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8B7DA8-6A94-403E-B109-0EF6B00154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2DDB0-0EC0-490B-9BDD-E425AFF47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8F260-C406-4156-8AE3-4CB49D0DE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F6EDD-F641-47A8-BF9F-A3E017A4C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49312-EDA0-44A0-8D1C-479706319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13A1-8818-452F-8D67-641EFC22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8593A-5B38-40BA-8BB3-C6C197963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32048-DD71-4F82-95C0-1243940FB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56E7FD-7F1A-449F-A8AA-446A1F5ED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EB7B1-81F6-4FBB-B5C3-3CCC99DA6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FBCC7-E8AD-443F-B18C-1B2025005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49B00-D1E9-4417-B8E7-C91E753F9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5634E-6C71-4765-88B4-8E2B44227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33054-D980-4EE1-AFA3-27E24CCDCF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28C034-6922-4B87-A8A0-9CBC1CFC7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6896BA-3AB9-47AE-B4FC-674389B9C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BD061-7D8E-4F24-BCF0-53DAF3367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3C050-B461-4DC4-A5BA-CC3DEEC3C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743E6-102D-4764-AE22-11019C3D4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5F4E7-F262-4657-A464-D0ADDDDB8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A43F6-4A5C-4DF6-8EDF-A722E3F16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07C34-CB97-47A8-BE66-B47337FF96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EE809-F4EF-4CA3-88DC-4ADBB4CC1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6DBEB-ADBF-4AD7-8FE6-6D784CA54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3AA25-C98D-4C58-AB8D-0DDBCD98B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30B6F-E24D-4AA8-8067-B99DF6AC78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7406A4-8AC7-4E6B-9AF8-A0EAC23087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472F8-8541-4196-B080-E3448131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AEAAA-047F-4FB9-94F3-00D6F68BC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28333-9575-441F-B8A3-CD28382070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ECAEA-9925-4DC6-91E8-5DBB21803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47D71-BC51-4001-AB20-D91CB67CD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FBDBA7-FB61-49CD-93DB-0BC1930AA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FA989-62D0-4826-A91C-606B54108D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819AA-B1AC-4ADE-A1DF-6B84ABF23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DBC3B-4E38-4699-949C-95D80F56D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4DE8E-DFE1-4FBE-BD1E-2CD2BF8CC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84234-CD94-4040-9E36-E8F747BC6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B907-D1AB-44D2-ACAB-2DA7F487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B39951-7ABB-4716-A4DE-14C899057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5F029A-5A46-4AD9-A06A-4A38BDFD7D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FF9EE8-646D-4F9E-9862-C08AB0C166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D425BF-93D9-4728-9547-866853DE03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2EFF5-BC86-43D5-896C-C2DF2F7FD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A4870-A91E-4235-9571-0BD009DD2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F0C98-E135-4BC5-98D5-16A8B28D1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AD841-2480-4C9C-AEFD-CAA048441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39B39-FC20-4098-A4F8-D5F4B9303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ED546-43B0-4B4D-BD1D-B5F9D6484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E536-6341-422C-8F8F-3A6C1CB2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88DF8-24E8-4086-9A8E-6C653AE16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233EA-9606-4B64-AC40-6BBF0449B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3C3FD-CC7D-4BF5-8022-9B99BD402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B43BEA-4AAA-4DBA-B74C-98B9F68536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569BA6-DDBC-4960-B3CA-63086819A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F70008-AADE-4022-977C-0D8FBCAB9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D55C1-FD8D-441E-86A5-62F4781FA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3F21DC-122C-45D2-B0D6-2333DA127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83DD98-6936-4637-8D4E-ABAA05DA7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99F99-36E2-4F26-B612-B9CA0CBDE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7421B-51EB-47F0-9738-6E68272B9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305282-E234-460E-B05F-E67ACE1F4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A5DF6-5170-4072-B625-94E818E74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FBA207-A523-4833-90BD-F2D99E155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6D8CB-1702-4AA8-B3DC-2DED9A18C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975EF-48EE-41C5-928B-173FC477A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4EFEB4-96DA-41CF-97FD-D99A18734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4C29E7-DA29-414C-B3E2-8A2CE855E0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6A0870-F9D3-478B-BA97-B2B4F39D4E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92039-3F63-43B8-9879-B7D2FCECF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CB016-89A1-4F29-918C-B02921F5C8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FAB3-D410-4336-B48A-365CEAA487F4}" type="slidenum">
              <a:rPr b="0" lang="zh-CN" sz="900" spc="-1" strike="noStrike">
                <a:solidFill>
                  <a:srgbClr val="000000"/>
                </a:solidFill>
                <a:latin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CC97-ECED-4F3A-9AE3-AA15DDB7D6D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D855-EC0A-45AF-9CA7-69C702B3DB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2C32-EB8A-4A85-A597-28BABDA7EC7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800F-B862-4B38-AA4C-4ED29E991C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4125-6302-49B3-BB0B-1A154FA2DAD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58D6-FF43-4A02-B97C-BBDBD79FBA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B1AF-28E0-41C8-B142-5820EE103601}"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81A3-A224-4073-9AB1-D7810FD4EB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8251-C03B-4D00-A149-FFB2DFB2FFF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8B84-D406-410B-A56D-44055A7C00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88B4-A2E7-4B88-A8BB-4F111DDD20D1}"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E72F-3FD4-40F4-8103-0B59975385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9E98-C53F-442B-8F6D-2EB58BD938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2D0A-2D3F-498F-8A3D-3FE6B320983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48BA-787F-42BA-82EF-143C695EC9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F0A1-6DB5-4B09-A3F8-F50EF70CCBC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62CB-2B44-4406-A151-92C7D90AB5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3241-5A45-4F4C-8D3C-475C4C87553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4F81-8114-490D-83FB-3DDBE5A0DB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3040-C275-4BC6-A358-87124255C48C}"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F4B8-1E35-4815-BE73-ECD03F5096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CDD6-6524-4B83-A92B-BFC88D4A54E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6975-FBAF-4476-92C3-4861830B27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C282-F990-4850-9152-2940F62790C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4B6A-3544-4297-81A5-DFFAFFDA96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Text Box 2"/>
          <p:cNvSpPr/>
          <p:nvPr/>
        </p:nvSpPr>
        <p:spPr>
          <a:xfrm>
            <a:off x="1979640" y="1311120"/>
            <a:ext cx="314496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ff"/>
                </a:solidFill>
                <a:uFillTx/>
                <a:latin typeface="Arial"/>
              </a:rPr>
              <a:t>轻松办公</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云处理</a:t>
            </a:r>
            <a:endParaRPr b="0" lang="en-US" sz="1800" spc="-1" strike="noStrike">
              <a:solidFill>
                <a:srgbClr val="000000"/>
              </a:solidFill>
              <a:latin typeface="Arial"/>
            </a:endParaRPr>
          </a:p>
        </p:txBody>
      </p:sp>
      <p:sp>
        <p:nvSpPr>
          <p:cNvPr id="575" name="Text Box 3"/>
          <p:cNvSpPr/>
          <p:nvPr/>
        </p:nvSpPr>
        <p:spPr>
          <a:xfrm>
            <a:off x="3492360" y="5157720"/>
            <a:ext cx="4584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某某软件开发技术有限公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2"/>
          <p:cNvSpPr/>
          <p:nvPr/>
        </p:nvSpPr>
        <p:spPr>
          <a:xfrm>
            <a:off x="4284720" y="2819520"/>
            <a:ext cx="4537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01/</a:t>
            </a:r>
            <a:r>
              <a:rPr b="0" lang="zh-CN" sz="4000" spc="-1" strike="noStrike">
                <a:solidFill>
                  <a:srgbClr val="ffffff"/>
                </a:solidFill>
                <a:latin typeface="微软雅黑"/>
              </a:rPr>
              <a:t>什么是云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     </a:t>
            </a:r>
            <a:r>
              <a:rPr b="0" lang="zh-CN" sz="4000" spc="-1" strike="noStrike">
                <a:solidFill>
                  <a:srgbClr val="ffffff"/>
                </a:solidFill>
                <a:latin typeface="微软雅黑"/>
              </a:rPr>
              <a:t>02/</a:t>
            </a:r>
            <a:r>
              <a:rPr b="0" lang="zh-CN" sz="4000" spc="-1" strike="noStrike">
                <a:solidFill>
                  <a:srgbClr val="ffffff"/>
                </a:solidFill>
                <a:latin typeface="微软雅黑"/>
              </a:rPr>
              <a:t>应用范围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         </a:t>
            </a:r>
            <a:r>
              <a:rPr b="0" lang="zh-CN" sz="4000" spc="-1" strike="noStrike">
                <a:solidFill>
                  <a:srgbClr val="ffffff"/>
                </a:solidFill>
                <a:latin typeface="微软雅黑"/>
              </a:rPr>
              <a:t>03/</a:t>
            </a:r>
            <a:r>
              <a:rPr b="0" lang="zh-CN" sz="4000" spc="-1" strike="noStrike">
                <a:solidFill>
                  <a:srgbClr val="ffffff"/>
                </a:solidFill>
                <a:latin typeface="微软雅黑"/>
              </a:rPr>
              <a:t>服务客户       </a:t>
            </a:r>
            <a:endParaRPr b="0" lang="en-US" sz="4000" spc="-1" strike="noStrike">
              <a:solidFill>
                <a:srgbClr val="000000"/>
              </a:solidFill>
              <a:latin typeface="Arial"/>
            </a:endParaRPr>
          </a:p>
        </p:txBody>
      </p:sp>
      <p:sp>
        <p:nvSpPr>
          <p:cNvPr id="577" name="Text Box 3"/>
          <p:cNvSpPr/>
          <p:nvPr/>
        </p:nvSpPr>
        <p:spPr>
          <a:xfrm>
            <a:off x="611280" y="2546280"/>
            <a:ext cx="314460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轻松办公</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云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2"/>
          <p:cNvSpPr/>
          <p:nvPr/>
        </p:nvSpPr>
        <p:spPr>
          <a:xfrm>
            <a:off x="5524920" y="3063960"/>
            <a:ext cx="175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01/</a:t>
            </a:r>
            <a:r>
              <a:rPr b="0" lang="zh-CN" sz="1800" spc="-1" strike="noStrike">
                <a:solidFill>
                  <a:srgbClr val="000000"/>
                </a:solidFill>
                <a:latin typeface="Arial"/>
                <a:ea typeface="宋体"/>
              </a:rPr>
              <a:t>什么是云 </a:t>
            </a:r>
            <a:r>
              <a:rPr b="0" lang="zh-CN" sz="2400" spc="-1" strike="noStrike">
                <a:solidFill>
                  <a:srgbClr val="000000"/>
                </a:solidFill>
                <a:latin typeface="微软雅黑"/>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Text Box 2"/>
          <p:cNvSpPr/>
          <p:nvPr/>
        </p:nvSpPr>
        <p:spPr>
          <a:xfrm>
            <a:off x="665280" y="101268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rPr>
              <a:t>01/</a:t>
            </a:r>
            <a:r>
              <a:rPr b="0" lang="zh-CN" sz="2000" spc="-1" strike="noStrike">
                <a:solidFill>
                  <a:srgbClr val="000000"/>
                </a:solidFill>
                <a:latin typeface="微软雅黑"/>
              </a:rPr>
              <a:t>什么是云 </a:t>
            </a:r>
            <a:r>
              <a:rPr b="0" lang="zh-CN" sz="2400" spc="-1" strike="noStrike">
                <a:solidFill>
                  <a:srgbClr val="000000"/>
                </a:solidFill>
                <a:latin typeface="微软雅黑"/>
              </a:rPr>
              <a:t>   </a:t>
            </a:r>
            <a:endParaRPr b="0" lang="en-US" sz="2400" spc="-1" strike="noStrike">
              <a:solidFill>
                <a:srgbClr val="000000"/>
              </a:solidFill>
              <a:latin typeface="Arial"/>
            </a:endParaRPr>
          </a:p>
        </p:txBody>
      </p:sp>
      <p:sp>
        <p:nvSpPr>
          <p:cNvPr id="580" name="Text Box 3"/>
          <p:cNvSpPr/>
          <p:nvPr/>
        </p:nvSpPr>
        <p:spPr>
          <a:xfrm>
            <a:off x="2033640" y="2708280"/>
            <a:ext cx="6661080" cy="31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小标题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正文文字部分效果，</a:t>
            </a:r>
            <a:r>
              <a:rPr b="0" lang="zh-CN" sz="1800" spc="-1" strike="noStrike">
                <a:solidFill>
                  <a:srgbClr val="ffffff"/>
                </a:solidFill>
                <a:latin typeface="Arial"/>
              </a:rPr>
              <a:t>正文文字部分效果正文文字部分效果正文文字部分效果正文文字部分效果正文文字部分效果，正文文字部分效果正文文字部分效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标题文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正文文字部分效果，正文文字部分效果正文文字部分效果正文文字部分效果正文文字部分效果正文文字部分效果，正文文字部分效果正文文字部分效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Text Box 2"/>
          <p:cNvSpPr/>
          <p:nvPr/>
        </p:nvSpPr>
        <p:spPr>
          <a:xfrm>
            <a:off x="4322520" y="299736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微软雅黑"/>
              </a:rPr>
              <a:t>谢 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2" name="Group 2"/>
          <p:cNvGrpSpPr/>
          <p:nvPr/>
        </p:nvGrpSpPr>
        <p:grpSpPr>
          <a:xfrm>
            <a:off x="0" y="0"/>
            <a:ext cx="8466120" cy="6858000"/>
            <a:chOff x="0" y="0"/>
            <a:chExt cx="8466120" cy="6858000"/>
          </a:xfrm>
        </p:grpSpPr>
        <p:sp>
          <p:nvSpPr>
            <p:cNvPr id="58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8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8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7-25T01:44:44Z</dcterms:modified>
  <cp:revision>1</cp:revision>
  <dc:subject/>
  <dc:title>PowerPoint 演示文稿</dc:title>
</cp:coreProperties>
</file>