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5B0-8862-4C45-854E-7133E0C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17F-2B46-469B-948B-41AD8E55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7A1-4A9C-4B51-AF85-772BE1F2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EAA-883F-47DC-9A29-F6506058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38D-170B-43D9-A326-EC240D4A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329-851B-419A-B995-984F4A2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68E-67CC-4EC9-B496-C654F71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58A-38E8-4D06-9531-ED9AB80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FE3-86FE-4726-9224-5E5419D0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A7B-33B5-499D-994D-2317409B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029-4D55-47BB-A658-26F48A6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7DE-0968-4CD2-A561-E2EC1BA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C600-B1F8-4CDA-9E6C-D963697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4A60-C690-46BB-8F4B-413CAFC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47C-26FB-4A01-8A76-B03E69A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3C70-05D3-4D4C-A54F-CE436DD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C453-DA48-4DA5-AAA7-6A3EE85F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34DF-223D-414B-B399-739AD5D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FB29-622F-4AAB-B872-F4F36DE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396D-6477-4BAA-AC63-6012DAA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47C6-DCC3-4383-9568-9F017C63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C4B9-7681-42D9-BDA2-2A94318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163-19D4-4B77-A7EB-EFA777E4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0E4C-034D-4409-8910-AAC0F1B8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D28D-71E8-44C2-996E-50A77AD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527C-9DF3-42BD-9FE4-5B6739F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700C-3999-416E-96F4-8A1EB780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99D7-BDEA-473D-8FC4-96B2B99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8CC5-8263-4D0E-87D0-7FD8773C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FF7B-96BB-44E7-BA24-0A03C78D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65D2-24BC-4913-8B2C-1967CF9E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8855-FF87-4530-9A66-0C34044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D437-CCC8-49F7-AD84-12E96F9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AC9-1A93-47A2-BAFF-6284CA3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293F-0AD0-471F-BC1A-690F97A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8207-EBD9-414C-B91B-13C6AFD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A6A5-30C6-4EDF-A76D-B6ACE8D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80D5-8E0B-475B-9488-5329D2B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A5EA-B0F0-43C8-B08F-B288D43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8453-C249-4C49-B4FB-B00FBCB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2D6D-FF07-4C37-9398-DFC9950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9E00-C9D6-4F81-A5BD-A0EC48BC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E59E-A8E4-4A91-A399-FE27FD13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B188-9597-4CBE-B086-A8B024BE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8F7-D3F1-4B50-A3F6-0C6DF0CE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C9F0-C629-48A8-863C-94A6E041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0D69-EF1E-4890-AED9-A2D0EBEF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24BE-AB02-48E7-8415-DDBD017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1162-19D6-4776-B587-97F9CC5C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678D-456D-4A6B-9326-6555C181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BE51-BB38-492B-9EFC-8D22656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19AD-1C9B-44EA-9BDF-7680B6B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D17C-0183-477F-B844-95F5351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19EC-BF23-4D1E-A419-862F3F8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A5B3-1164-4E7D-A6FC-4D892ACC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699-061C-4876-B5D2-DA3E7DF7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4E1E-DA06-4B08-A477-60DFC836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4644-4078-4CA1-914F-D82EBC9D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9CDA-8247-4619-AD50-73C50CA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C606C-0CB1-4989-AB16-8641EBFA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6F2E5-B1E2-4D0C-A5B6-E354D38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B3A8-1714-4AD3-8CAD-E1584A83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8421-84DB-409B-8C9C-33C92B5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10CCD-E31E-49BA-96BF-353838DB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2835-5628-487B-A8A8-7FC8F45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CF24-EB58-4297-A26D-65C4538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FF0-E1D7-4EAF-B7B5-FCD9259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754B-54EC-487B-8068-B37D61B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CD91-D6E8-4EA7-98D1-3783BA84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B95B-2944-4316-9A09-BFE1CC42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704-5EF5-4E30-85B4-03DD7E5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544-12FA-4F1E-9F3C-CDA08DB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4A22-D534-45A5-9A8C-BBA51E11B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13E-8A2C-47A8-BA01-37BC9EEDD5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6EB-6419-405F-8455-CA8D4C536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5DB-977D-4415-8D21-00D500C44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D6E-70A6-4475-A020-D98E5E38A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5B0-A75D-4898-AF0B-D99833078E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3014-AFB9-4E3D-A88C-237E8E5DA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26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轻松生活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Simple, Powerful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444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很多时候，我们需要给 自己 的生命留下一点空隙，就像乐高积木一样，可以随时调整。留下一些生活的空间，心灵的空间，让我们能够更好的思考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4581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在这个社会里每个人都有自己的压力，方方面面都不是我们能预料的。往往我们会注重得与失，就像植物希望自己面对阳光，那样才能茁壮的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44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美好的生活应该拥有一颗轻松的心，那样我们会觉得生活的空间变大，不管外界如何变化，自己还是能开心的面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谢谢聆听！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68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THANK YOU FOR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7:11:09Z</dcterms:modified>
  <cp:revision>1</cp:revision>
  <dc:subject/>
  <dc:title>轻松生活 Simple, Powerful and free</dc:title>
</cp:coreProperties>
</file>