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17D-D431-47FF-B203-B64FDE21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709-8528-49E5-AD0B-62DABA8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A67-BCB6-4293-AD54-451CFFCA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4F8-7D71-4AD8-BE6D-36F5F4E8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5CA2-6B91-44A5-96ED-26064D7C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0CB2-2333-4BCD-A789-14117A52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F15A-1326-4AF3-A5CB-70DFAF8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218F-7EB1-4A2F-BA4F-020F2B9D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A48D-24D0-4CA6-9661-58696B8F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FF91-8977-4E34-A585-ED40BF5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5C6E-6F3E-47BE-926A-D6BA522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FE7-8475-4D3B-A729-EC40ACA2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0A30-8328-4A6C-AC29-A3252B6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699F-6400-4509-B3F3-C9A1149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D854-6F65-41D7-88DD-8065E32E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5C56-9223-426C-8392-9C247BB1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543F-A417-4C7D-9F8A-7837700B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549C-E2C0-410B-9A41-035F9F30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D19A-CB60-41AC-BD9C-724A339E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BD03-E5CB-41CB-9024-BE0ED262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3FF1-80AD-4609-8353-AAA64BBD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C120-2497-4CFC-9ACB-581372E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787-883E-4081-95BE-E968E470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A6F0-970B-476E-A1F5-CDDE0A0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2332-7871-4C21-8CE0-7F63D8A3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F52C-6577-4869-9E7B-EC8263A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F870-87DA-4BE6-94C0-2C97B50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4EA5-A893-4D37-B5A4-459C32E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C014-3010-4E77-84E3-30F792C9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C9AF-B6FE-4F40-A745-8D40F6D3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D18-1BF0-4848-8F1B-9DA01CC7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708-3C56-4BA6-AB5E-FEE3B0A0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C0F-A93F-4C65-B23F-48B7363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F1D-90D2-49BA-871D-0959056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D2D-D8AF-4C50-9ADE-C001A4A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893-1C1F-4FD8-B6F9-1B2F584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E3A1-35D7-4AF8-8EBE-E3271041B3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E0CD-763F-4A8E-AFA6-97B97B31F9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BAE7-7971-4C15-890A-BE3F290B11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AD06-A00C-4C3B-98F4-128346DD5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Impact"/>
                <a:ea typeface="黑体"/>
              </a:rPr>
              <a:t>如何看待赏识教育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教英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赏识教育别过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夜深了，突然电话铃声响起了，是班上彤彤小朋友的妈妈打来的电话，她开口就说：“老师，您以后可以少表扬我的孩子吗？”这一句话让我听得莫名其妙，我心里想：每个家长和孩子不都希望得到老师的肯定吗？为什么她会这么说呢？于是我带着疑惑问她：“为什么？”她回答我说：“彤彤去年上幼儿园每天都兴高采烈的回来说老师表扬了她。说她站队站的好，坐姿好，表扬了她好多，她都记不住了。”我回答道“彤彤在幼儿园的表现确实很优秀，有很多好的习惯值得其他孩子去学习。”“可是现在她回家之后感觉非常的自大，觉得自己什么都是对的，听不进去一点意见，所以我希望老师能在班上适时让她尝试一下挫折”我听了之后明白了，原来是我们一直提倡的赏识教育无形中使彤彤变得自大起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反思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当我们在提倡赏识教育多去表扬、鼓励孩子的同时，别忘了当孩子犯了错，我们不能因为怕孩子难堪而了事，不应该忽视“惩罚” 。让孩子在成长的过程中，懂得为自己的过失负责，感到一种责任。一个能承担责任的人，才是现代人。教育本就是十八般武艺，表扬批评奖励惩罚，什么都应该有。没有惩罚的教育是不完整的教育，没有惩罚的教育是一种虚弱的教育、脆弱的教育、不负责任的教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总结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赏识教育仅仅在学校教育中推广运用还远远不够，还应充分调动家庭的力量，形成家校互动，让赏识成为一种合力，让赏识贯穿学生的学习生活空间。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赏识教育应该有一个“度”。赏识并非意味着纵容，赏识与批评应该是同时存在的。一味赏识，会模糊孩子的认识。必要的批评有助于孩子的健康成长，是孩子走向成功的推进器和催化剂。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事实证明赏识教育是一种有效的教育方法，值得我们在日常的教育工作中推广。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什么是赏识教育？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赏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词典中的解释为认识到别人的才能，并给予重视或赞扬，以调动人的积极性，它使作用对象的生理和心理产生快感，用老百姓的话说，就是干起事来有劲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赏，含欣赏、 赞美之意。识，是肯定认可。赏识教育就是通过激励表扬手段，肯定孩子的优点、长处，鼓励他不断追求成功。在赏识教育理论中含义为：它是一种思维视角，即用赏识的眼光看世界，是一种凡是发生，往好的方面想的积极的思维方式，同时它又是一种欣赏的心态。赏识教育，就是在这种心态和思维方式指导下的一套教育理念。有位心理学家说过：“人类本质中最殷切的需求就是渴望被赏识”。无论是什么人，都希望得到别人的肯定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二、赏识教育的基本理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没有爱就没有赏识，没有赏识就没有教育。人性中最本质的需求就是渴望得到尊重和赏识，就精神生命而言，每个孩子（生命）仿佛都是为了得到赏识而来到人世间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赏识教育的特点是注重孩子优点和长处，逐步形成燎原之势，让孩子在“我能行”的心态中觉醒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赏识教育是学说话，学走路的教育，赏识教育是承认差异，允许失败的教育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赏识教育是一种开发潜能同时保护孩子可持续发展资源（灵性）的教育。赏识教育是唯一能让教育者和孩子共同快乐成长的素质教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赏识教育是充满人情味，充满生命力的教育，是让所有孩子欢乐成长的教育。赏识教育是让孩子热爱生命，热爱时代，热爱生活，热爱大自然的教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赏识教育的核心是爱，会爱，懂得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爱生命的全部！赏识自己是赏识教育的关键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三、赏识教育的意义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赏识教育”是一种承认差异、允许失败的教育；是一种充满人情味和生命力的教育；是一种正向关注、积极引导、不轻易放弃、相信成功的教育；是一种相信每一个人都可以通过自己的努力不断成长的教育；“赏识教育” 认识每一个人身上蕴藏着的巨大潜能，通过正确的教育、引导使这些潜能得以释放和发挥。同时，承认个体之间存在的差异，接纳差异，欣赏差异，积极促进强化。通过赏识教育，可以维护学生的自尊，建立良好的师生关系，保护学生的学习积极性；通过赏识教育，能挖掘学生的潜能，使其能力得到充分的发挥；通过赏识教育，能培养学生的独立性，耐挫力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Garamond"/>
              </a:rPr>
              <a:t>赏识教育之父周弘</a:t>
            </a: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6633"/>
                </a:solidFill>
                <a:latin typeface="Garamond"/>
              </a:rPr>
              <a:t>把聋女夸成留美博士的父亲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月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周婷婷出生于中国南京市。 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周婷婷一岁半因药物中毒导致双耳全聋。三岁半在父亲周弘（及其家人的悉心教育）下，开口说话并学习认字进入普通小学读书；八岁背出圆周率小数点后一千位数字，打破当时世界吉尼斯纪录；十岁和父亲周弘合写了一本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从哑女到神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；十一岁升入中学，同年被评为“全国十佳少先队员”之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 这期间，周弘的教育方式吸引了众多人们的目光和兴趣。家长纷纷向周弘讨教取经，周弘到英国讲学，并举办全国聋儿家长培训班等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月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周弘与南京江涌行知小学校长杨瑞清一起提出“赏识教育”。 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没有种不好的庄稼，只有不会种庄稼的农民。没有教不好的孩子，只有不会教的家长和老师。农民怎样对待庄稼，决定了庄稼的命运，教育者（父母、老师）怎样对待孩子，决定了孩子的命运。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周弘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1300000242726123726519331874"/>
          <p:cNvPicPr/>
          <p:nvPr/>
        </p:nvPicPr>
        <p:blipFill>
          <a:blip r:embed="rId1"/>
          <a:stretch/>
        </p:blipFill>
        <p:spPr>
          <a:xfrm>
            <a:off x="4356000" y="314172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罗丹曾经说过：生活中不是缺少美，而是缺少发现美的眼睛。教育过程中同样不缺少美，而是缺少发现美的教育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哈佛心理学家威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詹姆士有句名言：“人性最深刻的原则就是希望别人对自己加以赏识。若与我们的潜能相比，我们只是半醒状态。我们只利用了我们的肉体和心智能源的极小一部分而已。往大处讲，每一个人离他的极限还远得很。他拥有各种能力，就看能不能唤出它们。而慷慨的赞美就是唤出它们一部分的一个有用方法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因而今天的教育应是赏识教育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问题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赏识教育能包治百病吗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现在，独生子女占很大比例，家长的注意力和爱自然都倾注在孩子身上，有的家庭对孩子的要求百依百顺，特别在物质上不断满足。结果过分的宠爱，无休止的满足，渐渐使孩子养成了自私自利、任性乃至放荡不羁的性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另一方面由于独生子女没有兄弟姐妹共同生活的训练，他们虽然常听到父母教育他们要互相帮助，但这对于他们而言只是一个概念，并没有真正的行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试想，如果用“赏识教育”来教育这样的孩子，只会使他们更加不能正确地评价自己，更加狂妄、放任自流和孤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WordArt 4" descr=""/>
          <p:cNvPicPr/>
          <p:nvPr/>
        </p:nvPicPr>
        <p:blipFill>
          <a:blip r:embed="rId1"/>
          <a:stretch/>
        </p:blipFill>
        <p:spPr>
          <a:xfrm>
            <a:off x="4133880" y="981000"/>
            <a:ext cx="590400" cy="70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4:46:57Z</dcterms:created>
  <dc:creator>YLMF</dc:creator>
  <dc:description/>
  <cp:keywords/>
  <dc:language>en-US</dc:language>
  <cp:lastModifiedBy>a</cp:lastModifiedBy>
  <dcterms:modified xsi:type="dcterms:W3CDTF">2014-07-16T08:59:22Z</dcterms:modified>
  <cp:revision>7</cp:revision>
  <dc:subject/>
  <dc:title>如何让看待赏识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4</vt:r8>
  </property>
</Properties>
</file>