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086DA-E701-41EC-9CDF-D6E40582D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B619A-6BD8-426E-8380-5B70B5F2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6EF49-B94C-444C-A5BE-774708A1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FEDE2-3AA5-4E6F-B9EF-1AC24986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2C4E4A-3E07-42FC-9101-79D10E81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9766AD-C771-48D8-A861-39E0C2C0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FCBD0-37D5-4900-9440-7E3399D5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B75C87-7147-4EE9-82C3-3F0DDC520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291E60-E786-44F7-AF21-B866A2C62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A78EB5-D19E-4057-972E-27E316B33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24D97-95B1-4522-AEFE-24A89384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A58B53-C032-4338-86E6-BB9D94D8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019426-17B4-46A1-BED3-73A3ADF2F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2A234-D919-4478-AD3B-D97A53A07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8820F-3389-4D9F-B8B2-A42660505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FC0F2-7EFD-4FFD-9FE4-D3EC2756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6EA42-EFBB-49EC-A0CD-409ACD27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6F7F2-B5DE-4A5C-A13A-046BDAB7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7A30D0-602B-452B-8985-0E7C1BE0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4C91D-465E-4BEA-A173-96C947BA3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A5E77-ECEB-4810-B4FB-8BCA7BF1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74549-4794-4CE6-BAD5-3D3C96FD4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BD067C-BD95-47B6-80CC-554F4C4B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3BFA4-0D28-4D85-A922-470674B1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F0D960-B649-4251-B119-053933164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4B5DEE-E962-455E-932D-C4ED4BC8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223E7-4A65-4EA4-8AD7-00C64376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8ACFD-1AA3-4B3E-B049-DB19BE48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26581B-7EB7-4DD5-BD51-437BAD3E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94F39-D8DA-4806-8D41-99E51428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3A4F-56C5-485B-B475-2AC9AD8FE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7E9B21-F518-4420-A9C2-8ED037DF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30CA02-4301-4D2D-90CC-D2F6ED291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4304D-5490-4716-8563-CC14786B7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4142E-550D-4758-A745-1192AC075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2B954-DE91-4091-AA79-648804EC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C693C-5AD6-4819-8728-31A37D05C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D9DE0-6363-4746-860E-35F96F71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59634-6BAC-44F4-A505-D8C5CE73A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6C9790-F2E1-411E-9EFA-C956C6B9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AD8222-9B63-4CC4-9C68-020950A3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67DF-3415-4971-94A5-B99A9B2F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707795-C34C-4E67-8A06-99DD219DB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C25B50-A0D7-4CA9-ADF0-52DA1619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A994A-8682-49E5-B51A-F192F3F2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3CEEFD-F68E-41AE-BB5C-0D0D1CAE4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8EA68-DB89-493F-87B3-A7D2947D2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2E4A34-300F-475E-B30A-BC263E98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548488-7393-4186-8B60-EF67C849D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1CEFCF-1BA4-4102-BACE-7F4C01E4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0A1573-3E96-4A13-ACDA-F7DC3E51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AC04B-2FAA-43E2-882A-0162A5668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6DA-B2BA-472F-9808-E3A56D74F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9087B-5A8A-4D05-8B6F-502346B2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F8630-B663-43CE-A9D0-79E11FB5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914EE4-A2E5-4790-8A91-4CA14B01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81055-9364-40F4-9D26-AB1FAD92D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F8FFDA-5637-4EA3-8D9D-4F2DC1F7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A719F-49E9-472A-9D81-8A989560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ED0FC0-BCF3-41C2-B1B7-202AF0683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10BC2C-6672-4D28-A7EB-C57D438BD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D61265-1181-4533-8BAA-830B07F7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1BFA2-37F1-4B5A-8BB0-669810800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D602-8F06-4B20-927A-4B1C5D53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6A6256-BBCD-490D-8599-C77E9A0B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3D59A2-67D3-46BC-A8AB-14C17328E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4F4E2A-9CD7-428D-84B6-2B123DD6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07B967-6F42-446F-91DD-433589D9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C6971-C9B2-414F-8542-69D51830B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14505-441A-4BC1-9F42-BE0F80AF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232133-DA08-459B-8BA9-FD85D533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163E94-A4D2-4EEB-82A7-53FBF033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4D5B1D-1C86-459A-B493-43B4FE519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ED94-6FD2-4FE7-8546-5D5A68CF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DCDF-3B60-4D09-9317-625B6C57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C2C-663C-4305-A061-AADBAF0E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C7A1-9706-4D00-B444-3253580E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903E-D8C1-4545-8B75-7EC161A3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9C66-01C1-4AA8-BE37-F6CD2DCF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D0BA-0E44-42AC-ABE4-BF18586E8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C756-0601-4DA7-899D-853F82E9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CE7A7-7B56-4BA1-8707-CA430699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F237-A545-42E1-B71B-46F0DCCD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664E5-8AFC-4DDA-BCA3-A96CA664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0E44F-878E-4586-83F4-0C554843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7E3F5-E956-4F7D-93D5-51EB6266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D8184-3C2F-410F-A63B-EF151AE8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B482-9739-4E03-9982-C608B12A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A876-87D1-4BFE-AE6E-C0A51FD7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E08B-7BC9-4B07-A144-55923942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1238-2AF3-4013-914F-1A5E5B87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6CA6-E7A7-467B-8270-ED01F408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6DC6E-FE26-4C7F-8AEC-2D2FB44E6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CE390-1467-4C37-AC8A-99EBA7769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6DADF-B078-4233-9AFD-69A33167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5256F-18B6-45D5-A9A8-4BF7CC358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C318E-36B5-43C8-89DF-DB83DB9A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82D5E9-0814-4FC6-92D7-7C3B5460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AC156-84D3-4187-92F3-9BC1554A7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AA4DA-A9D6-43B8-A072-15740670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A62BC-2C41-4D53-8B31-7D95B817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1301F-44D9-4019-82C2-815AFD70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813838-941F-49B2-8171-7DA3C85F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9D222-101B-4701-A920-62159089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0496D-7CF6-45E1-B9AE-D557C245D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9A8A8-6CD8-4A28-AF41-E44F51B9B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453F0-1519-4C9E-93DF-B03D63EA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FBB0D-5A96-43D4-83B7-6E7243E1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C9FE2-5D42-4C3F-8A10-B1A18832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BEC56-882C-47F2-9363-48FC6E25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42214B-22C3-4862-8A87-5D670E30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B3271-25C8-4E37-8B4F-A1FE8DBC6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5E9F8-9912-4386-888C-63A639E7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4A0ED-1022-4065-A9B6-9E5E8D5F2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3F20E-A8AD-4ABF-A19C-5DDD9A4D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CEA258-A99B-41F6-9EF6-71ABFFEDF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BA351-0289-4F2D-939B-2D0F9E29C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396AC-A561-42E7-8C26-840846A21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FA93F-4860-45A3-A7B3-EDDE2F752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127F11-5C9C-4810-8BB3-F63AB9F77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19D66-5CA0-4FBE-A242-8A9B14DCA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E297F-99F0-47E0-8ACB-E91A4D08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1E601-9064-4039-8F8E-ABE4EB711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AD0CD-BB6F-4593-B702-2B35C4B66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A74B4F-DD6D-4A96-AE80-CA422C76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9B6A74-8459-4149-AA86-6A44B208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EB499-8B70-4AEC-A4F5-F9EF8918D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F1BA0-3073-4BAA-B1F9-8B80D92B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224F0-A777-4DFC-97D6-DF93C6DF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48117-BEAD-4138-8FD4-ABE58937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08588-54B0-4EB7-AE72-FE9B2413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77CC0-2D45-40C4-8E9E-F6240E49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C376A-2DFB-40A0-A957-D09C770D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DEF08-C142-4CD4-9D5E-105C447B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415BC2-ACFC-4F13-A87B-D95AD975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2BB524-75F9-4582-AC17-ECB268EC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6C2E9-A69A-4804-B5C4-F37EACB7D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CEB8E0-3E29-4F92-A70D-D5CFA358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74105-B822-4BE7-A5F5-E5E1E09A4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78AE1-1332-4125-89C5-47A69660F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C65ACA-4587-4B68-8201-D9B1A5BB0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BE484-322D-454C-86A9-60D437030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2D4D2-5032-4C70-9CA3-454B2D004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FAA1D-0052-49A8-8A02-CA6F1250A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ppt底板白-英文大写4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287280" y="833400"/>
            <a:ext cx="431820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826160" y="6477120"/>
            <a:ext cx="431784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398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4569-CDDC-4C7D-879D-FF507FB865B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13C28-C92F-4D8A-BDAC-7A927760B7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FC41-05B8-4094-B686-15273D121A8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80F7-8EEE-49FC-AF66-E6537CC1B7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170D8-73B4-490F-98A0-E21FED1EDB8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668B5-A145-4C43-B523-E4C38D2CA5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9C0B4-CB3D-46D1-A147-50856A50142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8046-F78D-418E-82BA-78D3AAD1C4F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4A5AD-AB7B-4CBE-855A-7628BBA6BA0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CF8D-6D3E-41F9-8244-C6C095AC3B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F2E4-FE08-47AA-AF6B-5E3BF3EFF0FA}" type="datetime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D1C5E-2953-4121-901F-8457111CC44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ppt底板蓝-英文大写40"/>
          <p:cNvPicPr/>
          <p:nvPr/>
        </p:nvPicPr>
        <p:blipFill>
          <a:blip r:embed="rId2"/>
          <a:stretch/>
        </p:blipFill>
        <p:spPr>
          <a:xfrm>
            <a:off x="0" y="0"/>
            <a:ext cx="9151920" cy="68644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10"/>
          <p:cNvPicPr/>
          <p:nvPr/>
        </p:nvPicPr>
        <p:blipFill>
          <a:blip r:embed="rId3"/>
          <a:stretch/>
        </p:blipFill>
        <p:spPr>
          <a:xfrm>
            <a:off x="6229440" y="3979800"/>
            <a:ext cx="2914560" cy="2878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图片5"/>
          <p:cNvPicPr/>
          <p:nvPr/>
        </p:nvPicPr>
        <p:blipFill>
          <a:blip r:embed="rId4"/>
          <a:stretch/>
        </p:blipFill>
        <p:spPr>
          <a:xfrm>
            <a:off x="838836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图片2"/>
          <p:cNvPicPr/>
          <p:nvPr/>
        </p:nvPicPr>
        <p:blipFill>
          <a:blip r:embed="rId5"/>
          <a:stretch/>
        </p:blipFill>
        <p:spPr>
          <a:xfrm>
            <a:off x="613404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图片1"/>
          <p:cNvPicPr/>
          <p:nvPr/>
        </p:nvPicPr>
        <p:blipFill>
          <a:blip r:embed="rId6"/>
          <a:stretch/>
        </p:blipFill>
        <p:spPr>
          <a:xfrm>
            <a:off x="539100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图片3"/>
          <p:cNvPicPr/>
          <p:nvPr/>
        </p:nvPicPr>
        <p:blipFill>
          <a:blip r:embed="rId7"/>
          <a:stretch/>
        </p:blipFill>
        <p:spPr>
          <a:xfrm>
            <a:off x="6889680" y="179280"/>
            <a:ext cx="755640" cy="5065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图片4"/>
          <p:cNvPicPr/>
          <p:nvPr/>
        </p:nvPicPr>
        <p:blipFill>
          <a:blip r:embed="rId8"/>
          <a:stretch/>
        </p:blipFill>
        <p:spPr>
          <a:xfrm>
            <a:off x="7645320" y="179280"/>
            <a:ext cx="755640" cy="5065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3984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spcBef>
                <a:spcPts val="700"/>
              </a:spcBef>
              <a:buSzPct val="1233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1" marL="914400" indent="-28584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2" marL="132228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3" marL="173052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4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5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  <a:p>
            <a:pPr lvl="6" marL="2138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3984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2EE7-99AF-4400-AF88-37DF029BECD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3168E-CE3B-44CE-ACC1-244F1F5EF8C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A678-DCB0-4CD7-B4DF-7A9F49E4D57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7BBE6-7138-4E28-ADD8-5953B94620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67F0-D1DC-4D15-93F3-66098BC08AC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8FA7E-010F-47EC-BFD5-34B25587BE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87173-EC41-4BB2-BFBB-27D71DE3309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C1368-9A53-44EE-BDE5-514A301917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6DF0-D8D2-4AC6-BEA8-C51B973BDDC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7676-59DD-490A-A84E-8A5139AA7AE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1906-1C7A-4928-8212-52BDDE60141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E7FF-2E7A-4B9D-875B-B98308FE0F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52280" y="1501560"/>
            <a:ext cx="883944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066680" y="3276360"/>
            <a:ext cx="701064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ffffff"/>
              </a:solidFill>
              <a:latin typeface="Arial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0" y="179280"/>
            <a:ext cx="91440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54000" bIns="46800" anchor="t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133984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31640" y="1268280"/>
            <a:ext cx="822960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13398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3T08:14:50Z</dcterms:modified>
  <cp:revision>1</cp:revision>
  <dc:subject/>
  <dc:title>PowerPoint 演示文稿</dc:title>
</cp:coreProperties>
</file>