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C30-DBCC-4012-A66D-6AACEE67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4F2-8FF8-4BAE-AE62-D647E70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C9D60-567C-4FA5-B6CE-A3740B9E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34B78-EB65-4D6A-AC96-BECD78B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E9093-017E-4935-9A07-03E50F4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D2618-B17F-415C-B85B-787ECE6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20841-4E18-49B7-9359-AD88D9F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4F278-CAF9-4E91-9A2F-586B7CB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F847A-7CD6-41E9-8A8B-1C164EE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1982-946C-4EF7-8671-D095535E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481E-82BD-44BB-8D77-CFECE89A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63199-655F-49FF-84FA-D58100B3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7FA-2F22-4292-9EBA-A827A451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ACFD6-593A-463A-906C-7FEE37AD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9C14E-2CDD-48A6-91B6-862BCEF3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B864F-7E57-4E51-A6E6-6DAF574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43960-7E99-465C-8408-AB27889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3283E-919D-4C32-93B6-FB136E8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7810-FBF4-4E46-8B9E-DCAD779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F435D-CE94-4891-BC6E-4ABF14B2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D3E85-31D7-4274-99E9-E799744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428C-ADF1-42A8-A1DF-43AD900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023DF-4652-4007-BDFC-F666A443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407-9AD5-4A30-9013-067343FA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B9E5F-9656-4048-92AF-472F8D07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779C9-ED29-46FA-9D5D-1BA96CBA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19A3-F5BD-4114-AE27-54D49D5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FADD-E981-439B-A081-0198BE7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27483-8FE1-4948-B8F7-683028D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779FE-2186-4F27-A27B-219B9183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75574-3B8E-4149-97FC-42FABB04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58AD-BCF9-496A-BB93-7F37C43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2B89E-C958-47F4-B759-C6681EA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D989F-1914-4530-BBF3-E61EA21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9F7E-3C14-4E6E-ADBE-CECF4700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92D6C-2770-48C4-9377-ED29479B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2EE3F-9345-4525-9C21-E1E71025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AAF43-7CCD-4208-A5BB-B6A76CE4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316D8-D8AD-4236-90D5-61F4A334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2C936-79D0-43C2-B62B-C05265AA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46627-53AD-4B0F-86C4-4506C57E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6B3B9-B8ED-4673-BBB4-4447D75A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567D4-D42B-4FBC-A7A3-4C38FD14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92249-1C85-4DAB-B03E-46E58FA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B89A3-5CBC-4F8E-AAB4-012004B5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0620-E8F0-4B48-A1AB-300C9A26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34E8D-FC17-4A82-A49C-52B13E1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A03E8-D9CF-4DEE-84F7-F6E9E07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83170-4E32-453C-AFA7-43A7047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1BD5E-D75E-41BA-9B35-4364D121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90168-6868-46DA-B08C-F33D6F1B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BB8EC-F774-46FC-9FE1-B7B505B8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5C763-359B-4A77-AF94-3E76BBF6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EC985-93C7-4F00-85CC-684E603D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F0226-AA51-4ECD-8235-B65F34A4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F24FD-0B07-4358-884A-33D206E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4CD6-734F-41F0-87E5-9AB8B9C2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59C75-96FC-4B0F-84FD-FC5DD097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5E2AB-F866-4315-9FE2-030823B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E16BF-3A2F-4202-912C-801657B5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BDF38-B5E0-4B0A-9B61-7581495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B9225-3176-4D36-AD7E-339A041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1CB68-6603-4E1C-B86D-F5B881F7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0E9BA-1F64-4C21-976E-D81B9F35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2542A-1400-41F9-AEA1-EFC13F7B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56BBE-D4E9-4DB7-BAD4-241817FE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130CF-A4ED-478B-B99A-CAB49796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F0D5-818E-41DE-BA75-8C3D00B4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2CB68-7EAB-4462-84AB-76505F12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DA9B8-5BA6-4975-A637-EB5CD58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E8B5E-5FB3-45FF-ACB4-7823030B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C0B64-6C48-40DF-976E-DFCB2BC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391B4-7A21-4DBF-B0E3-C47FA3E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88B1D-0993-49E9-B585-7C86EA5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A1477-2AFB-492F-93FB-252EE3E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906A3-A787-4D2E-873C-49C0D782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7DBAF-ED5F-4A28-BDF6-9AB81532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C216-2782-4C5E-9938-DDCBBA7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218F-6CF3-4983-BC81-63ED2479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16E3-3DA2-443E-B44D-6A2D6482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272-312D-4526-B465-33989C0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166F-64A9-4E9C-A553-B26C718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C099-F1B6-4F29-A848-93CFFDB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17E-E69C-44AA-9CF8-377B74DC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5B49-1F47-476E-BB89-80F14667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A112-3724-4171-AC5E-4C48420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F9DC-88F5-4369-831F-38D753F5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8553-0080-40F1-840A-7549CAA5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50CF-A85E-4825-A1A9-4AFA8BD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DCA3-9CB2-42BF-83C1-E825EA4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0B5A-82C3-4EFD-BEF3-CD70E0E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75A-92F8-473A-98A6-E845FFE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9F99-E5DF-45F9-AC9B-444BEA3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D45E-1E32-4368-9A52-0012AA4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14EF-1261-4289-8F3A-3C3F833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6450-34C3-4A4C-8F8A-EBDEDD10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975C-D0D7-41ED-ADFE-052FF793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FBE9-E45E-46B0-94FF-B19DB3E6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F44B-5B9E-41C6-83F5-368BE4A0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7092-D6FC-42B7-BAA7-343BF8FC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392F-1E16-4B74-81F2-A95762D5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68C6-A6A4-45B9-B8DB-3EFA4674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0E7-5CC7-4AE2-985E-071DFAF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ECAA-A97E-4781-812F-B8E8D1F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70C6-C38E-424D-9200-4DABE44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D015-52B4-4CBB-B149-E4176EC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347D-CBAE-4645-8A89-2BFB06DE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0FAF-16C5-4A1A-A311-A9216B5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58F0-0163-4303-A01E-0F42732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8AF6-F93A-428E-858D-E26757A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A48B-66A1-4683-B767-AB1C8B73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F494-5D31-428E-8FE0-F31FB5B4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2748-7577-436A-B5D0-11E843B8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B5E-9647-43E6-9927-FA65D4A2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9E4E-42A8-4EAA-8294-0F82EAAF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D3F7-BDA4-43C8-83C7-35DECCD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3751-DD02-408C-AA93-B7A708F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F319-9A62-43DB-BC53-E93839D2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EDF9-4840-4074-B0D0-2699E13A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BA69C-D828-4E91-879A-DCC7C97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01AFE-9130-417B-BCCF-5FE5F90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7266-3135-4C4E-B291-00277F6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6D2F-A923-42FB-BC9D-074553D6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49DA7-4137-4764-92E3-9ACB6C65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E4C-0F23-4993-A401-CF98717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5EDB-B363-4035-89F1-F3BBF027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E668-6358-4182-BB11-20761DF8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A05E8-5B5C-4F39-9097-5C2ECD3A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BF1E-4945-470C-A5FA-85530FA9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8D13-F79D-4C19-A970-43D3665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39256-912D-4E27-AED9-851BB40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782CB-CF3B-47F3-8388-DDAA6FF4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CDCD7-2346-42FF-A7FE-990C75CC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D93F-5519-4979-A6E5-4B4EE2A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CAD80-9CF3-42BC-9ECE-394F7CA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7C9-9679-4BEE-A094-58A8217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57B41-A71C-4327-8B4E-68F2D879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74BB-5CEF-45AA-9E19-51E0942B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0D20-B251-4021-A4F6-0D32E089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2350-E191-4D2E-9480-D11C9FDF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C71F-50E4-4E0C-B97D-1BC18248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047F-D6B1-4234-AEC9-3366FDAF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6D66-8409-44E8-8398-2CB6BACD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8A84-A593-41AF-B54F-987A579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710E-A621-410F-BA9D-5ACD8E0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3C78D-EB07-4D98-ABF5-81C02A9F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891-A631-4315-A323-3177E9A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FA7E6-9E9E-48D8-BFAD-A26EE00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4A9D9-5E07-4D30-A505-4EB61B01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E56E-5073-42D9-B02E-071F7AC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2CA5-7BFC-4B7D-934B-0272E702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C8F9-22A6-4F6A-B27F-F666BB2A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20A0-6B52-4EC2-80DE-3434E3AE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8AA7B-1CA1-4B5E-8C6F-205EA5C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63447-745A-426E-976F-4668C3F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8FC46-AD85-4BD7-93A3-828D0A6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36E1F-BEBD-4081-BAA6-006EE056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7F4-3496-4BD2-9BD2-F34661C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D596A-FD09-4EB3-A64E-A4CAA480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2CA16-1FAC-46E5-B93A-1A62F74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6C6CB-1DDD-471A-9658-0DC1881E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CC71E-FF0C-464B-984B-E86CFB4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DBABD-3CAF-4050-87A6-B9F81C67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6BD4B-B879-4203-83FE-0E4D5232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47BA2-77DD-4FE1-9AC7-C4C9F4FD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65478-0C58-4BBA-AA31-66F95279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DDBAE-159F-4961-A2F3-C03A382A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C2A2B-1E58-46F4-9A04-0E56206E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240-2E51-4288-8E01-6EE8554BC9D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53E-0FFE-40EC-82BA-BC78F76038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93F-F85C-4CAF-988B-E4944C8E4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B33D-FEDC-4147-8B47-620C6EC6BA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6FE8-46FA-4A58-9794-758946552F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7A7-051D-484C-B330-AA3297D2A1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48D-7704-42A8-85E9-92B261AABE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2C91-70F2-4312-8728-410D53EE27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C1DA-E199-4BC6-866E-4EA451C610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85E-5CB4-4F3F-9356-A2E2890DF4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AFD-7573-43A7-8627-7BB2DDC9C7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621-2A6D-4D2A-AA6E-578C070ED0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055-0913-4393-862A-0632337242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33F-11EE-48F8-A53F-A995F93195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4E9D-81F1-4CD1-912B-997AAC08B3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950-E34C-4D06-BF78-49975B668C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90AF-5FA3-4F7A-92E4-2C02CD2A74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25E-4889-41F1-9D33-33F90FD65A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AA28-A6E8-4484-AFBD-658316DC0F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305-6239-402D-AED9-71BE1F9BC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3E4-C83F-43B2-BAE5-0DD0A684EE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1CF5-1D1A-434D-9612-24669C9773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12D-F3DA-4554-BA72-0D974BC5E5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2886-99FB-4FB3-9543-4334BA5A3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6352-04DD-452F-A4EA-2D50E4E690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971-64EC-4F17-8941-078FC8553C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怀南\Documents\360截图\360截图20121027221621949.jpg360截图20121027221621949"/>
          <p:cNvPicPr/>
          <p:nvPr/>
        </p:nvPicPr>
        <p:blipFill>
          <a:blip r:embed="rId1"/>
          <a:stretch/>
        </p:blipFill>
        <p:spPr>
          <a:xfrm>
            <a:off x="-171360" y="-87480"/>
            <a:ext cx="9496440" cy="7120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715320" y="4581360"/>
            <a:ext cx="717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 Black"/>
                <a:ea typeface="楷体"/>
              </a:rPr>
              <a:t>生活像一盘棋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simple</a:t>
            </a: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powerful and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360截图20121027220703352"/>
          <p:cNvPicPr/>
          <p:nvPr/>
        </p:nvPicPr>
        <p:blipFill>
          <a:blip r:embed="rId1"/>
          <a:stretch/>
        </p:blipFill>
        <p:spPr>
          <a:xfrm>
            <a:off x="-14400" y="-77760"/>
            <a:ext cx="9194760" cy="71802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2290680" y="430200"/>
            <a:ext cx="1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46560" y="237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2674800" y="838080"/>
            <a:ext cx="9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3825360" y="242244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simple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powerful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977160" y="237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360截图20121027222159565"/>
          <p:cNvPicPr/>
          <p:nvPr/>
        </p:nvPicPr>
        <p:blipFill>
          <a:blip r:embed="rId1"/>
          <a:stretch/>
        </p:blipFill>
        <p:spPr>
          <a:xfrm>
            <a:off x="1440" y="47520"/>
            <a:ext cx="9180720" cy="676908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762480" y="2252520"/>
            <a:ext cx="69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能容你的格子再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也还是要走下去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360截图20121027222853242"/>
          <p:cNvPicPr/>
          <p:nvPr/>
        </p:nvPicPr>
        <p:blipFill>
          <a:blip r:embed="rId1"/>
          <a:stretch/>
        </p:blipFill>
        <p:spPr>
          <a:xfrm>
            <a:off x="1440" y="-88920"/>
            <a:ext cx="8531280" cy="69055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-349560" y="2311560"/>
            <a:ext cx="85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能走的格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也要小心陷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360截图20121027223705298"/>
          <p:cNvPicPr/>
          <p:nvPr/>
        </p:nvPicPr>
        <p:blipFill>
          <a:blip r:embed="rId1"/>
          <a:stretch/>
        </p:blipFill>
        <p:spPr>
          <a:xfrm>
            <a:off x="-1900080" y="52560"/>
            <a:ext cx="6445080" cy="66895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5510880" y="2156040"/>
            <a:ext cx="78984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人生和棋也一样简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6300720" y="12128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615720" y="-1109880"/>
            <a:ext cx="667800" cy="9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每种格都是和局，每个人都是胜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42:17Z</dcterms:modified>
  <cp:revision>1</cp:revision>
  <dc:subject/>
  <dc:title>PowerPoint 演示文稿</dc:title>
</cp:coreProperties>
</file>