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0F1-4997-48D5-97B7-4EDA2F25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5BD-A570-4946-8DE9-892ED7F1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2A31-F8D3-4AB2-B2F9-A8AD1BE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C8EF-2334-4B5F-A0C3-C19A32D7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C77D7-C1B2-460D-8140-D0D797D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3B905-FF42-4708-BDEA-1901C33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48B2-BB61-4548-9B73-036A17A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2E76-C041-439B-A31C-EF6238D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BEA63-797D-45F8-8816-CB12F7F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5E7E5-7868-491A-A5D9-F7C5D63F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54617-3210-43FB-85F7-5D5E63C5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4BC1B-F705-428E-AD06-2843002B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3F2-6669-494E-9AB8-7DFD1BFF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0FBF2-F8BE-4B15-A969-9C5AFC6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DF8BD-F6C4-44CF-B661-838B117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A3AB-6CE7-413B-9C03-35EFBAD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632B-1B64-41C2-B73A-6A23DC4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7C5E-5028-46BC-BCAE-7155F911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E7BA-57C4-40AC-B687-1CF2F85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FE0FD-A221-4866-A4F5-872F41D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DF93A-3ED9-4349-9AEF-5021315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9E5D1-3057-420E-857D-945463D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D993D-5494-40AF-8BCF-F881A10B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75C-5328-43BB-9411-819B4F65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3C0E3-1953-42B4-9EB2-16ACCFE0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ED29C-7C26-425B-9027-B82A92D8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7663-06DE-471A-8FDC-1C2D4360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5FEFF-E970-4A9D-B642-98CE92F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2967C-F36F-4AFD-AB33-69F2695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ED1ED-6D3A-46FD-822E-3E0AF324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761E7-BED6-45E9-B273-F6FA6A2E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3BA90-1C6E-40EC-83F8-A30D917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07D2B-56CE-4671-B40E-5E533CB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03F3D-9470-4BFD-8266-556C956E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903-83E4-4312-81A8-D19E4A9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D363-56E4-498C-9AC4-90C0FE11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5ABC2-CB37-439F-94AF-5241D9B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8C01-23B6-497B-AE4C-B58E6A3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A66D6-008B-414E-9E41-1EA3EAE5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90867-BD0B-496A-AE59-14C7A49F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A18A0-D8D2-46B1-A40E-B4D692A2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9C1C0-3310-4B13-B6F2-AE8A3406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DF66D-190B-48C4-B3D5-ED48B158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7644F-3640-4662-8769-9A3D346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82869-3016-4AA3-A921-69CE6AC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E332-70F7-4AD1-9053-68F15B6E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BFA53-924A-40F0-861D-7EC3E35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CEDF7-5143-490B-967E-1A513F0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85865-94F5-4B19-BEE3-E958E111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6B948-3A00-4B1B-98BB-8469C30E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5BC1D-7989-4B62-9267-5DFEA073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76144-C19A-4B10-BF6D-DAD4DC91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477F6-CCFC-470C-BFC8-9ABC5818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3111B-874D-4064-B2A4-C4610503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BC9B9-F4E1-4606-9FC9-6A234073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F747E-21FA-41E1-A45C-3400B00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2DC7-B731-4399-9BB1-7FF52FC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F1A62-EC16-4D57-AF85-D10A0937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24A33-7F87-49E5-B6BB-93CF16E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2E770-6C33-4AA0-8572-C90535F3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C166E-A385-453E-9057-CBC9A12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56801-8FB5-4290-8DB1-5202DF7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5F20B-2CD3-4EBA-813E-886F0C65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F570B-9935-481F-BFFA-54268550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BC884-52DE-4554-9F43-59E1DA71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FFC31C-5F8F-4A46-B6BB-CF2A43C9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2D4D0-05D8-4055-B2E3-7D00346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2A65-3434-46B2-A8A1-0BD4552C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F44F7-C4B7-4936-8662-B08EF61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309AE-8F66-4664-80B0-4FB3FF4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29123-C4B2-423A-A9B0-FAC5E7FD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A92AE-85E6-4075-9683-DB13F802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209A8-4D2E-47C1-BCA8-F174AD3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69BE7-1882-41F8-A369-7E2D4EF0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4E4B9-43A8-4168-BEC9-9BA5B0B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68ED8-2308-494F-8977-78D326A1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91D30-80B5-47B0-8D39-4199B507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35160B-C740-42D6-9701-54451D5E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0B6-3D64-487D-9D6B-4CF8303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FB913-ED4D-4E05-9BF6-71CBB20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E24B2-3FA1-4849-ABBA-429C3FA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E0A25-4472-4C82-896E-9015491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F08F2-6B10-4D7C-807C-8779FB0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584C4-23EE-4F45-94E1-F9E8F26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E8B1F-9095-42E8-A553-C924879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63AA7-EB4E-41CC-A642-2E76105B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208AC-110F-4BFD-8098-8B1689F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59C14-ECE9-459F-9A91-DAE9B15F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4C1A0-5521-4FE4-B674-2E33F6F5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3108-01AE-4379-89A3-8B14C6C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1469C-DFB9-48A7-923E-C2313A3E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9A7-F5DD-4C5A-B1D5-E4CDF61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41B-CDA2-48CF-AE7A-4C6C7211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6B7F-34B3-4D55-8A62-068D5D70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7A58-E1AC-44FA-AE70-DE8F3CD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308-D27E-4439-897B-24922E8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D356-777D-4539-B40D-B8B48AD1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5BA7-9E8E-47D4-8CC7-69BC127E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9290-11D2-4B42-AA10-3AC7E13C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B5AF-541F-4A45-ACDD-3FF22EDF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06FD-B4D3-42A9-A911-4E1DC0B7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0D99-E918-4F90-B354-D7855CE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DF38-F9B9-412A-8CEC-62F9BDB0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98C-BF3A-4DEA-B72C-AB8E486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F162-5D66-4665-9720-F1AA8DF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F117-44F3-46F9-BB0C-F146059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6B8B-9222-4E49-9A20-4810784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B5EC-69BA-40B5-9D15-69CF682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E183-89D6-4714-BEC3-754634C8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19D8-D41C-47F3-8D4B-2E47D15A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171A-8A6E-4E9F-9832-7369DFF0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62D1-717E-467A-ACA5-8C7CE969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E264-26F6-42AC-B6E0-0D56CED9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C040-0AAC-4C01-A702-94CC6346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5F1-73F0-4179-9C6B-B657A7AD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D735C-2C89-40C2-B3CE-80CD82E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6216-CFD6-4EF7-94F3-C8678C1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D4F8-071B-4E3E-88CF-2D833C14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7BFF-F62B-4BB9-B177-A3B7FF5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AC85-AA76-4A6E-B53C-29B5EE9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36AE-3B64-4066-B98B-245B645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7299-5625-45DE-8DC3-F5055A6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54AD-42F4-4069-9804-035C83A1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3054-9443-4C81-8577-BA91B154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CB56-1D20-49CB-9CAC-DB42A3AB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082-03F2-413D-9647-46FA795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6CAC7-0F3E-4B6D-83A9-029757D7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E123-D5B4-4104-A1A0-DDDC026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5414-8C5B-4CBB-A8DD-37072C51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8554-7877-4899-95C9-2255DF9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9C84-A86C-4999-B6F2-5406D50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C7CE-A4F9-47AB-BC17-CEE364B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1A607-2742-4387-8A2D-31F7474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4B60-AFA7-450C-BDF9-B0D8F86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83E2-1B40-4745-80DA-5321090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59E1-F9B5-4BE9-B4A1-E0E2B972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799-602C-486F-9B91-F92F7F9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77A1B-3168-45E9-925C-8A26C3E5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36F3-1B4B-42F3-BCEC-7ADFF75C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F0DEE-1DCE-4197-940C-24259E5B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58C2-CC6E-4CA7-BAAC-BA54BFC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34804-64DB-4C77-8F9A-42A98BB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2082-9BAA-4DF4-B721-D85D3FE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3C6A-1994-40CE-BC4A-1FFEB85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9E67-74E2-4BDB-8ECA-DC89EF5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B6EA8-03B1-4673-8BFA-0F41F2B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8D27-CE6F-4FE8-9A1F-366DB3B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7BF-52D6-43DB-8A6E-12BAE5D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8B1E-6F94-4840-A31D-1E7D097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FE5E-08CF-4404-8748-A0505F07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D85E-44B8-4494-A547-01606D51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B53E9-0861-45E9-9575-E7AFC22C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EDDD3-9615-45DF-B559-3C4F106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4FBE-A400-4B35-B4A0-6EA5D58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648B-B40C-494D-93AC-6698E706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388A-290D-4BF7-909E-48B52480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9482-958B-4234-9CFE-B2CED38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7C15A-1834-4A68-9127-BA5E0DA6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93C-FA88-432B-82CF-A63961F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E612C-CE31-4AD1-B7F6-AB6AFFA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979D-9AD9-4C43-8913-6395E0E7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C6EE6-EF8C-4D6F-92EC-2B0ED1C9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D4A1-7707-4857-8011-C73C70AF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1BC4-ABCA-4033-AF1E-D91D9088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2B23-975C-4212-8A2C-0168F51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7AED-F3CD-4CB1-9B4E-FEDF28C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B625F-108E-4E89-851B-4D24D24A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91908-57D9-4166-A58E-5057ECF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45AD-BF13-45FB-9E93-B100ED0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318-8BD4-47D2-91D9-258256D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6F077-1350-4BD6-B8BB-7F7D7338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236B6-A4CF-4C4F-8F9C-6EEE3DC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5C0A-561F-47C7-B62E-5D92E4DC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86DA-C0F6-4D1A-924D-1A3B937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E16F-6F03-4521-B03B-305A0341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13830-A524-4F83-9667-D4E5823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E7A6-E207-4C70-B925-77F7EEB7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E853F-1B1E-47F1-A3C6-0E95D936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17ED-72C4-4E2D-8403-84FFA5E6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8A594-78E0-4E75-B6B3-CC2AC17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503-6739-4A72-B4C5-8F074135D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A31-9400-43C4-9A6B-E4C6F37BC3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DA8C-EC2E-4F53-8D9B-D85B35CE94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5854-E66A-4DDC-9D1C-57ADDD9511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0A9-0EE4-41A3-B316-4F1EF9F24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2E5A-7A6D-4A4E-A81B-DDBD4AF2F3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CD1-A919-43AB-99CA-4855F3724D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70A-E1E6-4E45-BABB-0121155E24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EBE6-8FCE-4FAE-B2D2-705136714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988-190D-4A5B-A0C4-4D826245FDE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9EAB-F5D4-4C5F-8090-4CA28B987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F628-7CD3-45AF-BFBF-A79B7B7383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D5C-308B-4563-A52F-7606E3A39E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F039-59CB-4A6F-8206-65EDFC9DA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6550200"/>
            <a:ext cx="9144000" cy="34272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91BC-C34D-4274-B6CB-9CD8BB941F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B244-8589-4CBE-8E13-DFEA68C375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BDF-CBF4-4220-9301-F4EED79E0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637E-7657-40FA-9729-BA402634A4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826D-7A95-45C8-B42A-4640D30D5D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D7B2-A276-4D53-BDAA-D0A4DC53EC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F79-F201-4C35-AE96-53995482E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F4E-A7E8-4951-9DEF-1D10BC5CE6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B78-E860-4773-B7EB-EA90772DA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B316-3FC3-4FE3-A0C4-A8B59D8812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E5BE-EC7A-4E16-AE2E-8F5603E0F3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BEB2-A8EA-4EBC-AA84-A858434B87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B0CE-FD9D-4AC1-B8EF-2CEE609A8F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 flipV="1">
            <a:off x="0" y="-27720"/>
            <a:ext cx="9180360" cy="6885000"/>
          </a:xfrm>
          <a:prstGeom prst="flowChartPunchedCar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0" y="2709720"/>
            <a:ext cx="7236000" cy="4148280"/>
          </a:xfrm>
          <a:prstGeom prst="rtTriangle">
            <a:avLst/>
          </a:prstGeom>
          <a:solidFill>
            <a:srgbClr val="00b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0" y="3086280"/>
            <a:ext cx="6750000" cy="3771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 rot="1740000">
            <a:off x="2758680" y="36381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绿色斜边设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1187280" y="2205000"/>
            <a:ext cx="6635520" cy="2190600"/>
            <a:chOff x="1187280" y="2205000"/>
            <a:chExt cx="6635520" cy="2190600"/>
          </a:xfrm>
        </p:grpSpPr>
        <p:sp>
          <p:nvSpPr>
            <p:cNvPr id="622" name="AutoShape 85"/>
            <p:cNvSpPr/>
            <p:nvPr/>
          </p:nvSpPr>
          <p:spPr>
            <a:xfrm>
              <a:off x="3991680" y="3453840"/>
              <a:ext cx="109512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86"/>
            <p:cNvSpPr/>
            <p:nvPr/>
          </p:nvSpPr>
          <p:spPr>
            <a:xfrm>
              <a:off x="3926160" y="3483360"/>
              <a:ext cx="12484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85"/>
            <p:cNvSpPr/>
            <p:nvPr/>
          </p:nvSpPr>
          <p:spPr>
            <a:xfrm>
              <a:off x="2621160" y="3453840"/>
              <a:ext cx="11109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86"/>
            <p:cNvSpPr/>
            <p:nvPr/>
          </p:nvSpPr>
          <p:spPr>
            <a:xfrm>
              <a:off x="2586600" y="3485160"/>
              <a:ext cx="121752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85"/>
            <p:cNvSpPr/>
            <p:nvPr/>
          </p:nvSpPr>
          <p:spPr>
            <a:xfrm>
              <a:off x="1277640" y="3453840"/>
              <a:ext cx="109620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86"/>
            <p:cNvSpPr/>
            <p:nvPr/>
          </p:nvSpPr>
          <p:spPr>
            <a:xfrm>
              <a:off x="1187280" y="3485160"/>
              <a:ext cx="12178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85"/>
            <p:cNvSpPr/>
            <p:nvPr/>
          </p:nvSpPr>
          <p:spPr>
            <a:xfrm>
              <a:off x="6712560" y="3453840"/>
              <a:ext cx="10803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86"/>
            <p:cNvSpPr/>
            <p:nvPr/>
          </p:nvSpPr>
          <p:spPr>
            <a:xfrm>
              <a:off x="6666120" y="3485160"/>
              <a:ext cx="11566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85"/>
            <p:cNvSpPr/>
            <p:nvPr/>
          </p:nvSpPr>
          <p:spPr>
            <a:xfrm>
              <a:off x="5338080" y="3453840"/>
              <a:ext cx="1096560" cy="94176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86"/>
            <p:cNvSpPr/>
            <p:nvPr/>
          </p:nvSpPr>
          <p:spPr>
            <a:xfrm>
              <a:off x="5266080" y="3485160"/>
              <a:ext cx="127800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직선 화살표 연결선 380"/>
            <p:cNvCxnSpPr>
              <a:stCxn id="622" idx="0"/>
            </p:cNvCxnSpPr>
            <p:nvPr/>
          </p:nvCxnSpPr>
          <p:spPr>
            <a:xfrm flipV="1">
              <a:off x="4536360" y="3072600"/>
              <a:ext cx="3240" cy="379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633" name="직선 화살표 연결선 382"/>
            <p:cNvCxnSpPr/>
            <p:nvPr/>
          </p:nvCxnSpPr>
          <p:spPr>
            <a:xfrm flipV="1">
              <a:off x="320508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4" name="직선 화살표 연결선 383"/>
            <p:cNvCxnSpPr/>
            <p:nvPr/>
          </p:nvCxnSpPr>
          <p:spPr>
            <a:xfrm flipV="1">
              <a:off x="18468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5" name="직선 화살표 연결선 384"/>
            <p:cNvCxnSpPr/>
            <p:nvPr/>
          </p:nvCxnSpPr>
          <p:spPr>
            <a:xfrm flipV="1">
              <a:off x="724860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6" name="직선 화살표 연결선 385"/>
            <p:cNvCxnSpPr/>
            <p:nvPr/>
          </p:nvCxnSpPr>
          <p:spPr>
            <a:xfrm flipV="1">
              <a:off x="5890320" y="2761920"/>
              <a:ext cx="3240" cy="6901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7" name="AutoShape 18"/>
            <p:cNvCxnSpPr/>
            <p:nvPr/>
          </p:nvCxnSpPr>
          <p:spPr>
            <a:xfrm flipV="1">
              <a:off x="1849680" y="2752920"/>
              <a:ext cx="1772640" cy="18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638" name="AutoShape 85"/>
            <p:cNvSpPr/>
            <p:nvPr/>
          </p:nvSpPr>
          <p:spPr>
            <a:xfrm>
              <a:off x="3743640" y="2205000"/>
              <a:ext cx="1643760" cy="852480"/>
            </a:xfrm>
            <a:prstGeom prst="roundRect">
              <a:avLst>
                <a:gd name="adj" fmla="val 8579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86"/>
            <p:cNvSpPr/>
            <p:nvPr/>
          </p:nvSpPr>
          <p:spPr>
            <a:xfrm>
              <a:off x="3682800" y="2205000"/>
              <a:ext cx="1826280" cy="364680"/>
            </a:xfrm>
            <a:prstGeom prst="roundRect">
              <a:avLst>
                <a:gd name="adj" fmla="val 20954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AutoShape 21"/>
            <p:cNvCxnSpPr/>
            <p:nvPr/>
          </p:nvCxnSpPr>
          <p:spPr>
            <a:xfrm>
              <a:off x="5447880" y="2753280"/>
              <a:ext cx="1803960" cy="10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</p:cxnSp>
        <p:sp>
          <p:nvSpPr>
            <p:cNvPr id="641" name="Text Box 22"/>
            <p:cNvSpPr/>
            <p:nvPr/>
          </p:nvSpPr>
          <p:spPr>
            <a:xfrm>
              <a:off x="4250880" y="234864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3"/>
            <p:cNvSpPr/>
            <p:nvPr/>
          </p:nvSpPr>
          <p:spPr>
            <a:xfrm>
              <a:off x="69289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"/>
            <p:cNvSpPr/>
            <p:nvPr/>
          </p:nvSpPr>
          <p:spPr>
            <a:xfrm>
              <a:off x="42152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5"/>
            <p:cNvSpPr/>
            <p:nvPr/>
          </p:nvSpPr>
          <p:spPr>
            <a:xfrm>
              <a:off x="556272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285264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1501560" y="3665880"/>
              <a:ext cx="63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2278080" y="1727280"/>
            <a:ext cx="4935240" cy="4269960"/>
            <a:chOff x="2278080" y="1727280"/>
            <a:chExt cx="4935240" cy="4269960"/>
          </a:xfrm>
        </p:grpSpPr>
        <p:sp>
          <p:nvSpPr>
            <p:cNvPr id="648" name="AutoShape 3"/>
            <p:cNvSpPr/>
            <p:nvPr/>
          </p:nvSpPr>
          <p:spPr>
            <a:xfrm>
              <a:off x="4208760" y="4121640"/>
              <a:ext cx="1503000" cy="15015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4"/>
            <p:cNvSpPr/>
            <p:nvPr/>
          </p:nvSpPr>
          <p:spPr>
            <a:xfrm>
              <a:off x="3797640" y="449532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9444a"/>
                </a:gs>
                <a:gs pos="100000">
                  <a:srgbClr val="3693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Automation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Network 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5"/>
            <p:cNvSpPr/>
            <p:nvPr/>
          </p:nvSpPr>
          <p:spPr>
            <a:xfrm>
              <a:off x="2278080" y="341964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>
              <a:off x="4208760" y="2993040"/>
              <a:ext cx="1503000" cy="15019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>
              <a:off x="2609280" y="3419640"/>
              <a:ext cx="150300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M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onsulting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3797640" y="341964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Mbiz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9"/>
            <p:cNvSpPr/>
            <p:nvPr/>
          </p:nvSpPr>
          <p:spPr>
            <a:xfrm>
              <a:off x="5119200" y="322920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ales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System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SI Develop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0"/>
            <p:cNvSpPr/>
            <p:nvPr/>
          </p:nvSpPr>
          <p:spPr>
            <a:xfrm>
              <a:off x="5711760" y="322920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1"/>
            <p:cNvSpPr/>
            <p:nvPr/>
          </p:nvSpPr>
          <p:spPr>
            <a:xfrm>
              <a:off x="3913920" y="2192760"/>
              <a:ext cx="1501560" cy="150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5e00"/>
                </a:gs>
                <a:gs pos="100000">
                  <a:srgbClr val="99c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CS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1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2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Biz 3 t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2"/>
            <p:cNvSpPr/>
            <p:nvPr/>
          </p:nvSpPr>
          <p:spPr>
            <a:xfrm>
              <a:off x="3913920" y="1727280"/>
              <a:ext cx="1501560" cy="1501920"/>
            </a:xfrm>
            <a:prstGeom prst="cube">
              <a:avLst>
                <a:gd name="adj" fmla="val 25000"/>
              </a:avLst>
            </a:prstGeom>
            <a:solidFill>
              <a:srgbClr val="ccff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2060640"/>
            <a:ext cx="9144000" cy="2205000"/>
          </a:xfrm>
          <a:prstGeom prst="rect">
            <a:avLst/>
          </a:prstGeom>
          <a:solidFill>
            <a:srgbClr val="008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7:48:05Z</dcterms:created>
  <dc:creator>yellownancy</dc:creator>
  <dc:description/>
  <cp:keywords/>
  <dc:language>en-US</dc:language>
  <cp:lastModifiedBy>a</cp:lastModifiedBy>
  <dcterms:modified xsi:type="dcterms:W3CDTF">2014-07-28T10:32:1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