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039FD-13E5-4FB6-9907-25E081F25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C1D7A-7BAA-43C0-AEAA-0186FAFD817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5C8509-6888-40C3-A73B-E4A6F9A3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D52EDA-C394-41B5-A017-BA7BF7D6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C053D6-C4F9-4C11-A721-2C79DD62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4EACAA-71FA-4043-961C-E19B20B2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300A86-BA1E-4218-BE9D-C2D6CB89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0AA3C2-8FB2-4D52-93DA-92A0B386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A4284C-B620-4371-94E7-EB2E952B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EBB9EB-0BE9-4BAB-9CF5-5654D2AF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6F8AB7-E40D-4D05-A4EC-B92D6ED3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8C90D1-88B0-48D7-8B8B-72A3B643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481B0-26C5-42A9-8F70-53B57C8C2F3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151AEB-2EEA-42E9-A842-CBB745E7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F9C63A-A15C-4CE4-963A-E14CA3BE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DE6486-FD40-4FAE-8003-38235305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5AE5B9-BE39-4212-A48F-4BC3E969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0971BE-B7AD-42BA-A509-4AC73CD0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9ECE18-CB02-4EF1-AC38-6DD72375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F85A14-246D-47B5-858E-CDA83DF6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B34901-18E2-4E95-AA86-1D2C6AE3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A3F28F-BFE1-44D0-B1D6-F8C95B47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DC9E6C-605B-4850-AC76-22A8CA58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5273D-A8CB-445B-8E13-9C903A657CB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AE91F3-1465-4EB6-86D8-AB08E59F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DBC9AB-8A54-4C01-8870-5549C800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0AFAC3-73E1-47D3-BA7D-1F3FFDF9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15BFFC-D1C3-4154-A8CC-9E49B804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187B20-F307-4FFC-9469-8BF1416E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3D1A5B-C889-436A-9D44-87F8076A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686BD1-57D3-4C60-A8EC-C4E75451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2806C9-A408-4898-9756-E3A7F49E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EC90A3-9D68-4978-B7D6-7C0C6F09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12B0AF-37B2-4BA1-A285-65236BAF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EC144-EA8B-4396-B36B-BD16BE26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62ECE8-8EBC-4D42-9EE5-9F6EA836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2224B0-104C-4ECB-9638-84F4B907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AF25D2-FACA-405A-84D7-ACB23081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7B922D-31D6-49F7-ADD4-E9AF434C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E973C9-29BB-495A-9FB0-2F70014D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FB922F-3C1B-45E3-82B9-BC7F8BC9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DDA6C7-B5ED-471C-8005-A8201C14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A02B83-E972-4234-858F-2AF26C31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6F1F2A-8BF2-4F46-AAE8-1200B7CB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ECFBA6-DA2B-4651-B583-1586FE7E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27450-1155-41BA-AADF-70CAA7C9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753403-3B64-4576-B861-F89B6681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751C96-AA9F-4946-88DF-78C61F1F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44563F-C72F-4132-B6D5-E297A4B5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146D2E-50C0-41E6-A879-AB1A7AE3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B51A92-9C69-43EA-A4A6-48010D22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F557A4-C478-45B7-962A-23E344CC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22BE41-F918-4B50-B879-C2B27F20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C94B68-E517-44DA-81AB-64BD8D61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B85C87-5DFB-4096-A9F6-EE18E9B0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ED3B70-302C-4CBE-97B7-D1F372B1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C1462-4FD9-4714-95BA-C7648572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E6DA63-0574-4C75-B6AB-92DA5F5D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D73400-AC9D-4F59-8ED9-E50E07A6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49B5BE-FE08-4089-911A-BA2D2D5B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318448-E956-4812-9FDF-83B9A5FE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BB729E-CB6B-43D6-981D-5E64F8FE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E145B2-8C6F-4724-AD0A-2C1CFE7E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43DA12-B9F9-4398-80ED-87E6E2F0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2AF66BF-D127-4552-8F6F-DAF2DB7B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14A3E55-9DF5-4F31-AEC8-BDE9305D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AC968E5-7F7D-4406-8944-0F7CD5FD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7BD4B-4238-4198-AACE-CC57129E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C039C3F-E636-4EC3-8525-112E6B3F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EEAC1D-2B5E-4308-A59F-9EE4B5E8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7366847-D370-4AE1-AA3C-81B98DBC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A355790-7BFF-4FD9-8AB6-47FF0A0D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5CF4EEE-281B-4D25-8D6B-D825A8F9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1C917F9-AF0B-4F9B-A993-5B3A02BB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A4D25DC-CF1D-445D-94B0-C0BCB7CE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9AE9FEA-6489-4202-8B8C-15E3280C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79169F9-E78E-46CD-A633-FA4C8391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1E1E3-C6AB-4FC1-80CA-AF4AECD7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A399B-E08C-4B50-96AC-C6E03380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3B725-40B4-4840-BA6B-6DC8918D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5D908-8104-44E2-9BB7-68DA8573B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FEFEB-AB63-4589-8257-D950AE8C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045D9-F020-4882-8E74-5C3CE7B4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3EF98-169F-4294-96D0-41F0D533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82E13-22CF-4CFB-81FF-0BE71834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D6BC4-19EE-435A-AA68-127463B0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EE881-4A54-4352-AF87-F1FCA882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3FC39-580B-4F22-B429-DE85B701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68070-F187-4871-A8CF-123B8F48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2E1D05-2881-4AC9-A5A8-B865A5A5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130695-5C34-42C3-9035-550849F1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BE06E-C902-42E6-9444-8D202C81A9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CB581F-3C36-462D-9C00-1F89DA03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8762F-1A73-4AC7-A9B9-DFE3039D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1EE821-B0C7-44A9-884C-9F2C1DF5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937264-A229-4FED-946C-12BBD903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C3B19-1C91-446A-8B69-A8830E52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A9586C-64FB-447F-8954-092F3663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A02BEF-DBFC-4C2F-98B8-35183900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068A0E-306C-410B-9843-9B6ADAFE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CDBC06-2805-4389-9FE6-88257BD3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6906E7-11FE-4632-B620-6273D3DA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6D54C-2595-4BDA-ADD4-EC4198A9AF9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A6A85B-28E2-4FE9-B3A0-4F8BCF54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4421C5-13BD-4BE4-8CCC-F3F7C126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43B5E8-4885-4201-8025-317B251A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08AA3B-368A-41CD-939E-E4BFC414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C3C8A3-69FC-4BF6-BE58-C475DFA5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90771F-8256-4CAE-8119-B21398D2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0FE58F-38B6-4D2E-B468-20228080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D8E9AA-5969-4898-8334-8317C486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3A9044-997E-47DE-9687-97E080E4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96032A-F853-49F7-9918-2417A4B6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2B162-A50C-42C0-9191-1D95CDED00D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A96691-F013-457D-AFA2-EB1425E0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9ABE4B-0BE2-4B5F-949F-49D0C8C9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AD49E8-7505-498C-997C-360AF95E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D61A4C-96D8-4EAE-8AC0-E6DE1139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4D51FA-6D4F-449E-9704-63E5EF90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643826-C9BF-4D16-9FC9-7661D8C3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4E6A83-CB65-4F45-9750-E4C0468C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D5C85D-6BA9-4453-9F89-DB8CE4F4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E9E033-06BA-474D-9963-1196EFDE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1895CC-D6C3-4EDA-B3E7-77D09FEB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FD130-AFAE-46CF-8657-D12C7DAA51E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7AD6A0-B044-4CDE-B190-F1D52104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15151B-310D-4D73-BBAE-44389129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49FFA4-BA2B-408B-9A06-8A291F4A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87CD47-1E96-4FDB-A4FF-EB1554C4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C119E2-18A7-4C53-B6DC-B850270F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09AA85-5319-4D3E-8FB8-B368AADF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CF21D7-C2A0-49E1-9370-3B4D02FF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B6FD88-3362-454F-838C-95B2DBD6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B453B3-ACC8-451F-8A44-E7DB7E83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2C6277-69E2-4C2F-854F-420D257F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0C454-30A7-448B-90C6-B634477837A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FF6631-E7DE-4BB9-BDD0-1FEE3443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131F82-118B-4BFE-8FA9-D426E588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083280-B721-4EB7-9E97-DD7DEC0D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A674ED-A29E-42B0-9BBF-773BA9C9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05F5EA-E3A4-446B-BC9F-6ECDBB45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E46341-B579-462A-A433-898212C6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0E323E-0339-4821-B442-AB23CA44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1F82B1-B42D-4E2C-82CA-2A6F87CF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3408B1-A2B6-41DA-A095-7A4D6303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31882A-5448-4F19-8322-A02897EB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1CF6E-39CF-42A2-9FF2-36932D4AC4E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4000E3-8E52-42EB-9E07-7072B47A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6CB879-AD6A-4C29-9BC8-0FC42966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DBD4DA-5534-4FFD-9A86-750D4CF7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7BC001-CD2A-4F52-8D28-12F12317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807F27-F42D-4C2B-8F8C-4C2BD8AB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FEFCCF-1EC4-43D7-939D-359A8D63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771608-31CC-4E8D-ACDF-068389BD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C51124-FF29-4841-968D-DA0C248C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5584E4-8F77-49B7-88C3-122C97E2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F659B3-2E0F-44E9-8DFC-FFB2BA2A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D58EF-6B54-444D-A2E9-8A7E5667DFF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70159D-F89E-47CB-B412-C0463437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F63204-B507-448D-9FBA-B33710A5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A6EE3E-E050-4DCE-AB27-C0D2F384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778DC2-11C0-4385-839C-DA6609C8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07F422-9162-410A-8B91-0E10C622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197197-9CCD-49AC-8A28-9333A671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7BD515-F2EF-43F7-A284-3348DFCE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86AD29-E34D-40D1-BD0B-BDA3E338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475430-ABE1-481D-8E16-1A110D4F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CFEE99-C4F7-4C59-A3EC-060C2BE5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001000" y="838080"/>
            <a:ext cx="914400" cy="0"/>
          </a:xfrm>
          <a:prstGeom prst="line">
            <a:avLst/>
          </a:prstGeom>
          <a:ln w="9360">
            <a:solidFill>
              <a:srgbClr val="438a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880" y="144756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e81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e815b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7175520" y="617184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400" spc="-1" strike="noStrike">
                <a:solidFill>
                  <a:srgbClr val="cc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80520" y="63082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EA28-7DBF-4491-AD83-0290F5B214CC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552240" y="533160"/>
            <a:ext cx="6838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7" descr="06_icon"/>
          <p:cNvPicPr/>
          <p:nvPr/>
        </p:nvPicPr>
        <p:blipFill>
          <a:blip r:embed="rId3"/>
          <a:stretch/>
        </p:blipFill>
        <p:spPr>
          <a:xfrm>
            <a:off x="7461360" y="533520"/>
            <a:ext cx="615960" cy="76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712A-A7A4-4812-A952-ADEF68DFFE80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7105-7C30-4BAB-BC0F-3436007B5BC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247E-6888-4471-810A-731E0B48C4D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4DE0-81F7-4925-8781-9EB52E5ED2B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619C-29F7-4235-9812-203A5D93FCC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94A9-C7C9-47DB-8785-AC62ECE4005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ABF8-A894-4036-8557-E90298269B7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68CD-7D2B-4160-8091-D31C40B0756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C908-D3C4-4A5E-A5CB-7113B622665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3BC9-D458-49C6-95A0-5B96DC3A82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7DAD-70DB-4CCD-B4AE-6675BBE93A6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CD16-64D1-40A2-8D00-CAD564F71B3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7"/>
          <p:cNvSpPr/>
          <p:nvPr/>
        </p:nvSpPr>
        <p:spPr>
          <a:xfrm>
            <a:off x="7467480" y="34308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>
            <a:off x="1066680" y="5562720"/>
            <a:ext cx="0" cy="4572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>
            <a:off x="1066680" y="6019920"/>
            <a:ext cx="77724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6" name="Picture 10" descr="06_icon_f"/>
          <p:cNvPicPr/>
          <p:nvPr/>
        </p:nvPicPr>
        <p:blipFill>
          <a:blip r:embed="rId3"/>
          <a:stretch/>
        </p:blipFill>
        <p:spPr>
          <a:xfrm>
            <a:off x="434880" y="4724280"/>
            <a:ext cx="1317600" cy="13176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380880" y="144756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e81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e815b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52240" y="533160"/>
            <a:ext cx="6838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E7C7-F407-461F-9605-A34C31DB820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8230-1914-46C6-AC10-57883E5EFED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4299-2566-4E78-A1C8-557C74B8F42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2ECD-365B-41B4-A53E-34C1AF69D27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2CE1-A8A6-40BD-96C3-BED9649A61D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08C2-984A-4E90-B94F-38A02EA1F83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3858-484A-46D1-A3DF-8CF2CEFE02A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9E59-879D-4FA4-9090-AD33B417F6D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3497-F9EA-4937-8CA2-9DB2A41195C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BC3E-56D7-4FF6-A618-DF147D2C85C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128C-58F3-476F-A99B-FED1F639836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2D08-0677-454C-BEA4-601C61785F86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E0E2-2613-4ACA-8CBE-13B72722943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33720" y="5386320"/>
            <a:ext cx="62481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3124080" y="6114960"/>
            <a:ext cx="389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2957400" y="6146640"/>
            <a:ext cx="76320" cy="228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页脚占位符 3"/>
          <p:cNvSpPr/>
          <p:nvPr/>
        </p:nvSpPr>
        <p:spPr>
          <a:xfrm>
            <a:off x="7175520" y="6172200"/>
            <a:ext cx="1295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52240" y="533160"/>
            <a:ext cx="683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85" name="Group 4"/>
          <p:cNvGrpSpPr/>
          <p:nvPr/>
        </p:nvGrpSpPr>
        <p:grpSpPr>
          <a:xfrm>
            <a:off x="2133720" y="2209680"/>
            <a:ext cx="4724280" cy="685800"/>
            <a:chOff x="2133720" y="2209680"/>
            <a:chExt cx="4724280" cy="685800"/>
          </a:xfrm>
        </p:grpSpPr>
        <p:sp>
          <p:nvSpPr>
            <p:cNvPr id="586" name="AutoShape 5"/>
            <p:cNvSpPr/>
            <p:nvPr/>
          </p:nvSpPr>
          <p:spPr>
            <a:xfrm>
              <a:off x="2514600" y="2328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2eed1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AutoShape 6"/>
            <p:cNvSpPr/>
            <p:nvPr/>
          </p:nvSpPr>
          <p:spPr>
            <a:xfrm>
              <a:off x="2133720" y="220968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Text Box 7"/>
            <p:cNvSpPr/>
            <p:nvPr/>
          </p:nvSpPr>
          <p:spPr>
            <a:xfrm>
              <a:off x="2743200" y="2384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Text Box 8"/>
            <p:cNvSpPr/>
            <p:nvPr/>
          </p:nvSpPr>
          <p:spPr>
            <a:xfrm>
              <a:off x="2289600" y="23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90" name="Group 9"/>
          <p:cNvGrpSpPr/>
          <p:nvPr/>
        </p:nvGrpSpPr>
        <p:grpSpPr>
          <a:xfrm>
            <a:off x="2133720" y="3048120"/>
            <a:ext cx="4724280" cy="685800"/>
            <a:chOff x="2133720" y="3048120"/>
            <a:chExt cx="4724280" cy="685800"/>
          </a:xfrm>
        </p:grpSpPr>
        <p:sp>
          <p:nvSpPr>
            <p:cNvPr id="591" name="AutoShape 10"/>
            <p:cNvSpPr/>
            <p:nvPr/>
          </p:nvSpPr>
          <p:spPr>
            <a:xfrm>
              <a:off x="2514600" y="3167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38acb"/>
                </a:gs>
                <a:gs pos="50000">
                  <a:srgbClr val="d7e6f4"/>
                </a:gs>
                <a:gs pos="100000">
                  <a:srgbClr val="438ac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AutoShape 11"/>
            <p:cNvSpPr/>
            <p:nvPr/>
          </p:nvSpPr>
          <p:spPr>
            <a:xfrm>
              <a:off x="2133720" y="3048120"/>
              <a:ext cx="685800" cy="685800"/>
            </a:xfrm>
            <a:prstGeom prst="diamond">
              <a:avLst/>
            </a:prstGeom>
            <a:solidFill>
              <a:srgbClr val="438ac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Text Box 12"/>
            <p:cNvSpPr/>
            <p:nvPr/>
          </p:nvSpPr>
          <p:spPr>
            <a:xfrm>
              <a:off x="2743200" y="3222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Text Box 13"/>
            <p:cNvSpPr/>
            <p:nvPr/>
          </p:nvSpPr>
          <p:spPr>
            <a:xfrm>
              <a:off x="2289600" y="314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95" name="Group 14"/>
          <p:cNvGrpSpPr/>
          <p:nvPr/>
        </p:nvGrpSpPr>
        <p:grpSpPr>
          <a:xfrm>
            <a:off x="2133720" y="3886200"/>
            <a:ext cx="4724280" cy="685800"/>
            <a:chOff x="2133720" y="3886200"/>
            <a:chExt cx="4724280" cy="685800"/>
          </a:xfrm>
        </p:grpSpPr>
        <p:sp>
          <p:nvSpPr>
            <p:cNvPr id="596" name="AutoShape 15"/>
            <p:cNvSpPr/>
            <p:nvPr/>
          </p:nvSpPr>
          <p:spPr>
            <a:xfrm>
              <a:off x="2514600" y="4005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1a0b9"/>
                </a:gs>
                <a:gs pos="50000">
                  <a:srgbClr val="daebf0"/>
                </a:gs>
                <a:gs pos="100000">
                  <a:srgbClr val="51a0b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AutoShape 16"/>
            <p:cNvSpPr/>
            <p:nvPr/>
          </p:nvSpPr>
          <p:spPr>
            <a:xfrm>
              <a:off x="2133720" y="3886200"/>
              <a:ext cx="685800" cy="685800"/>
            </a:xfrm>
            <a:prstGeom prst="diamond">
              <a:avLst/>
            </a:prstGeom>
            <a:solidFill>
              <a:srgbClr val="51a0b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Text Box 17"/>
            <p:cNvSpPr/>
            <p:nvPr/>
          </p:nvSpPr>
          <p:spPr>
            <a:xfrm>
              <a:off x="2743200" y="4060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Text Box 18"/>
            <p:cNvSpPr/>
            <p:nvPr/>
          </p:nvSpPr>
          <p:spPr>
            <a:xfrm>
              <a:off x="228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00" name="Group 19"/>
          <p:cNvGrpSpPr/>
          <p:nvPr/>
        </p:nvGrpSpPr>
        <p:grpSpPr>
          <a:xfrm>
            <a:off x="2133720" y="4800600"/>
            <a:ext cx="4724280" cy="685800"/>
            <a:chOff x="2133720" y="4800600"/>
            <a:chExt cx="4724280" cy="685800"/>
          </a:xfrm>
        </p:grpSpPr>
        <p:sp>
          <p:nvSpPr>
            <p:cNvPr id="601" name="AutoShape 20"/>
            <p:cNvSpPr/>
            <p:nvPr/>
          </p:nvSpPr>
          <p:spPr>
            <a:xfrm>
              <a:off x="2514600" y="49197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e7edee"/>
                </a:gs>
                <a:gs pos="100000">
                  <a:srgbClr val="90a8b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AutoShape 21"/>
            <p:cNvSpPr/>
            <p:nvPr/>
          </p:nvSpPr>
          <p:spPr>
            <a:xfrm>
              <a:off x="2133720" y="4800600"/>
              <a:ext cx="685800" cy="685800"/>
            </a:xfrm>
            <a:prstGeom prst="diamond">
              <a:avLst/>
            </a:prstGeom>
            <a:solidFill>
              <a:srgbClr val="90a8b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Text Box 22"/>
            <p:cNvSpPr/>
            <p:nvPr/>
          </p:nvSpPr>
          <p:spPr>
            <a:xfrm>
              <a:off x="2743200" y="49752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Text Box 23"/>
            <p:cNvSpPr/>
            <p:nvPr/>
          </p:nvSpPr>
          <p:spPr>
            <a:xfrm>
              <a:off x="2289600" y="489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WordArt 2"/>
          <p:cNvSpPr txBox="1"/>
          <p:nvPr/>
        </p:nvSpPr>
        <p:spPr>
          <a:xfrm>
            <a:off x="2514600" y="5410080"/>
            <a:ext cx="4343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1a0b9"/>
                    </a:gs>
                    <a:gs pos="100000">
                      <a:srgbClr val="438acb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1a0b9"/>
                  </a:gs>
                  <a:gs pos="100000">
                    <a:srgbClr val="438acb"/>
                  </a:gs>
                </a:gsLst>
                <a:lin ang="0"/>
              </a:gradFill>
              <a:effectLst>
                <a:outerShdw dist="53966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3548160" y="6114960"/>
            <a:ext cx="32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3381480" y="6146640"/>
            <a:ext cx="75960" cy="228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61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08:23:09Z</dcterms:created>
  <dc:creator>三联素材-www.3lian.com</dc:creator>
  <dc:description>三联素材-www.3lian.com</dc:description>
  <cp:keywords/>
  <dc:language>en-US</dc:language>
  <cp:lastModifiedBy>a</cp:lastModifiedBy>
  <dcterms:modified xsi:type="dcterms:W3CDTF">2014-08-03T07:47:44Z</dcterms:modified>
  <cp:revision>4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