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C90-66A1-4F9A-BCE1-4C5831D3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85B6-4314-41F2-878E-939D2017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E8A-58C3-457B-954B-7E49B825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978-5E5F-4A3B-B1D4-AB57F839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D28C-6C27-4FF8-B426-767E6894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B7F6-468B-473A-9260-D7015CC1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0435-6F4F-4EF0-9BF8-2574C412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C577-498A-4C5E-8B2C-5DBC140D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B3A7-FE7A-4482-B415-B49118F1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D41D-7DA2-4C46-83C8-B1685CEC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2FDC-F8DA-4345-BA94-19F51522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49E-F3BD-4FBE-A236-FEC5668E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3216-4C29-4131-B1AC-A921CDD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910C-6FAD-4DC3-9BF0-6E083791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6D71-D1AB-4DEC-A0DC-0DAB6BA1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9475-DE0C-4BA9-888E-9311034A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2D76-A65C-4C13-B7F2-A88FF205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908-FD5D-4D09-B904-926EF28A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142-4F25-4A6B-AF7A-A2960268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6C9E-FCDB-4FE4-8E76-7080115D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C077-ECF0-49C9-A99E-17E8C58C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5A4-295E-4275-B47B-5458A594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504-F79A-412A-ACE1-3DD971DE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E0A-17C2-4CF3-9606-B08A65DA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A1C-F792-4C80-A37C-035D368FC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1BE6-6C1B-464D-B49B-083E3A04758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39AE-DBB4-478E-AFDD-F0D56770B0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419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66320" y="41144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9:16:15Z</dcterms:created>
  <dc:creator/>
  <dc:description/>
  <dc:language>en-US</dc:language>
  <cp:lastModifiedBy>a</cp:lastModifiedBy>
  <dcterms:modified xsi:type="dcterms:W3CDTF">2015-01-15T09:24:09Z</dcterms:modified>
  <cp:revision>196</cp:revision>
  <dc:subject/>
  <dc:title>WPS在线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