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B77-8F4B-465F-A65D-23B123EF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7D5-CB03-4A4F-859A-D1937786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B2E-00D2-4FDC-A70C-D3BDDB66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9AF-03DA-40CB-9A02-53BFE13C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19F7-6CDA-4D64-8ED8-B1135597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A188-04C4-4509-A03A-E414F15C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BE75-C2C6-4FEE-8243-760B93BE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E260-9E9F-4106-8E2C-C4CAD9D2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7F56-18F7-4301-BDC9-D0B0EDA1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C3D5-FCFA-4E1F-9908-E50981DB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D029-BF38-4045-BFB1-34313990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571-BAE9-4D1A-BB5C-8CAB8682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B0A5-9F55-4EB9-BE5E-B2D7D812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B3C7-CB08-45F0-9BF9-CD8A2881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A6B4-BF7D-4F5F-88B8-7D2D396C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8C8D-1944-49DF-963C-355AE7DB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B070-CD61-47D6-A141-AE33EC8F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10AB3-FDB0-4066-8D1B-8CB3258D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41EB4-CC04-4FE9-9CE5-246601BC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11748-3396-4CBA-9D1B-C8536190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B080-2FD6-4B39-8C0B-3241C54A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81A9-0E63-4757-A1D6-F5EFADCB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AEE-1DA1-4250-B3FE-8D68BD5D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7A22-8CDD-4695-B580-E73C1B14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49E6-279F-4678-8041-4CE1F3E3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5B59-A2B2-4C24-9EC7-B64FF655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88CD2-4FF1-4389-934A-4231361B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D54B7-746A-4595-9CF9-A7FFCF1F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062A-CD35-4BF0-AAC2-E93A028A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D82ED-3BF0-4FF4-9579-51855545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BE0-D994-43B9-95E1-5FC558EC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AC9-075A-42D4-A3E0-1EEABA28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39D-C612-40DF-8C7B-91590375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E49-811A-4B53-A78C-2CB66362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942-6970-4EB8-B308-565E1492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1D7-898B-42C9-BCC0-A962BE9B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2599-666C-4F94-85B5-ABD9778707C9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AA02-66C8-4C54-8A25-47B3F9FF8928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C961-C7FB-4BD6-B042-424FCCD36E0B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C29B-9A1A-4F6F-BD19-B21C3AF91B51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FD13-2B17-4D23-A686-6FF77E6DD6E2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0C08-E284-45B1-86CB-F403694F55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g_blurred_backgrounds_16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妖娆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wg_blurred_backgrounds_16"/>
          <p:cNvPicPr/>
          <p:nvPr/>
        </p:nvPicPr>
        <p:blipFill>
          <a:blip r:embed="rId1"/>
          <a:srcRect l="0" t="0" r="0" b="80210"/>
          <a:stretch/>
        </p:blipFill>
        <p:spPr>
          <a:xfrm>
            <a:off x="0" y="4813200"/>
            <a:ext cx="8999640" cy="1187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6360" y="240840"/>
            <a:ext cx="6713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6360" y="1403280"/>
            <a:ext cx="6713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wg_blurred_backgrounds_16"/>
          <p:cNvPicPr/>
          <p:nvPr/>
        </p:nvPicPr>
        <p:blipFill>
          <a:blip r:embed="rId1"/>
          <a:srcRect l="52686" t="0" r="28506" b="0"/>
          <a:stretch/>
        </p:blipFill>
        <p:spPr>
          <a:xfrm>
            <a:off x="0" y="6480"/>
            <a:ext cx="16923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4384800" y="1990800"/>
            <a:ext cx="10587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467160" y="3392640"/>
            <a:ext cx="1587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041640" y="1990800"/>
            <a:ext cx="1060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38440" y="1179360"/>
            <a:ext cx="3332160" cy="3332160"/>
          </a:xfrm>
          <a:custGeom>
            <a:avLst/>
            <a:gdLst>
              <a:gd name="textAreaLeft" fmla="*/ 487800 w 3332160"/>
              <a:gd name="textAreaRight" fmla="*/ 2844360 w 333216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19625" y="14829"/>
                </a:moveTo>
                <a:cubicBezTo>
                  <a:pt x="20203" y="13564"/>
                  <a:pt x="20502" y="12190"/>
                  <a:pt x="20502" y="10800"/>
                </a:cubicBezTo>
                <a:cubicBezTo>
                  <a:pt x="20502" y="5441"/>
                  <a:pt x="16158" y="1098"/>
                  <a:pt x="10800" y="1098"/>
                </a:cubicBezTo>
                <a:cubicBezTo>
                  <a:pt x="10799" y="1098"/>
                  <a:pt x="10798" y="1098"/>
                  <a:pt x="10798" y="1098"/>
                </a:cubicBezTo>
                <a:lnTo>
                  <a:pt x="10798" y="0"/>
                </a:lnTo>
                <a:cubicBezTo>
                  <a:pt x="10798" y="0"/>
                  <a:pt x="10799" y="0"/>
                  <a:pt x="10799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347"/>
                  <a:pt x="21267" y="13877"/>
                  <a:pt x="20624" y="15285"/>
                </a:cubicBezTo>
                <a:lnTo>
                  <a:pt x="23080" y="16407"/>
                </a:lnTo>
                <a:lnTo>
                  <a:pt x="18775" y="18012"/>
                </a:lnTo>
                <a:lnTo>
                  <a:pt x="17169" y="13708"/>
                </a:lnTo>
                <a:lnTo>
                  <a:pt x="19625" y="14829"/>
                </a:lnTo>
                <a:close/>
              </a:path>
            </a:pathLst>
          </a:cu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76520" y="1284120"/>
            <a:ext cx="3332160" cy="3332160"/>
          </a:xfrm>
          <a:custGeom>
            <a:avLst/>
            <a:gdLst>
              <a:gd name="textAreaLeft" fmla="*/ 487800 w 3332160"/>
              <a:gd name="textAreaRight" fmla="*/ 2844360 w 333216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2898" y="16429"/>
                </a:moveTo>
                <a:cubicBezTo>
                  <a:pt x="4718" y="18984"/>
                  <a:pt x="7662" y="20502"/>
                  <a:pt x="10800" y="20502"/>
                </a:cubicBezTo>
                <a:cubicBezTo>
                  <a:pt x="14265" y="20502"/>
                  <a:pt x="17468" y="18653"/>
                  <a:pt x="19201" y="15652"/>
                </a:cubicBezTo>
                <a:lnTo>
                  <a:pt x="20152" y="16201"/>
                </a:lnTo>
                <a:cubicBezTo>
                  <a:pt x="18222" y="19542"/>
                  <a:pt x="14657" y="21600"/>
                  <a:pt x="10800" y="21600"/>
                </a:cubicBezTo>
                <a:cubicBezTo>
                  <a:pt x="7307" y="21600"/>
                  <a:pt x="4030" y="19911"/>
                  <a:pt x="2003" y="17066"/>
                </a:cubicBezTo>
                <a:lnTo>
                  <a:pt x="-196" y="18633"/>
                </a:lnTo>
                <a:lnTo>
                  <a:pt x="565" y="14102"/>
                </a:lnTo>
                <a:lnTo>
                  <a:pt x="5097" y="14862"/>
                </a:lnTo>
                <a:lnTo>
                  <a:pt x="2898" y="16429"/>
                </a:lnTo>
                <a:close/>
              </a:path>
            </a:pathLst>
          </a:cu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2514600" y="1179360"/>
            <a:ext cx="3333600" cy="3332160"/>
          </a:xfrm>
          <a:custGeom>
            <a:avLst/>
            <a:gdLst>
              <a:gd name="textAreaLeft" fmla="*/ 488160 w 3333600"/>
              <a:gd name="textAreaRight" fmla="*/ 2845440 w 333360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9878" y="1141"/>
                </a:moveTo>
                <a:cubicBezTo>
                  <a:pt x="4899" y="1616"/>
                  <a:pt x="1098" y="5798"/>
                  <a:pt x="1098" y="10800"/>
                </a:cubicBezTo>
                <a:cubicBezTo>
                  <a:pt x="1098" y="12503"/>
                  <a:pt x="1546" y="14176"/>
                  <a:pt x="2397" y="15651"/>
                </a:cubicBezTo>
                <a:lnTo>
                  <a:pt x="1446" y="16200"/>
                </a:lnTo>
                <a:cubicBezTo>
                  <a:pt x="499" y="14558"/>
                  <a:pt x="0" y="12695"/>
                  <a:pt x="0" y="10800"/>
                </a:cubicBezTo>
                <a:cubicBezTo>
                  <a:pt x="0" y="5232"/>
                  <a:pt x="4232" y="577"/>
                  <a:pt x="9774" y="48"/>
                </a:cubicBezTo>
                <a:lnTo>
                  <a:pt x="9517" y="-2639"/>
                </a:lnTo>
                <a:lnTo>
                  <a:pt x="13060" y="286"/>
                </a:lnTo>
                <a:lnTo>
                  <a:pt x="10135" y="3829"/>
                </a:lnTo>
                <a:lnTo>
                  <a:pt x="9878" y="1141"/>
                </a:lnTo>
                <a:close/>
              </a:path>
            </a:pathLst>
          </a:cu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 rot="5400000">
            <a:off x="910440" y="1479600"/>
            <a:ext cx="1359000" cy="95220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be505a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116000" y="1752480"/>
            <a:ext cx="950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66760" y="1320840"/>
            <a:ext cx="5837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 rot="5400000">
            <a:off x="911160" y="2680560"/>
            <a:ext cx="1359000" cy="95076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be505a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2952720"/>
            <a:ext cx="95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066760" y="2519280"/>
            <a:ext cx="5837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 rot="5400000">
            <a:off x="910440" y="3876840"/>
            <a:ext cx="1359000" cy="95220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be505a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116000" y="4149720"/>
            <a:ext cx="950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2066760" y="3718080"/>
            <a:ext cx="58374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wg_blurred_backgrounds_16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4280" y="222048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50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7-30T05:11:53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